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6.wmf" ContentType="image/x-wmf"/>
  <Override PartName="/ppt/media/image37.wmf" ContentType="image/x-wmf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3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3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9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0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1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2302-8350-4523-A9FC-8DC6198E02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94DB-0706-4839-988E-CE70B3A790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654A-923F-43C0-B7C8-02EBA5414C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G pa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tre en haut juste le logo ed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EFBD-F2BE-406F-AF8D-621E1C08CD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01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A1A-36EE-40DD-A3E6-3346A5C313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F14F-2F8F-4E8C-898C-DB2769686F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A9FD-2B75-46D3-B804-4F55A3C3EE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07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FEE4-DDAD-4797-BD87-59D6E4B301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10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74C0-8812-4183-8FDE-34B754DD0B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13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d0a20"/>
                </a:solidFill>
                <a:latin typeface="Arial"/>
                <a:ea typeface="Arial Unicode MS"/>
              </a:rPr>
              <a:t>Slide remis par MG et BL demain vendr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1B79-6A49-461D-9342-BD551EE497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G et BL remplissent pour vendredi (envoyer à Aurida Rouh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C04-4735-48CE-82CC-3B89DF5307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19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83F-A789-4168-9985-D7E6B38E9F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22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4706-B770-4DD9-AD36-6CDFFEDD06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(12 réunions,190 pages sur educnet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2 reunions 190 pages sur educ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2F5-810B-41D2-9D52-0F2C5F0CEE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25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44A0-6941-4C5E-910D-E80FE79AA0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28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D066-4A33-4159-A040-9466CD419A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E684-9434-47C3-8B5D-09C5F317B1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G et BL remplissent pour vendredi (envoyer à Aurida Rouh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A0D0-BB59-43C5-94A2-E838387CEE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37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EFB3-E5AB-46EE-BE2F-0A02641022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557-009F-4A99-B41A-55DCEAAFE1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F64B-433F-4812-B2DE-CA98EC928B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53E4-1815-493D-9A8A-73D742603D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760-7B7B-41E0-98F2-14697C5952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49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933C-526C-4191-88EB-D04638A80F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EE80-DA11-4C0F-ADF6-388634B227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5F76-EA4E-4FF8-B48C-72E5E9A27B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7789-DA60-47B6-B0A1-AB4E4EC387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91DD-AA5B-4A12-BEF9-B13CF68748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8E65-B006-4371-9032-737DE763B0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3B12-1EBB-4DD8-8854-A4DE7E5638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89" name="Text Box 2"/>
          <p:cNvSpPr/>
          <p:nvPr/>
        </p:nvSpPr>
        <p:spPr>
          <a:xfrm>
            <a:off x="917640" y="744480"/>
            <a:ext cx="4965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0320" cy="447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G : le schéma arrive un peu tôt, le mettre après le zoom sur l’annuaire féd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BBF0-867F-4BDE-A1F9-49894F5570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7 annexe 4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« le fichier delta est généré tous les jours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« les objets créés, modifiés ou supprimés sont répétés pendant n jours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C325-1BD2-4B61-A192-D3885C4528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25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oix de la valeur de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e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xé par le rectorat et les pro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 trop grand (sinon, autant s’appuyer sur une extraction complè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 trop petit (sauf peut-être en période de rentrée où les changements sont fréqu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marque : si un même élève est modifié deux fois, seule la dernière modification reste n jours dans les fichiers de delta et écrase la modif précéd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A47E-B426-44EC-8443-EBDE7B9470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G pa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tre en haut juste le logo ed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5839-2D54-4359-B117-7765CBED7A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25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oix de la valeur de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de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xé par le rectorat et les pro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 trop grand (sinon, autant s’appuyer sur une extraction complè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 trop petit (sauf peut-être en période de rentrée où les changements sont fréqu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marque : si un même élève est modifié deux fois, seule la dernière modification reste n jours dans les fichiers de delta et écrase la modif précéd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89A3-FD42-4732-9ABB-FA4AC4CD03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G pa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tre en haut juste le logo ed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166F-4E0F-4BF2-B1BF-9840A8B52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06000" y="396432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41C4-7197-4B08-B799-59F80DBBC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832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470D-AD64-41FB-B812-DC6C3F884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416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268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0600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416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268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4923-56C2-461A-991E-4FE7CC9EE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E42DD-FEC7-43EE-8D39-B4758ED4F4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46818-037A-4C6C-9079-461612934E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78CD9-A8D9-4859-ACDD-8AF92C825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A6753-F2A3-43AC-9E01-793D38A4D9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40BAE-8FA0-45E8-BE40-DEEE0B4191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90840" y="274320"/>
            <a:ext cx="6224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E937-825F-45C9-B46D-09FEF45470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918F5-6536-4808-98FC-8A363D93A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549B-8323-479D-928A-A3601E4EA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832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02D8A-DEF1-4B8C-89CE-52E50854AF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38DA0-8FEA-4A5D-BFE2-DDD0041BC8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06000" y="396432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BFBCA-A7FE-4474-9C6C-5E1801D918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832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9949B-E4E9-4DDC-B1EA-7D94231AF4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6416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268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0600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6416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268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8B05B-E800-4F42-9A61-88CEAB064D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4A0E-C9FC-40AC-A25C-A86058397A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90840" y="274320"/>
            <a:ext cx="6224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832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06000" y="396432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832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6416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68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0600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6416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68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7C7C-179B-4A16-BCAC-473AB27197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590840" y="274320"/>
            <a:ext cx="6224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832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06000" y="396432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832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76416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322680" y="160020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20600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76416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322680" y="3964320"/>
            <a:ext cx="243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2389-AB18-4F03-9BAE-8641487CD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90840" y="274320"/>
            <a:ext cx="6224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033E-0616-4FD6-AA11-3DDA4C1B5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448F-72BA-46E1-BB4B-DA3181983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83200" y="396432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E367-CF82-49AF-A3F4-3F0AC7A0E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3200" y="1600200"/>
            <a:ext cx="36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06000" y="3964320"/>
            <a:ext cx="7566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5AA6-2FA2-40F3-8D99-4D5BFE9BB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1539720" y="249120"/>
            <a:ext cx="7421760" cy="120672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3920" indent="-223920">
              <a:spcBef>
                <a:spcPts val="60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60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60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200" indent="-201600">
              <a:spcBef>
                <a:spcPts val="601"/>
              </a:spcBef>
              <a:buClr>
                <a:srgbClr val="9bbace"/>
              </a:buClr>
              <a:buSzPct val="5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txBody>
          <a:bodyPr lIns="54000" rIns="5400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51A4-BE96-4068-B1A9-F9978BBD999C}" type="slidenum"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Nx LOGO1"/>
          <p:cNvPicPr/>
          <p:nvPr/>
        </p:nvPicPr>
        <p:blipFill>
          <a:blip r:embed="rId2"/>
          <a:stretch/>
        </p:blipFill>
        <p:spPr>
          <a:xfrm>
            <a:off x="264960" y="247680"/>
            <a:ext cx="1209960" cy="1209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9" descr="logoMENESR"/>
          <p:cNvPicPr/>
          <p:nvPr/>
        </p:nvPicPr>
        <p:blipFill>
          <a:blip r:embed="rId3"/>
          <a:stretch/>
        </p:blipFill>
        <p:spPr>
          <a:xfrm>
            <a:off x="7693200" y="250920"/>
            <a:ext cx="1276200" cy="1225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Nx LOGO1"/>
          <p:cNvPicPr/>
          <p:nvPr/>
        </p:nvPicPr>
        <p:blipFill>
          <a:blip r:embed="rId4"/>
          <a:stretch/>
        </p:blipFill>
        <p:spPr>
          <a:xfrm>
            <a:off x="555480" y="655956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2" descr="logoMENESR"/>
          <p:cNvPicPr/>
          <p:nvPr/>
        </p:nvPicPr>
        <p:blipFill>
          <a:blip r:embed="rId5"/>
          <a:stretch/>
        </p:blipFill>
        <p:spPr>
          <a:xfrm>
            <a:off x="8745480" y="6540480"/>
            <a:ext cx="330120" cy="317520"/>
          </a:xfrm>
          <a:prstGeom prst="rect">
            <a:avLst/>
          </a:prstGeom>
          <a:ln w="0">
            <a:noFill/>
          </a:ln>
        </p:spPr>
      </p:pic>
      <p:sp>
        <p:nvSpPr>
          <p:cNvPr id="9" name="Text Box 23"/>
          <p:cNvSpPr/>
          <p:nvPr/>
        </p:nvSpPr>
        <p:spPr>
          <a:xfrm>
            <a:off x="1046160" y="6629400"/>
            <a:ext cx="750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imentation de l’annuaire ENT – 26/03/2007 Cellule d’animation nationale ENT second degré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539720" y="249120"/>
            <a:ext cx="6088320" cy="120672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3920" indent="-223920">
              <a:spcBef>
                <a:spcPts val="60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60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60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200" indent="-201600">
              <a:spcBef>
                <a:spcPts val="601"/>
              </a:spcBef>
              <a:buClr>
                <a:srgbClr val="9bbace"/>
              </a:buClr>
              <a:buSzPct val="5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txBody>
          <a:bodyPr lIns="54000" rIns="5400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1862-0213-4560-85CD-C500AF6D4411}" type="slidenum">
              <a:rPr b="1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Nx LOGO1"/>
          <p:cNvPicPr/>
          <p:nvPr/>
        </p:nvPicPr>
        <p:blipFill>
          <a:blip r:embed="rId2"/>
          <a:stretch/>
        </p:blipFill>
        <p:spPr>
          <a:xfrm>
            <a:off x="264960" y="247680"/>
            <a:ext cx="1209960" cy="120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logoMENESR"/>
          <p:cNvPicPr/>
          <p:nvPr/>
        </p:nvPicPr>
        <p:blipFill>
          <a:blip r:embed="rId3"/>
          <a:stretch/>
        </p:blipFill>
        <p:spPr>
          <a:xfrm>
            <a:off x="7693200" y="250920"/>
            <a:ext cx="1276200" cy="12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8"/>
          <p:cNvSpPr/>
          <p:nvPr/>
        </p:nvSpPr>
        <p:spPr>
          <a:xfrm>
            <a:off x="1539720" y="1531800"/>
            <a:ext cx="7421760" cy="50706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90" name="Picture 1036" descr="Nx LOGO1"/>
          <p:cNvPicPr/>
          <p:nvPr/>
        </p:nvPicPr>
        <p:blipFill>
          <a:blip r:embed="rId2"/>
          <a:stretch/>
        </p:blipFill>
        <p:spPr>
          <a:xfrm>
            <a:off x="264960" y="247680"/>
            <a:ext cx="1209960" cy="1209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37" descr="cartmen"/>
          <p:cNvPicPr/>
          <p:nvPr/>
        </p:nvPicPr>
        <p:blipFill>
          <a:blip r:embed="rId3"/>
          <a:stretch/>
        </p:blipFill>
        <p:spPr>
          <a:xfrm>
            <a:off x="7669080" y="208080"/>
            <a:ext cx="1278000" cy="128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3920" indent="-223920">
              <a:spcBef>
                <a:spcPts val="60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60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60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200" indent="-201600">
              <a:spcBef>
                <a:spcPts val="601"/>
              </a:spcBef>
              <a:buClr>
                <a:srgbClr val="9bbace"/>
              </a:buClr>
              <a:buSzPct val="5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E7D6-433A-4E27-B13C-DA79BF07A4A0}" type="datetime3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539720" y="1531800"/>
            <a:ext cx="7421760" cy="50706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33" name="Picture 7" descr="Nx LOGO1"/>
          <p:cNvPicPr/>
          <p:nvPr/>
        </p:nvPicPr>
        <p:blipFill>
          <a:blip r:embed="rId2"/>
          <a:stretch/>
        </p:blipFill>
        <p:spPr>
          <a:xfrm>
            <a:off x="264960" y="247680"/>
            <a:ext cx="1209960" cy="120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logoMENESR"/>
          <p:cNvPicPr/>
          <p:nvPr/>
        </p:nvPicPr>
        <p:blipFill>
          <a:blip r:embed="rId3"/>
          <a:stretch/>
        </p:blipFill>
        <p:spPr>
          <a:xfrm>
            <a:off x="7693200" y="250920"/>
            <a:ext cx="1276200" cy="1225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3920" indent="-223920">
              <a:spcBef>
                <a:spcPts val="60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60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60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200" indent="-201600">
              <a:spcBef>
                <a:spcPts val="601"/>
              </a:spcBef>
              <a:buClr>
                <a:srgbClr val="9bbace"/>
              </a:buClr>
              <a:buSzPct val="5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7632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9F87-0128-46D9-AF0A-B8DC7DDD162C}" type="datetime3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2.educnet.education.fr/sections/services/ent/scolaire/travaux_en_cours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2.educnet.education.fr/sections/services/ent/scolaire/travaux_en_cour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infocentre.education.fr/bcn/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60"/>
          <p:cNvGrpSpPr/>
          <p:nvPr/>
        </p:nvGrpSpPr>
        <p:grpSpPr>
          <a:xfrm>
            <a:off x="19080" y="19080"/>
            <a:ext cx="9144000" cy="6858000"/>
            <a:chOff x="19080" y="19080"/>
            <a:chExt cx="9144000" cy="6858000"/>
          </a:xfrm>
        </p:grpSpPr>
        <p:sp>
          <p:nvSpPr>
            <p:cNvPr id="183" name="Rectangle 19"/>
            <p:cNvSpPr/>
            <p:nvPr/>
          </p:nvSpPr>
          <p:spPr>
            <a:xfrm>
              <a:off x="19080" y="1908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84" name="Rectangle 20"/>
            <p:cNvSpPr/>
            <p:nvPr/>
          </p:nvSpPr>
          <p:spPr>
            <a:xfrm>
              <a:off x="268200" y="268200"/>
              <a:ext cx="8710560" cy="6353280"/>
            </a:xfrm>
            <a:prstGeom prst="rect">
              <a:avLst/>
            </a:prstGeom>
            <a:solidFill>
              <a:srgbClr val="9bb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185" name="Group 54"/>
            <p:cNvGrpSpPr/>
            <p:nvPr/>
          </p:nvGrpSpPr>
          <p:grpSpPr>
            <a:xfrm>
              <a:off x="6810480" y="2292480"/>
              <a:ext cx="2301840" cy="2314440"/>
              <a:chOff x="6810480" y="2292480"/>
              <a:chExt cx="2301840" cy="2314440"/>
            </a:xfrm>
          </p:grpSpPr>
          <p:grpSp>
            <p:nvGrpSpPr>
              <p:cNvPr id="186" name="Group 55"/>
              <p:cNvGrpSpPr/>
              <p:nvPr/>
            </p:nvGrpSpPr>
            <p:grpSpPr>
              <a:xfrm>
                <a:off x="6810480" y="2292480"/>
                <a:ext cx="2301840" cy="2314440"/>
                <a:chOff x="6810480" y="2292480"/>
                <a:chExt cx="2301840" cy="2314440"/>
              </a:xfrm>
            </p:grpSpPr>
            <p:sp>
              <p:nvSpPr>
                <p:cNvPr id="187" name="Rectangle 56"/>
                <p:cNvSpPr/>
                <p:nvPr/>
              </p:nvSpPr>
              <p:spPr>
                <a:xfrm>
                  <a:off x="6810480" y="2292480"/>
                  <a:ext cx="16668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57"/>
                <p:cNvSpPr/>
                <p:nvPr/>
              </p:nvSpPr>
              <p:spPr>
                <a:xfrm rot="5400000">
                  <a:off x="7877160" y="1226880"/>
                  <a:ext cx="16848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58"/>
                <p:cNvSpPr/>
                <p:nvPr/>
              </p:nvSpPr>
              <p:spPr>
                <a:xfrm rot="5400000">
                  <a:off x="7877160" y="3371760"/>
                  <a:ext cx="16812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0" name="Picture 59" descr="Nx LOGO1"/>
              <p:cNvPicPr/>
              <p:nvPr/>
            </p:nvPicPr>
            <p:blipFill>
              <a:blip r:embed="rId1"/>
              <a:stretch/>
            </p:blipFill>
            <p:spPr>
              <a:xfrm>
                <a:off x="6970680" y="2449440"/>
                <a:ext cx="2008080" cy="200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1" name="Picture 75" descr="logoMENESR"/>
          <p:cNvPicPr/>
          <p:nvPr/>
        </p:nvPicPr>
        <p:blipFill>
          <a:blip r:embed="rId2"/>
          <a:stretch/>
        </p:blipFill>
        <p:spPr>
          <a:xfrm>
            <a:off x="4594320" y="231840"/>
            <a:ext cx="2208240" cy="20635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43120" y="2711160"/>
            <a:ext cx="61070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limentation de l’annuaire 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ellule d’animation nationale ENT second deg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8"/>
          <p:cNvSpPr/>
          <p:nvPr/>
        </p:nvSpPr>
        <p:spPr>
          <a:xfrm>
            <a:off x="4770360" y="5964120"/>
            <a:ext cx="37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e 26 Mars 2007 (extraits)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3EC0-69B7-4E20-AC02-8406D14076A9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93360" y="458280"/>
            <a:ext cx="6224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terfaces avec A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3" descr="logoMENESR"/>
          <p:cNvPicPr/>
          <p:nvPr/>
        </p:nvPicPr>
        <p:blipFill>
          <a:blip r:embed="rId1"/>
          <a:stretch/>
        </p:blipFill>
        <p:spPr>
          <a:xfrm>
            <a:off x="184320" y="272880"/>
            <a:ext cx="1315800" cy="12639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21920" y="1896840"/>
            <a:ext cx="8209080" cy="22287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rmAutofit/>
          </a:bodyPr>
          <a:p>
            <a:pPr marL="223920" indent="-223920"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à jour des nouvelles entrées de l’annuaire messagerie via l’interface actuelle (MAJDS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cupération de l’adresse messageri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cupération des personnels présents dans les établissements mais absents des SIRH (emplois aidés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800280" y="5154480"/>
            <a:ext cx="1255680" cy="94320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nnuaire fédérateur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2457360" y="5659560"/>
            <a:ext cx="3095640" cy="325440"/>
          </a:xfrm>
          <a:prstGeom prst="rightArrow">
            <a:avLst>
              <a:gd name="adj1" fmla="val 42435"/>
              <a:gd name="adj2" fmla="val 1102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6345360" y="5083200"/>
            <a:ext cx="136836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370" name="Diagram 8"/>
          <p:cNvGrpSpPr/>
          <p:nvPr/>
        </p:nvGrpSpPr>
        <p:grpSpPr>
          <a:xfrm>
            <a:off x="5487480" y="5582160"/>
            <a:ext cx="820440" cy="709920"/>
            <a:chOff x="5487480" y="5582160"/>
            <a:chExt cx="820440" cy="709920"/>
          </a:xfrm>
        </p:grpSpPr>
        <p:sp>
          <p:nvSpPr>
            <p:cNvPr id="371" name="_s1028"/>
            <p:cNvSpPr/>
            <p:nvPr/>
          </p:nvSpPr>
          <p:spPr>
            <a:xfrm>
              <a:off x="5647320" y="5582160"/>
              <a:ext cx="500400" cy="50004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9bbace"/>
                </a:gs>
                <a:gs pos="100000">
                  <a:srgbClr val="e8eff4"/>
                </a:gs>
              </a:gsLst>
              <a:lin ang="8100000"/>
            </a:gradFill>
            <a:ln w="936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72" name="_s1029"/>
            <p:cNvSpPr/>
            <p:nvPr/>
          </p:nvSpPr>
          <p:spPr>
            <a:xfrm rot="7200000">
              <a:off x="5716080" y="5699880"/>
              <a:ext cx="500040" cy="5004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500400"/>
                <a:gd name="textAreaBottom" fmla="*/ 50076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9bbace"/>
                </a:gs>
                <a:gs pos="100000">
                  <a:srgbClr val="e8eff4"/>
                </a:gs>
              </a:gsLst>
              <a:lin ang="900000"/>
            </a:gradFill>
            <a:ln w="936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73" name="_s1030"/>
            <p:cNvSpPr/>
            <p:nvPr/>
          </p:nvSpPr>
          <p:spPr>
            <a:xfrm rot="14400000">
              <a:off x="5578920" y="5700240"/>
              <a:ext cx="500040" cy="5004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500400"/>
                <a:gd name="textAreaBottom" fmla="*/ 50076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9bbace"/>
                </a:gs>
                <a:gs pos="100000">
                  <a:srgbClr val="e8eff4"/>
                </a:gs>
              </a:gsLst>
              <a:lin ang="15300000"/>
            </a:gradFill>
            <a:ln w="936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74" name="_s1031"/>
            <p:cNvSpPr/>
            <p:nvPr/>
          </p:nvSpPr>
          <p:spPr>
            <a:xfrm>
              <a:off x="6034680" y="5673600"/>
              <a:ext cx="20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75" name="_s1032"/>
            <p:cNvSpPr/>
            <p:nvPr/>
          </p:nvSpPr>
          <p:spPr>
            <a:xfrm>
              <a:off x="5797440" y="6085080"/>
              <a:ext cx="20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76" name="_s1033"/>
            <p:cNvSpPr/>
            <p:nvPr/>
          </p:nvSpPr>
          <p:spPr>
            <a:xfrm>
              <a:off x="5553000" y="5691600"/>
              <a:ext cx="201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377" name="AutoShape 16"/>
          <p:cNvSpPr/>
          <p:nvPr/>
        </p:nvSpPr>
        <p:spPr>
          <a:xfrm>
            <a:off x="4184640" y="5443560"/>
            <a:ext cx="720720" cy="79056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ormat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JD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78" name="WordArt 17"/>
          <p:cNvSpPr txBox="1"/>
          <p:nvPr/>
        </p:nvSpPr>
        <p:spPr>
          <a:xfrm>
            <a:off x="5697360" y="5659560"/>
            <a:ext cx="422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JD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AutoShape 18"/>
          <p:cNvSpPr/>
          <p:nvPr/>
        </p:nvSpPr>
        <p:spPr>
          <a:xfrm rot="10800000">
            <a:off x="2313000" y="5011560"/>
            <a:ext cx="4137120" cy="325440"/>
          </a:xfrm>
          <a:prstGeom prst="rightArrow">
            <a:avLst>
              <a:gd name="adj1" fmla="val 42444"/>
              <a:gd name="adj2" fmla="val 12488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80" name="AutoShape 19"/>
          <p:cNvSpPr/>
          <p:nvPr/>
        </p:nvSpPr>
        <p:spPr>
          <a:xfrm>
            <a:off x="2960640" y="4722840"/>
            <a:ext cx="720720" cy="79056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SV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 flipH="1">
            <a:off x="7497360" y="515448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7066080" y="4435560"/>
            <a:ext cx="18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Saisie via SCONET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des emplois aidés 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dans les ETB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7666200" y="190440"/>
            <a:ext cx="1477800" cy="12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BF4E-8D8B-4D5D-988C-55FC15241E4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385" name="Group 2"/>
          <p:cNvGrpSpPr/>
          <p:nvPr/>
        </p:nvGrpSpPr>
        <p:grpSpPr>
          <a:xfrm>
            <a:off x="380880" y="1600200"/>
            <a:ext cx="7875720" cy="4722840"/>
            <a:chOff x="380880" y="1600200"/>
            <a:chExt cx="7875720" cy="4722840"/>
          </a:xfrm>
        </p:grpSpPr>
        <p:sp>
          <p:nvSpPr>
            <p:cNvPr id="386" name="AutoShape 3"/>
            <p:cNvSpPr/>
            <p:nvPr/>
          </p:nvSpPr>
          <p:spPr>
            <a:xfrm>
              <a:off x="533520" y="5257800"/>
              <a:ext cx="3305160" cy="1065240"/>
            </a:xfrm>
            <a:prstGeom prst="roundRect">
              <a:avLst>
                <a:gd name="adj" fmla="val 16667"/>
              </a:avLst>
            </a:prstGeom>
            <a:solidFill>
              <a:srgbClr val="e6dcc1"/>
            </a:solidFill>
            <a:ln w="12600">
              <a:solidFill>
                <a:srgbClr val="6b5a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6b5a2b"/>
                  </a:solidFill>
                  <a:latin typeface="Arial"/>
                  <a:ea typeface="Arial Unicode MS"/>
                </a:rPr>
                <a:t>Établissement</a:t>
              </a:r>
              <a:endParaRPr b="0" lang="en-US" sz="16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387" name="Group 4"/>
            <p:cNvGrpSpPr/>
            <p:nvPr/>
          </p:nvGrpSpPr>
          <p:grpSpPr>
            <a:xfrm>
              <a:off x="380880" y="1600200"/>
              <a:ext cx="3932280" cy="2314440"/>
              <a:chOff x="380880" y="1600200"/>
              <a:chExt cx="3932280" cy="2314440"/>
            </a:xfrm>
          </p:grpSpPr>
          <p:sp>
            <p:nvSpPr>
              <p:cNvPr id="388" name="AutoShape 5"/>
              <p:cNvSpPr/>
              <p:nvPr/>
            </p:nvSpPr>
            <p:spPr>
              <a:xfrm>
                <a:off x="380880" y="1600200"/>
                <a:ext cx="3932280" cy="2314440"/>
              </a:xfrm>
              <a:prstGeom prst="roundRect">
                <a:avLst>
                  <a:gd name="adj" fmla="val 16667"/>
                </a:avLst>
              </a:prstGeom>
              <a:solidFill>
                <a:srgbClr val="ffcccc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1812960" y="1622520"/>
                <a:ext cx="127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cb232a"/>
                    </a:solidFill>
                    <a:latin typeface="Arial"/>
                    <a:ea typeface="Arial Unicode MS"/>
                  </a:rPr>
                  <a:t>Académie</a:t>
                </a:r>
                <a:endParaRPr b="0" lang="en-US" sz="1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390" name="AutoShape 7"/>
            <p:cNvSpPr/>
            <p:nvPr/>
          </p:nvSpPr>
          <p:spPr>
            <a:xfrm>
              <a:off x="6013440" y="1644480"/>
              <a:ext cx="2243160" cy="2313000"/>
            </a:xfrm>
            <a:custGeom>
              <a:avLst/>
              <a:gdLst>
                <a:gd name="textAreaLeft" fmla="*/ 66240 w 2243160"/>
                <a:gd name="textAreaRight" fmla="*/ 2176920 w 2243160"/>
                <a:gd name="textAreaTop" fmla="*/ 66240 h 2313000"/>
                <a:gd name="textAreaBottom" fmla="*/ 2246760 h 2313000"/>
              </a:gdLst>
              <a:ahLst/>
              <a:rect l="textAreaLeft" t="textAreaTop" r="textAreaRight" b="textAreaBottom"/>
              <a:pathLst>
                <a:path w="21600" h="22272">
                  <a:moveTo>
                    <a:pt x="2180" y="0"/>
                  </a:moveTo>
                  <a:arcTo wR="2180" hR="2180" stAng="16200000" swAng="-5400000"/>
                  <a:lnTo>
                    <a:pt x="0" y="20092"/>
                  </a:lnTo>
                  <a:arcTo wR="2180" hR="2180" stAng="10800000" swAng="-5400000"/>
                  <a:lnTo>
                    <a:pt x="19420" y="22272"/>
                  </a:lnTo>
                  <a:arcTo wR="2180" hR="2180" stAng="5400000" swAng="-5400000"/>
                  <a:lnTo>
                    <a:pt x="21600" y="2180"/>
                  </a:lnTo>
                  <a:arcTo wR="2180" hR="2180" stAng="0" swAng="-5400000"/>
                  <a:close/>
                </a:path>
              </a:pathLst>
            </a:custGeom>
            <a:solidFill>
              <a:srgbClr val="caeab4"/>
            </a:solidFill>
            <a:ln w="12600">
              <a:solidFill>
                <a:srgbClr val="60a9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60a92f"/>
                  </a:solidFill>
                  <a:latin typeface="Arial"/>
                  <a:ea typeface="Arial Unicode MS"/>
                </a:rPr>
                <a:t>ENT</a:t>
              </a:r>
              <a:endParaRPr b="0" lang="en-US" sz="16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391" name="AutoShape 8"/>
          <p:cNvSpPr/>
          <p:nvPr/>
        </p:nvSpPr>
        <p:spPr>
          <a:xfrm>
            <a:off x="609480" y="2209680"/>
            <a:ext cx="89388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AA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392" name="Group 9"/>
          <p:cNvGrpSpPr/>
          <p:nvPr/>
        </p:nvGrpSpPr>
        <p:grpSpPr>
          <a:xfrm>
            <a:off x="4678200" y="2428920"/>
            <a:ext cx="1221120" cy="1583280"/>
            <a:chOff x="4678200" y="2428920"/>
            <a:chExt cx="1221120" cy="1583280"/>
          </a:xfrm>
        </p:grpSpPr>
        <p:sp>
          <p:nvSpPr>
            <p:cNvPr id="393" name="AutoShape 10"/>
            <p:cNvSpPr/>
            <p:nvPr/>
          </p:nvSpPr>
          <p:spPr>
            <a:xfrm>
              <a:off x="5057640" y="2428920"/>
              <a:ext cx="436680" cy="574560"/>
            </a:xfrm>
            <a:prstGeom prst="foldedCorner">
              <a:avLst>
                <a:gd name="adj" fmla="val 125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br>
                <a:rPr sz="1400"/>
              </a:br>
              <a:br>
                <a:rPr sz="1400"/>
              </a:b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4678200" y="2730240"/>
              <a:ext cx="12211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d1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Fichier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limentation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ML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cxnSp>
        <p:nvCxnSpPr>
          <p:cNvPr id="395" name="AutoShape 12"/>
          <p:cNvCxnSpPr>
            <a:stCxn id="396" idx="4"/>
          </p:cNvCxnSpPr>
          <p:nvPr/>
        </p:nvCxnSpPr>
        <p:spPr>
          <a:xfrm flipV="1">
            <a:off x="4222440" y="2918520"/>
            <a:ext cx="827640" cy="19800"/>
          </a:xfrm>
          <a:prstGeom prst="straightConnector1">
            <a:avLst/>
          </a:prstGeom>
          <a:ln w="76320">
            <a:solidFill>
              <a:srgbClr val="cb232a"/>
            </a:solidFill>
            <a:miter/>
            <a:tailEnd len="med" type="triangle" w="med"/>
          </a:ln>
        </p:spPr>
      </p:cxnSp>
      <p:grpSp>
        <p:nvGrpSpPr>
          <p:cNvPr id="397" name="Group 13"/>
          <p:cNvGrpSpPr/>
          <p:nvPr/>
        </p:nvGrpSpPr>
        <p:grpSpPr>
          <a:xfrm>
            <a:off x="4136400" y="5820840"/>
            <a:ext cx="2135520" cy="483120"/>
            <a:chOff x="4136400" y="5820840"/>
            <a:chExt cx="2135520" cy="483120"/>
          </a:xfrm>
        </p:grpSpPr>
        <p:sp>
          <p:nvSpPr>
            <p:cNvPr id="398" name="Text Box 14"/>
            <p:cNvSpPr/>
            <p:nvPr/>
          </p:nvSpPr>
          <p:spPr>
            <a:xfrm>
              <a:off x="4511520" y="5905440"/>
              <a:ext cx="1663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emande de modifications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cxnSp>
          <p:nvCxnSpPr>
            <p:cNvPr id="399" name="AutoShape 15"/>
            <p:cNvCxnSpPr>
              <a:stCxn id="400" idx="1"/>
            </p:cNvCxnSpPr>
            <p:nvPr/>
          </p:nvCxnSpPr>
          <p:spPr>
            <a:xfrm flipH="1" flipV="1">
              <a:off x="4136400" y="5820840"/>
              <a:ext cx="2135880" cy="13680"/>
            </a:xfrm>
            <a:prstGeom prst="straightConnector1">
              <a:avLst/>
            </a:prstGeom>
            <a:ln w="28440">
              <a:solidFill>
                <a:srgbClr val="cd0028"/>
              </a:solidFill>
              <a:miter/>
              <a:tailEnd len="med" type="triangle" w="med"/>
            </a:ln>
          </p:spPr>
        </p:cxnSp>
      </p:grpSp>
      <p:sp>
        <p:nvSpPr>
          <p:cNvPr id="401" name="AutoShape 16"/>
          <p:cNvSpPr/>
          <p:nvPr/>
        </p:nvSpPr>
        <p:spPr>
          <a:xfrm>
            <a:off x="1878120" y="2147760"/>
            <a:ext cx="89352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402" name="AutoShape 17"/>
          <p:cNvCxnSpPr>
            <a:stCxn id="386" idx="0"/>
            <a:endCxn id="403" idx="2"/>
          </p:cNvCxnSpPr>
          <p:nvPr/>
        </p:nvCxnSpPr>
        <p:spPr>
          <a:xfrm flipV="1">
            <a:off x="2185560" y="3933360"/>
            <a:ext cx="207000" cy="1324800"/>
          </a:xfrm>
          <a:prstGeom prst="straightConnector1">
            <a:avLst/>
          </a:prstGeom>
          <a:ln w="57240">
            <a:solidFill>
              <a:srgbClr val="cd0028"/>
            </a:solidFill>
            <a:miter/>
            <a:tailEnd len="med" type="triangle" w="med"/>
          </a:ln>
        </p:spPr>
      </p:cxnSp>
      <p:sp>
        <p:nvSpPr>
          <p:cNvPr id="396" name="AutoShape 18"/>
          <p:cNvSpPr/>
          <p:nvPr/>
        </p:nvSpPr>
        <p:spPr>
          <a:xfrm>
            <a:off x="3333600" y="2187720"/>
            <a:ext cx="889200" cy="750600"/>
          </a:xfrm>
          <a:prstGeom prst="triangle">
            <a:avLst>
              <a:gd name="adj" fmla="val 50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1539720" y="3657600"/>
            <a:ext cx="17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Bases académiques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04" name="Text Box 20"/>
          <p:cNvSpPr/>
          <p:nvPr/>
        </p:nvSpPr>
        <p:spPr>
          <a:xfrm>
            <a:off x="6353280" y="2117880"/>
            <a:ext cx="582480" cy="252360"/>
          </a:xfrm>
          <a:prstGeom prst="rect">
            <a:avLst/>
          </a:prstGeom>
          <a:solidFill>
            <a:srgbClr val="cde5e4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6985080" y="2117880"/>
            <a:ext cx="582480" cy="252360"/>
          </a:xfrm>
          <a:prstGeom prst="rect">
            <a:avLst/>
          </a:prstGeom>
          <a:solidFill>
            <a:srgbClr val="cde5e4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06" name="Text Box 22"/>
          <p:cNvSpPr/>
          <p:nvPr/>
        </p:nvSpPr>
        <p:spPr>
          <a:xfrm>
            <a:off x="7618320" y="2117880"/>
            <a:ext cx="582840" cy="252360"/>
          </a:xfrm>
          <a:prstGeom prst="rect">
            <a:avLst/>
          </a:prstGeom>
          <a:solidFill>
            <a:srgbClr val="cde5e4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07" name="AutoShape 23"/>
          <p:cNvSpPr/>
          <p:nvPr/>
        </p:nvSpPr>
        <p:spPr>
          <a:xfrm>
            <a:off x="6761160" y="2743200"/>
            <a:ext cx="846000" cy="7034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7395480" y="2812680"/>
            <a:ext cx="1373760" cy="853920"/>
            <a:chOff x="7395480" y="2812680"/>
            <a:chExt cx="1373760" cy="853920"/>
          </a:xfrm>
        </p:grpSpPr>
        <p:cxnSp>
          <p:nvCxnSpPr>
            <p:cNvPr id="409" name="AutoShape 25"/>
            <p:cNvCxnSpPr>
              <a:stCxn id="410" idx="1"/>
              <a:endCxn id="407" idx="5"/>
            </p:cNvCxnSpPr>
            <p:nvPr/>
          </p:nvCxnSpPr>
          <p:spPr>
            <a:xfrm flipH="1" flipV="1">
              <a:off x="7395480" y="3095280"/>
              <a:ext cx="965880" cy="14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AutoShape 26"/>
            <p:cNvCxnSpPr>
              <a:stCxn id="410" idx="2"/>
              <a:endCxn id="407" idx="5"/>
            </p:cNvCxnSpPr>
            <p:nvPr/>
          </p:nvCxnSpPr>
          <p:spPr>
            <a:xfrm flipH="1" flipV="1">
              <a:off x="7395840" y="3094920"/>
              <a:ext cx="13737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AutoShape 27"/>
            <p:cNvCxnSpPr>
              <a:stCxn id="410" idx="0"/>
              <a:endCxn id="407" idx="5"/>
            </p:cNvCxnSpPr>
            <p:nvPr/>
          </p:nvCxnSpPr>
          <p:spPr>
            <a:xfrm flipH="1">
              <a:off x="7395840" y="2812680"/>
              <a:ext cx="1373760" cy="28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3" name="Rectangle 28"/>
          <p:cNvSpPr/>
          <p:nvPr/>
        </p:nvSpPr>
        <p:spPr>
          <a:xfrm>
            <a:off x="6156360" y="3514680"/>
            <a:ext cx="900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Arial"/>
                <a:ea typeface="Arial Unicode MS"/>
              </a:rPr>
              <a:t>Annuaire ENT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414" name="Group 29"/>
          <p:cNvGrpSpPr/>
          <p:nvPr/>
        </p:nvGrpSpPr>
        <p:grpSpPr>
          <a:xfrm>
            <a:off x="633960" y="2271600"/>
            <a:ext cx="8541720" cy="4082400"/>
            <a:chOff x="633960" y="2271600"/>
            <a:chExt cx="8541720" cy="4082400"/>
          </a:xfrm>
        </p:grpSpPr>
        <p:grpSp>
          <p:nvGrpSpPr>
            <p:cNvPr id="415" name="Group 30"/>
            <p:cNvGrpSpPr/>
            <p:nvPr/>
          </p:nvGrpSpPr>
          <p:grpSpPr>
            <a:xfrm>
              <a:off x="633960" y="5319720"/>
              <a:ext cx="1421280" cy="1034280"/>
              <a:chOff x="633960" y="5319720"/>
              <a:chExt cx="1421280" cy="1034280"/>
            </a:xfrm>
          </p:grpSpPr>
          <p:pic>
            <p:nvPicPr>
              <p:cNvPr id="416" name="Picture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5600" y="5319720"/>
                <a:ext cx="406080" cy="4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Text Box 32"/>
              <p:cNvSpPr/>
              <p:nvPr/>
            </p:nvSpPr>
            <p:spPr>
              <a:xfrm>
                <a:off x="633960" y="5833800"/>
                <a:ext cx="1421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Chef</a:t>
                </a:r>
                <a:br>
                  <a:rPr sz="1400"/>
                </a:b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’établissement</a:t>
                </a:r>
                <a:endParaRPr b="0" lang="en-US" sz="14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33"/>
            <p:cNvGrpSpPr/>
            <p:nvPr/>
          </p:nvGrpSpPr>
          <p:grpSpPr>
            <a:xfrm>
              <a:off x="6268680" y="2271600"/>
              <a:ext cx="2907000" cy="3899520"/>
              <a:chOff x="6268680" y="2271600"/>
              <a:chExt cx="2907000" cy="3899520"/>
            </a:xfrm>
          </p:grpSpPr>
          <p:grpSp>
            <p:nvGrpSpPr>
              <p:cNvPr id="419" name="Group 34"/>
              <p:cNvGrpSpPr/>
              <p:nvPr/>
            </p:nvGrpSpPr>
            <p:grpSpPr>
              <a:xfrm>
                <a:off x="6268680" y="4881600"/>
                <a:ext cx="1023480" cy="1273320"/>
                <a:chOff x="6268680" y="4881600"/>
                <a:chExt cx="1023480" cy="1273320"/>
              </a:xfrm>
            </p:grpSpPr>
            <p:pic>
              <p:nvPicPr>
                <p:cNvPr id="420" name="Picture 3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84880" y="4881600"/>
                  <a:ext cx="360360" cy="507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Picture 3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05720" y="5091120"/>
                  <a:ext cx="360360" cy="50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0" name="Text Box 37"/>
                <p:cNvSpPr/>
                <p:nvPr/>
              </p:nvSpPr>
              <p:spPr>
                <a:xfrm>
                  <a:off x="6268680" y="5513400"/>
                  <a:ext cx="10234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Élèves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Enseignants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Parents…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8"/>
              <p:cNvGrpSpPr/>
              <p:nvPr/>
            </p:nvGrpSpPr>
            <p:grpSpPr>
              <a:xfrm>
                <a:off x="7818480" y="4699080"/>
                <a:ext cx="1278000" cy="1472040"/>
                <a:chOff x="7818480" y="4699080"/>
                <a:chExt cx="1278000" cy="1472040"/>
              </a:xfrm>
            </p:grpSpPr>
            <p:pic>
              <p:nvPicPr>
                <p:cNvPr id="423" name="Picture 3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48720" y="4699080"/>
                  <a:ext cx="1066680" cy="103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Text Box 40"/>
                <p:cNvSpPr/>
                <p:nvPr/>
              </p:nvSpPr>
              <p:spPr>
                <a:xfrm>
                  <a:off x="7818480" y="5616720"/>
                  <a:ext cx="1278000" cy="55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dministrateur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Ou autre source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41"/>
              <p:cNvGrpSpPr/>
              <p:nvPr/>
            </p:nvGrpSpPr>
            <p:grpSpPr>
              <a:xfrm>
                <a:off x="8361360" y="2271600"/>
                <a:ext cx="814320" cy="1395000"/>
                <a:chOff x="8361360" y="2271600"/>
                <a:chExt cx="814320" cy="1395000"/>
              </a:xfrm>
            </p:grpSpPr>
            <p:sp>
              <p:nvSpPr>
                <p:cNvPr id="410" name="Text Box 42"/>
                <p:cNvSpPr/>
                <p:nvPr/>
              </p:nvSpPr>
              <p:spPr>
                <a:xfrm>
                  <a:off x="8361360" y="2813400"/>
                  <a:ext cx="814320" cy="853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0" tIns="0" bIns="0" anchor="ctr">
                  <a:normAutofit fontScale="87000"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dministrateur ou autres sources</a:t>
                  </a:r>
                  <a:br>
                    <a:rPr sz="1200"/>
                  </a:b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d’alimentation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pic>
              <p:nvPicPr>
                <p:cNvPr id="426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37480" y="2271600"/>
                  <a:ext cx="322200" cy="417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cxnSp>
        <p:nvCxnSpPr>
          <p:cNvPr id="427" name="AutoShape 44"/>
          <p:cNvCxnSpPr>
            <a:stCxn id="407" idx="3"/>
            <a:endCxn id="421" idx="0"/>
          </p:cNvCxnSpPr>
          <p:nvPr/>
        </p:nvCxnSpPr>
        <p:spPr>
          <a:xfrm flipH="1">
            <a:off x="6885720" y="3446640"/>
            <a:ext cx="299160" cy="1645200"/>
          </a:xfrm>
          <a:prstGeom prst="straightConnector1">
            <a:avLst/>
          </a:prstGeom>
          <a:ln w="28440">
            <a:solidFill>
              <a:srgbClr val="cd0028"/>
            </a:solidFill>
            <a:miter/>
          </a:ln>
        </p:spPr>
      </p:cxnSp>
      <p:cxnSp>
        <p:nvCxnSpPr>
          <p:cNvPr id="428" name="AutoShape 45"/>
          <p:cNvCxnSpPr>
            <a:stCxn id="407" idx="3"/>
            <a:endCxn id="423" idx="0"/>
          </p:cNvCxnSpPr>
          <p:nvPr/>
        </p:nvCxnSpPr>
        <p:spPr>
          <a:xfrm>
            <a:off x="7184520" y="3446280"/>
            <a:ext cx="1197360" cy="1253160"/>
          </a:xfrm>
          <a:prstGeom prst="straightConnector1">
            <a:avLst/>
          </a:prstGeom>
          <a:ln w="28440">
            <a:solidFill>
              <a:srgbClr val="cd0028"/>
            </a:solidFill>
            <a:miter/>
          </a:ln>
        </p:spPr>
      </p:cxnSp>
      <p:cxnSp>
        <p:nvCxnSpPr>
          <p:cNvPr id="429" name="AutoShape 46"/>
          <p:cNvCxnSpPr>
            <a:stCxn id="404" idx="2"/>
            <a:endCxn id="407" idx="1"/>
          </p:cNvCxnSpPr>
          <p:nvPr/>
        </p:nvCxnSpPr>
        <p:spPr>
          <a:xfrm>
            <a:off x="6644880" y="2369880"/>
            <a:ext cx="329040" cy="724680"/>
          </a:xfrm>
          <a:prstGeom prst="straightConnector1">
            <a:avLst/>
          </a:prstGeom>
          <a:ln w="12600">
            <a:solidFill>
              <a:srgbClr val="cd002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0" name="AutoShape 47"/>
          <p:cNvCxnSpPr>
            <a:stCxn id="406" idx="2"/>
            <a:endCxn id="407" idx="5"/>
          </p:cNvCxnSpPr>
          <p:nvPr/>
        </p:nvCxnSpPr>
        <p:spPr>
          <a:xfrm flipH="1">
            <a:off x="7395480" y="2369880"/>
            <a:ext cx="515160" cy="724680"/>
          </a:xfrm>
          <a:prstGeom prst="straightConnector1">
            <a:avLst/>
          </a:prstGeom>
          <a:ln w="12600">
            <a:solidFill>
              <a:srgbClr val="cd002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1" name="AutoShape 48"/>
          <p:cNvCxnSpPr>
            <a:stCxn id="407" idx="0"/>
            <a:endCxn id="405" idx="2"/>
          </p:cNvCxnSpPr>
          <p:nvPr/>
        </p:nvCxnSpPr>
        <p:spPr>
          <a:xfrm flipV="1">
            <a:off x="7183440" y="2369880"/>
            <a:ext cx="94320" cy="373680"/>
          </a:xfrm>
          <a:prstGeom prst="straightConnector1">
            <a:avLst/>
          </a:prstGeom>
          <a:ln w="19080">
            <a:solidFill>
              <a:srgbClr val="cd002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2" name="Text Box 49"/>
          <p:cNvSpPr/>
          <p:nvPr/>
        </p:nvSpPr>
        <p:spPr>
          <a:xfrm>
            <a:off x="3159000" y="3005280"/>
            <a:ext cx="116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nce Académique Annuaire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Fédé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5572080" y="2900520"/>
            <a:ext cx="1416240" cy="223560"/>
          </a:xfrm>
          <a:prstGeom prst="line">
            <a:avLst/>
          </a:prstGeom>
          <a:ln w="76320">
            <a:solidFill>
              <a:srgbClr val="cd00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90480" y="24732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 l’importance d’une bonne saisie des données à la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52"/>
          <p:cNvSpPr/>
          <p:nvPr/>
        </p:nvSpPr>
        <p:spPr>
          <a:xfrm>
            <a:off x="1752480" y="2133720"/>
            <a:ext cx="546120" cy="41724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..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436" name="Group 53"/>
          <p:cNvGrpSpPr/>
          <p:nvPr/>
        </p:nvGrpSpPr>
        <p:grpSpPr>
          <a:xfrm>
            <a:off x="609480" y="1974960"/>
            <a:ext cx="3129120" cy="1652040"/>
            <a:chOff x="609480" y="1974960"/>
            <a:chExt cx="3129120" cy="1652040"/>
          </a:xfrm>
        </p:grpSpPr>
        <p:sp>
          <p:nvSpPr>
            <p:cNvPr id="437" name="AutoShape 54"/>
            <p:cNvSpPr/>
            <p:nvPr/>
          </p:nvSpPr>
          <p:spPr>
            <a:xfrm>
              <a:off x="609480" y="2119320"/>
              <a:ext cx="893880" cy="416880"/>
            </a:xfrm>
            <a:prstGeom prst="can">
              <a:avLst>
                <a:gd name="adj" fmla="val 250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DAP 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38" name="AutoShape 55"/>
            <p:cNvSpPr/>
            <p:nvPr/>
          </p:nvSpPr>
          <p:spPr>
            <a:xfrm>
              <a:off x="1762200" y="1974960"/>
              <a:ext cx="893520" cy="417240"/>
            </a:xfrm>
            <a:prstGeom prst="can">
              <a:avLst>
                <a:gd name="adj" fmla="val 250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PP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39" name="AutoShape 56"/>
            <p:cNvSpPr/>
            <p:nvPr/>
          </p:nvSpPr>
          <p:spPr>
            <a:xfrm>
              <a:off x="1935000" y="3209760"/>
              <a:ext cx="809640" cy="417240"/>
            </a:xfrm>
            <a:prstGeom prst="can">
              <a:avLst>
                <a:gd name="adj" fmla="val 250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ONET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40" name="AutoShape 57"/>
            <p:cNvSpPr/>
            <p:nvPr/>
          </p:nvSpPr>
          <p:spPr>
            <a:xfrm>
              <a:off x="762120" y="2805120"/>
              <a:ext cx="893520" cy="416880"/>
            </a:xfrm>
            <a:prstGeom prst="can">
              <a:avLst>
                <a:gd name="adj" fmla="val 250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AMSESE 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41" name="AutoShape 58"/>
            <p:cNvSpPr/>
            <p:nvPr/>
          </p:nvSpPr>
          <p:spPr>
            <a:xfrm>
              <a:off x="2209680" y="2166840"/>
              <a:ext cx="546120" cy="417240"/>
            </a:xfrm>
            <a:prstGeom prst="can">
              <a:avLst>
                <a:gd name="adj" fmla="val 250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.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42" name="AutoShape 59"/>
            <p:cNvSpPr/>
            <p:nvPr/>
          </p:nvSpPr>
          <p:spPr>
            <a:xfrm>
              <a:off x="2362320" y="2319120"/>
              <a:ext cx="546120" cy="417240"/>
            </a:xfrm>
            <a:prstGeom prst="can">
              <a:avLst>
                <a:gd name="adj" fmla="val 250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…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.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43" name="AutoShape 60"/>
            <p:cNvSpPr/>
            <p:nvPr/>
          </p:nvSpPr>
          <p:spPr>
            <a:xfrm>
              <a:off x="1905120" y="2423880"/>
              <a:ext cx="809640" cy="417240"/>
            </a:xfrm>
            <a:prstGeom prst="can">
              <a:avLst>
                <a:gd name="adj" fmla="val 250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I-RH</a:t>
              </a:r>
              <a:endParaRPr b="0" lang="en-US" sz="16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444" name="Group 61"/>
            <p:cNvGrpSpPr/>
            <p:nvPr/>
          </p:nvGrpSpPr>
          <p:grpSpPr>
            <a:xfrm>
              <a:off x="1533240" y="2318760"/>
              <a:ext cx="2205360" cy="1102320"/>
              <a:chOff x="1533240" y="2318760"/>
              <a:chExt cx="2205360" cy="1102320"/>
            </a:xfrm>
          </p:grpSpPr>
          <p:cxnSp>
            <p:nvCxnSpPr>
              <p:cNvPr id="445" name="AutoShape 62"/>
              <p:cNvCxnSpPr>
                <a:stCxn id="442" idx="1"/>
                <a:endCxn id="396" idx="1"/>
              </p:cNvCxnSpPr>
              <p:nvPr/>
            </p:nvCxnSpPr>
            <p:spPr>
              <a:xfrm>
                <a:off x="2635200" y="2318760"/>
                <a:ext cx="921600" cy="230760"/>
              </a:xfrm>
              <a:prstGeom prst="straightConnector1">
                <a:avLst/>
              </a:prstGeom>
              <a:ln w="19080">
                <a:solidFill>
                  <a:srgbClr val="cb232a"/>
                </a:solidFill>
                <a:miter/>
                <a:tailEnd len="med" type="triangle" w="med"/>
              </a:ln>
            </p:spPr>
          </p:cxnSp>
          <p:grpSp>
            <p:nvGrpSpPr>
              <p:cNvPr id="446" name="Group 63"/>
              <p:cNvGrpSpPr/>
              <p:nvPr/>
            </p:nvGrpSpPr>
            <p:grpSpPr>
              <a:xfrm>
                <a:off x="1533240" y="2409480"/>
                <a:ext cx="2205360" cy="1011600"/>
                <a:chOff x="1533240" y="2409480"/>
                <a:chExt cx="2205360" cy="1011600"/>
              </a:xfrm>
            </p:grpSpPr>
            <p:cxnSp>
              <p:nvCxnSpPr>
                <p:cNvPr id="447" name="AutoShape 64"/>
                <p:cNvCxnSpPr>
                  <a:stCxn id="439" idx="4"/>
                  <a:endCxn id="396" idx="1"/>
                </p:cNvCxnSpPr>
                <p:nvPr/>
              </p:nvCxnSpPr>
              <p:spPr>
                <a:xfrm flipV="1">
                  <a:off x="2774880" y="2551320"/>
                  <a:ext cx="812160" cy="870120"/>
                </a:xfrm>
                <a:prstGeom prst="straightConnector1">
                  <a:avLst/>
                </a:prstGeom>
                <a:ln w="19080">
                  <a:solidFill>
                    <a:srgbClr val="cb232a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48" name="AutoShape 65"/>
                <p:cNvCxnSpPr>
                  <a:stCxn id="440" idx="4"/>
                  <a:endCxn id="396" idx="1"/>
                </p:cNvCxnSpPr>
                <p:nvPr/>
              </p:nvCxnSpPr>
              <p:spPr>
                <a:xfrm flipV="1">
                  <a:off x="1685520" y="2553120"/>
                  <a:ext cx="1901160" cy="465480"/>
                </a:xfrm>
                <a:prstGeom prst="straightConnector1">
                  <a:avLst/>
                </a:prstGeom>
                <a:ln w="19080">
                  <a:solidFill>
                    <a:srgbClr val="cb232a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49" name="AutoShape 66"/>
                <p:cNvCxnSpPr>
                  <a:stCxn id="391" idx="4"/>
                </p:cNvCxnSpPr>
                <p:nvPr/>
              </p:nvCxnSpPr>
              <p:spPr>
                <a:xfrm>
                  <a:off x="1533240" y="2409480"/>
                  <a:ext cx="2205720" cy="297360"/>
                </a:xfrm>
                <a:prstGeom prst="straightConnector1">
                  <a:avLst/>
                </a:prstGeom>
                <a:ln w="19080">
                  <a:solidFill>
                    <a:srgbClr val="cb232a"/>
                  </a:solidFill>
                  <a:miter/>
                  <a:tailEnd len="med" type="triangle" w="med"/>
                </a:ln>
              </p:spPr>
            </p:cxnSp>
          </p:grp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249120" y="249120"/>
              <a:ext cx="8710560" cy="6353280"/>
            </a:xfrm>
            <a:prstGeom prst="rect">
              <a:avLst/>
            </a:prstGeom>
            <a:solidFill>
              <a:srgbClr val="9bb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453" name="Group 5"/>
            <p:cNvGrpSpPr/>
            <p:nvPr/>
          </p:nvGrpSpPr>
          <p:grpSpPr>
            <a:xfrm>
              <a:off x="6791400" y="2273400"/>
              <a:ext cx="2301840" cy="2314440"/>
              <a:chOff x="6791400" y="2273400"/>
              <a:chExt cx="2301840" cy="2314440"/>
            </a:xfrm>
          </p:grpSpPr>
          <p:grpSp>
            <p:nvGrpSpPr>
              <p:cNvPr id="454" name="Group 6"/>
              <p:cNvGrpSpPr/>
              <p:nvPr/>
            </p:nvGrpSpPr>
            <p:grpSpPr>
              <a:xfrm>
                <a:off x="6791400" y="2273400"/>
                <a:ext cx="2301840" cy="2314440"/>
                <a:chOff x="6791400" y="2273400"/>
                <a:chExt cx="2301840" cy="2314440"/>
              </a:xfrm>
            </p:grpSpPr>
            <p:sp>
              <p:nvSpPr>
                <p:cNvPr id="455" name="Rectangle 7"/>
                <p:cNvSpPr/>
                <p:nvPr/>
              </p:nvSpPr>
              <p:spPr>
                <a:xfrm>
                  <a:off x="6791400" y="2273400"/>
                  <a:ext cx="16668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8"/>
                <p:cNvSpPr/>
                <p:nvPr/>
              </p:nvSpPr>
              <p:spPr>
                <a:xfrm rot="5400000">
                  <a:off x="7858080" y="1207800"/>
                  <a:ext cx="16848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9"/>
                <p:cNvSpPr/>
                <p:nvPr/>
              </p:nvSpPr>
              <p:spPr>
                <a:xfrm rot="5400000">
                  <a:off x="7858080" y="3352680"/>
                  <a:ext cx="16812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58" name="Picture 10" descr="Nx LOGO1"/>
              <p:cNvPicPr/>
              <p:nvPr/>
            </p:nvPicPr>
            <p:blipFill>
              <a:blip r:embed="rId1"/>
              <a:stretch/>
            </p:blipFill>
            <p:spPr>
              <a:xfrm>
                <a:off x="6951600" y="2430360"/>
                <a:ext cx="2008080" cy="200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59" name="Picture 11" descr="logoMENESR"/>
          <p:cNvPicPr/>
          <p:nvPr/>
        </p:nvPicPr>
        <p:blipFill>
          <a:blip r:embed="rId2"/>
          <a:srcRect l="-2361" t="0" r="-2290" b="0"/>
          <a:stretch/>
        </p:blipFill>
        <p:spPr>
          <a:xfrm>
            <a:off x="4465800" y="206280"/>
            <a:ext cx="2311200" cy="206388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3640" y="3249360"/>
            <a:ext cx="5030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Le corpus Annuaire ENT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ocuments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Jeu d’essai</a:t>
            </a:r>
            <a:br>
              <a:rPr sz="4400"/>
            </a:b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FF43-851E-4862-868E-EC827E6F2B50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corpus de référence Annuaire 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3320" y="1356840"/>
            <a:ext cx="8736120" cy="50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bbace"/>
                </a:solidFill>
                <a:latin typeface="Arial"/>
              </a:rPr>
              <a:t>Document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inclus dans le SDET (Schéma Directeur des EN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hier des charges Annuaire ENT du secondaire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(document princip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nexe 1 : Gloss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nexe 2 : Caractérisation des personnes et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nexe 3 : Schéma LDAP et nomencl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nexe 4 : Alimentation depuis le SI du MENE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nexe 5 : Codes des projets 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5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bbace"/>
                </a:solidFill>
                <a:latin typeface="Arial"/>
              </a:rPr>
              <a:t>FAQ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s document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2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 des évolutions entre les versions du cahier des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5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bbace"/>
                </a:solidFill>
                <a:latin typeface="Arial"/>
              </a:rPr>
              <a:t>Jeu d’essai anonymisé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partir d’une extraction du SI MENES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174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1 extraction « complet » + 3 extractions « delta 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9bbace"/>
              </a:buClr>
              <a:buFont typeface="Century Gothic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2.educnet.education.fr/sections/services/ent/scolair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1B46-36F9-4F51-9932-C304159A73C8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244080" y="1642680"/>
            <a:ext cx="4119480" cy="4948200"/>
          </a:xfrm>
          <a:prstGeom prst="rect">
            <a:avLst/>
          </a:prstGeom>
          <a:noFill/>
          <a:ln w="9360">
            <a:solidFill>
              <a:srgbClr val="9bbace"/>
            </a:solidFill>
            <a:miter/>
          </a:ln>
        </p:spPr>
        <p:txBody>
          <a:bodyPr anchor="t">
            <a:normAutofit/>
          </a:bodyPr>
          <a:p>
            <a:pPr marL="223920" indent="-223920">
              <a:spcBef>
                <a:spcPts val="476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Présentation générale de l’annuaire 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rincipes directeu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ue d’ensem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88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Conten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érimètre des donn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èle de sécuri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aractérisation des person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88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Schéma et D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cription des classes d’obje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ttributs particuli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88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Architecture techniq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rincipes d’archite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ons d’archite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cahier des charges Annuaire ENT du secondaire (document princip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4602240" y="1643040"/>
            <a:ext cx="4297320" cy="4948200"/>
          </a:xfrm>
          <a:prstGeom prst="rect">
            <a:avLst/>
          </a:prstGeom>
          <a:noFill/>
          <a:ln w="9360">
            <a:solidFill>
              <a:srgbClr val="9bba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spcBef>
                <a:spcPts val="476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Annuaire et accès inter-ENT</a:t>
            </a:r>
            <a:endParaRPr b="0" lang="en-US" sz="1900" spc="-1" strike="noStrike">
              <a:solidFill>
                <a:srgbClr val="d10a14"/>
              </a:solidFill>
              <a:latin typeface="Arial"/>
            </a:endParaRPr>
          </a:p>
          <a:p>
            <a:pPr marL="223920" indent="-223920">
              <a:spcBef>
                <a:spcPts val="1188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Services</a:t>
            </a:r>
            <a:endParaRPr b="0" lang="en-US" sz="19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rvices de gestion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rvices d’accès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rvices techniques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marL="223920" indent="-223920">
              <a:spcBef>
                <a:spcPts val="1188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Exigences</a:t>
            </a:r>
            <a:endParaRPr b="0" lang="en-US" sz="19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olumétrie, performance, disponibilité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marL="223920" indent="-223920">
              <a:spcBef>
                <a:spcPts val="1188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Organisation et processus types de gestion</a:t>
            </a:r>
            <a:endParaRPr b="0" lang="en-US" sz="19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rganisation type de la gestion des droits d’accès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rocessus type de gestion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B4D7-CFFF-4946-BE8C-3873148021D2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600"/>
            </a:br>
            <a:br>
              <a:rPr sz="1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annexes du cahier des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4080" y="1642680"/>
            <a:ext cx="4119480" cy="4948200"/>
          </a:xfrm>
          <a:prstGeom prst="rect">
            <a:avLst/>
          </a:prstGeom>
          <a:noFill/>
          <a:ln w="9360">
            <a:solidFill>
              <a:srgbClr val="9bbace"/>
            </a:solidFill>
            <a:miter/>
          </a:ln>
        </p:spPr>
        <p:txBody>
          <a:bodyPr anchor="t">
            <a:normAutofit/>
          </a:bodyPr>
          <a:p>
            <a:pPr marL="223920" indent="-223920">
              <a:spcBef>
                <a:spcPts val="476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Annexe 1 : Glossai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ocabulaire proj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exique MENES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Généralités sur les nomenclatu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xiq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Nomenclatures des ME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Enseignements et discipli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Informations de scolarité transmises par le SI du MENES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88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Annexe 2 : Caractérisation des personnes et des stru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finition des attributs pour chacune des catégories de personnes et de structu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88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Annexe 3 : Schéma LDAP et nomencla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4602240" y="1643040"/>
            <a:ext cx="4297320" cy="4948200"/>
          </a:xfrm>
          <a:prstGeom prst="rect">
            <a:avLst/>
          </a:prstGeom>
          <a:noFill/>
          <a:ln w="9360">
            <a:solidFill>
              <a:srgbClr val="9bba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spcBef>
                <a:spcPts val="476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Annexe 4 : Alimentation depuis le SI du MENESR</a:t>
            </a:r>
            <a:endParaRPr b="0" lang="en-US" sz="19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rincipes généraux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alités de mise à disposition des données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at, syntaxe, DTD, exemples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onnées échangées et règles de gestion</a:t>
            </a: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9bbace"/>
                </a:solidFill>
                <a:latin typeface="Arial"/>
              </a:rPr>
              <a:t>Tableau Excel en pièce-jointe</a:t>
            </a:r>
            <a:endParaRPr b="0" lang="en-US" sz="1500" spc="-1" strike="noStrike">
              <a:solidFill>
                <a:srgbClr val="d10a14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atégories de personnes et de structures</a:t>
            </a:r>
            <a:endParaRPr b="0" lang="en-US" sz="1500" spc="-1" strike="noStrike">
              <a:solidFill>
                <a:srgbClr val="d10a14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traintes d’intégrité</a:t>
            </a:r>
            <a:endParaRPr b="0" lang="en-US" sz="1500" spc="-1" strike="noStrike">
              <a:solidFill>
                <a:srgbClr val="d10a14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lés de jointure avec l’annuaire ENT</a:t>
            </a:r>
            <a:endParaRPr b="0" lang="en-US" sz="1500" spc="-1" strike="noStrike">
              <a:solidFill>
                <a:srgbClr val="d10a14"/>
              </a:solidFill>
              <a:latin typeface="Arial"/>
            </a:endParaRPr>
          </a:p>
          <a:p>
            <a:pPr lvl="2" marL="905040" indent="-160560">
              <a:spcBef>
                <a:spcPts val="187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ègles de gestion</a:t>
            </a:r>
            <a:endParaRPr b="0" lang="en-US" sz="15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10a14"/>
              </a:solidFill>
              <a:latin typeface="Arial"/>
            </a:endParaRPr>
          </a:p>
          <a:p>
            <a:pPr marL="223920" indent="-223920">
              <a:spcBef>
                <a:spcPts val="1188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Annexe 5 : Codes des projets ENT</a:t>
            </a:r>
            <a:endParaRPr b="0" lang="en-US" sz="19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C1A6-DB44-470A-82F9-FF8E56C1F55C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07520" y="1599840"/>
            <a:ext cx="8736120" cy="50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lnSpc>
                <a:spcPct val="90000"/>
              </a:lnSpc>
              <a:spcBef>
                <a:spcPts val="7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bbace"/>
                </a:solidFill>
                <a:latin typeface="Arial"/>
              </a:rPr>
              <a:t>FAQ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sur les documents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62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Réponses aux questions des intégrateurs et des porteurs de proj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bbace"/>
                </a:solidFill>
                <a:latin typeface="Arial"/>
              </a:rPr>
              <a:t>Modèle de donné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comment prendre en compte certains besoins particulier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bbace"/>
                </a:solidFill>
                <a:latin typeface="Arial"/>
              </a:rPr>
              <a:t>Identifian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NUMEN et INE, format, pérennit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bbace"/>
                </a:solidFill>
                <a:latin typeface="Arial"/>
              </a:rPr>
              <a:t>Alimentation MENES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fonctionnement des deltas, attributs mal renseigné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90000"/>
              </a:lnSpc>
              <a:spcBef>
                <a:spcPts val="400"/>
              </a:spcBef>
              <a:buClr>
                <a:srgbClr val="9bbace"/>
              </a:buClr>
              <a:buSzPct val="6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ttention à la version des documents de référence concer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bbace"/>
                </a:solidFill>
                <a:latin typeface="Arial"/>
              </a:rPr>
              <a:t>Autres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rreurs de saisies les plus fréq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che de remontée d’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che de commande des plateformes matérielles Annuaire Féd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90000"/>
              </a:lnSpc>
              <a:spcBef>
                <a:spcPts val="451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mètre des données transm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AQ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t autres documents de référence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6599-0D04-4A7D-AF3F-4352282831C5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600"/>
            </a:br>
            <a:br>
              <a:rPr sz="1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Jeu de test anonymisé 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4332240" y="2811600"/>
            <a:ext cx="273240" cy="876240"/>
          </a:xfrm>
          <a:prstGeom prst="downArrow">
            <a:avLst>
              <a:gd name="adj1" fmla="val 50000"/>
              <a:gd name="adj2" fmla="val 80171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712960" y="3002040"/>
            <a:ext cx="166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onymisation champ par champ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244440" y="1662120"/>
            <a:ext cx="2316240" cy="789120"/>
          </a:xfrm>
          <a:prstGeom prst="rect">
            <a:avLst/>
          </a:prstGeom>
          <a:solidFill>
            <a:srgbClr val="ffcc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nuaire fédérateur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académie)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480" name="Group 6"/>
          <p:cNvGrpSpPr/>
          <p:nvPr/>
        </p:nvGrpSpPr>
        <p:grpSpPr>
          <a:xfrm>
            <a:off x="2965320" y="1697040"/>
            <a:ext cx="3043440" cy="1094760"/>
            <a:chOff x="2965320" y="1697040"/>
            <a:chExt cx="3043440" cy="1094760"/>
          </a:xfrm>
        </p:grpSpPr>
        <p:sp>
          <p:nvSpPr>
            <p:cNvPr id="481" name="AutoShape 7"/>
            <p:cNvSpPr/>
            <p:nvPr/>
          </p:nvSpPr>
          <p:spPr>
            <a:xfrm>
              <a:off x="4218120" y="1697040"/>
              <a:ext cx="457200" cy="574560"/>
            </a:xfrm>
            <a:prstGeom prst="foldedCorner">
              <a:avLst>
                <a:gd name="adj" fmla="val 125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br>
                <a:rPr sz="1400"/>
              </a:b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2965320" y="2271600"/>
              <a:ext cx="304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Fichier d’alimentation XML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onnées Réelles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483" name="AutoShape 9"/>
          <p:cNvSpPr/>
          <p:nvPr/>
        </p:nvSpPr>
        <p:spPr>
          <a:xfrm>
            <a:off x="299880" y="1762200"/>
            <a:ext cx="668520" cy="603000"/>
          </a:xfrm>
          <a:prstGeom prst="triangle">
            <a:avLst>
              <a:gd name="adj" fmla="val 50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>
            <a:off x="2651040" y="1892160"/>
            <a:ext cx="1317600" cy="211320"/>
          </a:xfrm>
          <a:prstGeom prst="rightArrow">
            <a:avLst>
              <a:gd name="adj1" fmla="val 50380"/>
              <a:gd name="adj2" fmla="val 83394"/>
            </a:avLst>
          </a:prstGeom>
          <a:solidFill>
            <a:srgbClr val="cb232a"/>
          </a:solidFill>
          <a:ln w="9360">
            <a:solidFill>
              <a:srgbClr val="cb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>
            <a:off x="4778280" y="1906560"/>
            <a:ext cx="1235160" cy="193680"/>
          </a:xfrm>
          <a:prstGeom prst="rightArrow">
            <a:avLst>
              <a:gd name="adj1" fmla="val 50380"/>
              <a:gd name="adj2" fmla="val 85297"/>
            </a:avLst>
          </a:prstGeom>
          <a:solidFill>
            <a:srgbClr val="cb232a"/>
          </a:solidFill>
          <a:ln w="9360">
            <a:solidFill>
              <a:srgbClr val="cb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486" name="Group 12"/>
          <p:cNvGrpSpPr/>
          <p:nvPr/>
        </p:nvGrpSpPr>
        <p:grpSpPr>
          <a:xfrm>
            <a:off x="6156360" y="1685880"/>
            <a:ext cx="2654280" cy="789120"/>
            <a:chOff x="6156360" y="1685880"/>
            <a:chExt cx="2654280" cy="789120"/>
          </a:xfrm>
        </p:grpSpPr>
        <p:sp>
          <p:nvSpPr>
            <p:cNvPr id="487" name="Text Box 13"/>
            <p:cNvSpPr/>
            <p:nvPr/>
          </p:nvSpPr>
          <p:spPr>
            <a:xfrm>
              <a:off x="6156360" y="1685880"/>
              <a:ext cx="2654280" cy="789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nnuaire ENT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nvironnement réel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88" name="AutoShape 14"/>
            <p:cNvSpPr/>
            <p:nvPr/>
          </p:nvSpPr>
          <p:spPr>
            <a:xfrm>
              <a:off x="6232320" y="1770120"/>
              <a:ext cx="668160" cy="603360"/>
            </a:xfrm>
            <a:prstGeom prst="triangle">
              <a:avLst>
                <a:gd name="adj" fmla="val 500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489" name="Group 15"/>
          <p:cNvGrpSpPr/>
          <p:nvPr/>
        </p:nvGrpSpPr>
        <p:grpSpPr>
          <a:xfrm>
            <a:off x="2960640" y="3824280"/>
            <a:ext cx="3043440" cy="1094760"/>
            <a:chOff x="2960640" y="3824280"/>
            <a:chExt cx="3043440" cy="1094760"/>
          </a:xfrm>
        </p:grpSpPr>
        <p:sp>
          <p:nvSpPr>
            <p:cNvPr id="490" name="AutoShape 16"/>
            <p:cNvSpPr/>
            <p:nvPr/>
          </p:nvSpPr>
          <p:spPr>
            <a:xfrm>
              <a:off x="4213440" y="3824280"/>
              <a:ext cx="457200" cy="574560"/>
            </a:xfrm>
            <a:prstGeom prst="foldedCorner">
              <a:avLst>
                <a:gd name="adj" fmla="val 125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br>
                <a:rPr sz="1400"/>
              </a:b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91" name="Text Box 17"/>
            <p:cNvSpPr/>
            <p:nvPr/>
          </p:nvSpPr>
          <p:spPr>
            <a:xfrm>
              <a:off x="2960640" y="4398840"/>
              <a:ext cx="304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Fichier d’alimentation XML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onnées Anonymisées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492" name="AutoShape 18"/>
          <p:cNvSpPr/>
          <p:nvPr/>
        </p:nvSpPr>
        <p:spPr>
          <a:xfrm>
            <a:off x="4782960" y="3956040"/>
            <a:ext cx="1217880" cy="211320"/>
          </a:xfrm>
          <a:prstGeom prst="rightArrow">
            <a:avLst>
              <a:gd name="adj1" fmla="val 50380"/>
              <a:gd name="adj2" fmla="val 77083"/>
            </a:avLst>
          </a:prstGeom>
          <a:solidFill>
            <a:srgbClr val="cb232a"/>
          </a:solidFill>
          <a:ln w="9360">
            <a:solidFill>
              <a:srgbClr val="cb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493" name="Group 19"/>
          <p:cNvGrpSpPr/>
          <p:nvPr/>
        </p:nvGrpSpPr>
        <p:grpSpPr>
          <a:xfrm>
            <a:off x="6151680" y="3753000"/>
            <a:ext cx="2654280" cy="788760"/>
            <a:chOff x="6151680" y="3753000"/>
            <a:chExt cx="2654280" cy="788760"/>
          </a:xfrm>
        </p:grpSpPr>
        <p:sp>
          <p:nvSpPr>
            <p:cNvPr id="494" name="Text Box 20"/>
            <p:cNvSpPr/>
            <p:nvPr/>
          </p:nvSpPr>
          <p:spPr>
            <a:xfrm>
              <a:off x="6151680" y="3753000"/>
              <a:ext cx="2654280" cy="788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nnuaire ENT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ateformes de test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e tout intégrateur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495" name="AutoShape 21"/>
            <p:cNvSpPr/>
            <p:nvPr/>
          </p:nvSpPr>
          <p:spPr>
            <a:xfrm>
              <a:off x="6237360" y="3836880"/>
              <a:ext cx="668520" cy="603360"/>
            </a:xfrm>
            <a:prstGeom prst="triangle">
              <a:avLst>
                <a:gd name="adj" fmla="val 500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430200" y="5343480"/>
            <a:ext cx="850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fichiers anonymisés sont disponibles en téléchargement à l’adress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2.educnet.education.fr/sections/services/ent/scolair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B680-C1D9-43EC-A8F9-75EA2C9C33D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600"/>
            </a:br>
            <a:br>
              <a:rPr sz="1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Jeu de test anonymisé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25360" y="1647720"/>
            <a:ext cx="416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bbace"/>
                </a:solidFill>
                <a:latin typeface="Arial"/>
              </a:rPr>
              <a:t>2 types d’extractions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raction complèt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raction Delta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bbace"/>
                </a:solidFill>
                <a:latin typeface="Arial"/>
              </a:rPr>
              <a:t>3 types de Delta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lta vid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lta petit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lta gro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bbace"/>
                </a:solidFill>
                <a:latin typeface="Arial"/>
              </a:rPr>
              <a:t>4 fichiers dans chaque extraction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onnées Elève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onnées Parent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onnées Personnels de l’Education National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onnées des établissement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4387680" y="1682640"/>
            <a:ext cx="4707000" cy="4972320"/>
            <a:chOff x="4387680" y="1682640"/>
            <a:chExt cx="4707000" cy="4972320"/>
          </a:xfrm>
        </p:grpSpPr>
        <p:grpSp>
          <p:nvGrpSpPr>
            <p:cNvPr id="501" name="Group 5"/>
            <p:cNvGrpSpPr/>
            <p:nvPr/>
          </p:nvGrpSpPr>
          <p:grpSpPr>
            <a:xfrm>
              <a:off x="4387680" y="1682640"/>
              <a:ext cx="4583160" cy="1692360"/>
              <a:chOff x="4387680" y="1682640"/>
              <a:chExt cx="4583160" cy="1692360"/>
            </a:xfrm>
          </p:grpSpPr>
          <p:sp>
            <p:nvSpPr>
              <p:cNvPr id="502" name="Text Box 6"/>
              <p:cNvSpPr/>
              <p:nvPr/>
            </p:nvSpPr>
            <p:spPr>
              <a:xfrm>
                <a:off x="4387680" y="1682640"/>
                <a:ext cx="4583160" cy="1692360"/>
              </a:xfrm>
              <a:prstGeom prst="rect">
                <a:avLst/>
              </a:prstGeom>
              <a:noFill/>
              <a:ln w="19080">
                <a:solidFill>
                  <a:srgbClr val="d10a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cd0a20"/>
                    </a:solidFill>
                    <a:latin typeface="Arial"/>
                  </a:rPr>
                  <a:t>Jeu de test anonymisé</a:t>
                </a:r>
                <a:endParaRPr b="0" lang="en-US" sz="16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grpSp>
            <p:nvGrpSpPr>
              <p:cNvPr id="503" name="Group 7"/>
              <p:cNvGrpSpPr/>
              <p:nvPr/>
            </p:nvGrpSpPr>
            <p:grpSpPr>
              <a:xfrm>
                <a:off x="4579920" y="2052720"/>
                <a:ext cx="925560" cy="1231920"/>
                <a:chOff x="4579920" y="2052720"/>
                <a:chExt cx="925560" cy="1231920"/>
              </a:xfrm>
            </p:grpSpPr>
            <p:sp>
              <p:nvSpPr>
                <p:cNvPr id="504" name="Rectangle 8"/>
                <p:cNvSpPr/>
                <p:nvPr/>
              </p:nvSpPr>
              <p:spPr>
                <a:xfrm>
                  <a:off x="4627440" y="2100240"/>
                  <a:ext cx="878040" cy="1184400"/>
                </a:xfrm>
                <a:prstGeom prst="rect">
                  <a:avLst/>
                </a:prstGeom>
                <a:solidFill>
                  <a:srgbClr val="9bba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9"/>
                <p:cNvSpPr/>
                <p:nvPr/>
              </p:nvSpPr>
              <p:spPr>
                <a:xfrm>
                  <a:off x="4579920" y="2052720"/>
                  <a:ext cx="887400" cy="119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Extraction Complète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0"/>
              <p:cNvGrpSpPr/>
              <p:nvPr/>
            </p:nvGrpSpPr>
            <p:grpSpPr>
              <a:xfrm>
                <a:off x="5878440" y="2052720"/>
                <a:ext cx="922320" cy="1231920"/>
                <a:chOff x="5878440" y="2052720"/>
                <a:chExt cx="922320" cy="1231920"/>
              </a:xfrm>
            </p:grpSpPr>
            <p:sp>
              <p:nvSpPr>
                <p:cNvPr id="507" name="Rectangle 11"/>
                <p:cNvSpPr/>
                <p:nvPr/>
              </p:nvSpPr>
              <p:spPr>
                <a:xfrm>
                  <a:off x="5923080" y="2100240"/>
                  <a:ext cx="877680" cy="1184400"/>
                </a:xfrm>
                <a:prstGeom prst="rect">
                  <a:avLst/>
                </a:prstGeom>
                <a:solidFill>
                  <a:srgbClr val="9bba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12"/>
                <p:cNvSpPr/>
                <p:nvPr/>
              </p:nvSpPr>
              <p:spPr>
                <a:xfrm>
                  <a:off x="5878440" y="2052720"/>
                  <a:ext cx="887400" cy="11905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Extraction Delta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Arial"/>
                    </a:rPr>
                    <a:t>Vide</a:t>
                  </a:r>
                  <a:endParaRPr b="0" lang="en-US" sz="9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13"/>
              <p:cNvGrpSpPr/>
              <p:nvPr/>
            </p:nvGrpSpPr>
            <p:grpSpPr>
              <a:xfrm>
                <a:off x="6904080" y="2052720"/>
                <a:ext cx="920880" cy="1222200"/>
                <a:chOff x="6904080" y="2052720"/>
                <a:chExt cx="920880" cy="1222200"/>
              </a:xfrm>
            </p:grpSpPr>
            <p:sp>
              <p:nvSpPr>
                <p:cNvPr id="510" name="Rectangle 14"/>
                <p:cNvSpPr/>
                <p:nvPr/>
              </p:nvSpPr>
              <p:spPr>
                <a:xfrm>
                  <a:off x="6946920" y="2090880"/>
                  <a:ext cx="878040" cy="1184040"/>
                </a:xfrm>
                <a:prstGeom prst="rect">
                  <a:avLst/>
                </a:prstGeom>
                <a:solidFill>
                  <a:srgbClr val="9bba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15"/>
                <p:cNvSpPr/>
                <p:nvPr/>
              </p:nvSpPr>
              <p:spPr>
                <a:xfrm>
                  <a:off x="6904080" y="2052720"/>
                  <a:ext cx="887400" cy="11905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Extraction Delta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Arial"/>
                    </a:rPr>
                    <a:t>Petites modifications</a:t>
                  </a:r>
                  <a:endParaRPr b="0" lang="en-US" sz="9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16"/>
              <p:cNvGrpSpPr/>
              <p:nvPr/>
            </p:nvGrpSpPr>
            <p:grpSpPr>
              <a:xfrm>
                <a:off x="7942320" y="2052720"/>
                <a:ext cx="925560" cy="1222200"/>
                <a:chOff x="7942320" y="2052720"/>
                <a:chExt cx="925560" cy="1222200"/>
              </a:xfrm>
            </p:grpSpPr>
            <p:sp>
              <p:nvSpPr>
                <p:cNvPr id="513" name="Rectangle 17"/>
                <p:cNvSpPr/>
                <p:nvPr/>
              </p:nvSpPr>
              <p:spPr>
                <a:xfrm>
                  <a:off x="7989840" y="2090880"/>
                  <a:ext cx="878040" cy="1184040"/>
                </a:xfrm>
                <a:prstGeom prst="rect">
                  <a:avLst/>
                </a:prstGeom>
                <a:solidFill>
                  <a:srgbClr val="9bba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18"/>
                <p:cNvSpPr/>
                <p:nvPr/>
              </p:nvSpPr>
              <p:spPr>
                <a:xfrm>
                  <a:off x="7942320" y="2052720"/>
                  <a:ext cx="887400" cy="11905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Extraction Delta</a:t>
                  </a: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d10a14"/>
                    </a:solidFill>
                    <a:latin typeface="Arial"/>
                  </a:endParaRPr>
                </a:p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Arial"/>
                    </a:rPr>
                    <a:t>Grosses modifications</a:t>
                  </a:r>
                  <a:endParaRPr b="0" lang="en-US" sz="9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5" name="Group 19"/>
            <p:cNvGrpSpPr/>
            <p:nvPr/>
          </p:nvGrpSpPr>
          <p:grpSpPr>
            <a:xfrm>
              <a:off x="5000760" y="3778200"/>
              <a:ext cx="2541600" cy="2876760"/>
              <a:chOff x="5000760" y="3778200"/>
              <a:chExt cx="2541600" cy="2876760"/>
            </a:xfrm>
          </p:grpSpPr>
          <p:sp>
            <p:nvSpPr>
              <p:cNvPr id="516" name="Rectangle 20"/>
              <p:cNvSpPr/>
              <p:nvPr/>
            </p:nvSpPr>
            <p:spPr>
              <a:xfrm>
                <a:off x="5057640" y="3852720"/>
                <a:ext cx="1903680" cy="2802240"/>
              </a:xfrm>
              <a:prstGeom prst="rect">
                <a:avLst/>
              </a:prstGeom>
              <a:solidFill>
                <a:srgbClr val="9bb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grpSp>
            <p:nvGrpSpPr>
              <p:cNvPr id="517" name="Group 21"/>
              <p:cNvGrpSpPr/>
              <p:nvPr/>
            </p:nvGrpSpPr>
            <p:grpSpPr>
              <a:xfrm>
                <a:off x="5000760" y="3778200"/>
                <a:ext cx="2541600" cy="2819160"/>
                <a:chOff x="5000760" y="3778200"/>
                <a:chExt cx="2541600" cy="2819160"/>
              </a:xfrm>
            </p:grpSpPr>
            <p:grpSp>
              <p:nvGrpSpPr>
                <p:cNvPr id="518" name="Group 22"/>
                <p:cNvGrpSpPr/>
                <p:nvPr/>
              </p:nvGrpSpPr>
              <p:grpSpPr>
                <a:xfrm>
                  <a:off x="5000760" y="3778200"/>
                  <a:ext cx="1912680" cy="2819160"/>
                  <a:chOff x="5000760" y="3778200"/>
                  <a:chExt cx="1912680" cy="2819160"/>
                </a:xfrm>
              </p:grpSpPr>
              <p:sp>
                <p:nvSpPr>
                  <p:cNvPr id="519" name="Text Box 23"/>
                  <p:cNvSpPr/>
                  <p:nvPr/>
                </p:nvSpPr>
                <p:spPr>
                  <a:xfrm>
                    <a:off x="5000760" y="3778200"/>
                    <a:ext cx="1912680" cy="2819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Arial"/>
                      </a:rPr>
                      <a:t>Extraction Complète</a:t>
                    </a:r>
                    <a:endParaRPr b="0" lang="en-US" sz="1800" spc="-1" strike="noStrike">
                      <a:solidFill>
                        <a:srgbClr val="d10a1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AutoShape 24"/>
                  <p:cNvSpPr/>
                  <p:nvPr/>
                </p:nvSpPr>
                <p:spPr>
                  <a:xfrm>
                    <a:off x="5165640" y="4505040"/>
                    <a:ext cx="274680" cy="363600"/>
                  </a:xfrm>
                  <a:prstGeom prst="foldedCorner">
                    <a:avLst>
                      <a:gd name="adj" fmla="val 12500"/>
                    </a:avLst>
                  </a:prstGeom>
                  <a:solidFill>
                    <a:srgbClr val="9bbac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400"/>
                    </a:br>
                    <a:br>
                      <a:rPr sz="1400"/>
                    </a:br>
                    <a:endParaRPr b="0" lang="en-US" sz="1400" spc="-1" strike="noStrike">
                      <a:solidFill>
                        <a:srgbClr val="d10a1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utoShape 25"/>
                  <p:cNvSpPr/>
                  <p:nvPr/>
                </p:nvSpPr>
                <p:spPr>
                  <a:xfrm>
                    <a:off x="5172120" y="5032080"/>
                    <a:ext cx="274680" cy="363600"/>
                  </a:xfrm>
                  <a:prstGeom prst="foldedCorner">
                    <a:avLst>
                      <a:gd name="adj" fmla="val 12500"/>
                    </a:avLst>
                  </a:prstGeom>
                  <a:solidFill>
                    <a:srgbClr val="9bbac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400"/>
                    </a:br>
                    <a:br>
                      <a:rPr sz="1400"/>
                    </a:br>
                    <a:endParaRPr b="0" lang="en-US" sz="1400" spc="-1" strike="noStrike">
                      <a:solidFill>
                        <a:srgbClr val="d10a1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utoShape 26"/>
                  <p:cNvSpPr/>
                  <p:nvPr/>
                </p:nvSpPr>
                <p:spPr>
                  <a:xfrm>
                    <a:off x="5159520" y="6089400"/>
                    <a:ext cx="274320" cy="363600"/>
                  </a:xfrm>
                  <a:prstGeom prst="foldedCorner">
                    <a:avLst>
                      <a:gd name="adj" fmla="val 12500"/>
                    </a:avLst>
                  </a:prstGeom>
                  <a:solidFill>
                    <a:srgbClr val="9bbac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400"/>
                    </a:br>
                    <a:br>
                      <a:rPr sz="1400"/>
                    </a:br>
                    <a:endParaRPr b="0" lang="en-US" sz="1400" spc="-1" strike="noStrike">
                      <a:solidFill>
                        <a:srgbClr val="d10a1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AutoShape 27"/>
                  <p:cNvSpPr/>
                  <p:nvPr/>
                </p:nvSpPr>
                <p:spPr>
                  <a:xfrm>
                    <a:off x="5165640" y="5557680"/>
                    <a:ext cx="292320" cy="365040"/>
                  </a:xfrm>
                  <a:prstGeom prst="foldedCorner">
                    <a:avLst>
                      <a:gd name="adj" fmla="val 12500"/>
                    </a:avLst>
                  </a:prstGeom>
                  <a:solidFill>
                    <a:srgbClr val="9bbac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400"/>
                    </a:br>
                    <a:br>
                      <a:rPr sz="1400"/>
                    </a:br>
                    <a:endParaRPr b="0" lang="en-US" sz="1400" spc="-1" strike="noStrike">
                      <a:solidFill>
                        <a:srgbClr val="d10a1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Text Box 28"/>
                  <p:cNvSpPr/>
                  <p:nvPr/>
                </p:nvSpPr>
                <p:spPr>
                  <a:xfrm>
                    <a:off x="5454720" y="4529160"/>
                    <a:ext cx="14158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leve.xml</a:t>
                    </a:r>
                    <a:endParaRPr b="0" lang="en-US" sz="1000" spc="-1" strike="noStrike">
                      <a:solidFill>
                        <a:srgbClr val="d10a1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Text Box 29"/>
                  <p:cNvSpPr/>
                  <p:nvPr/>
                </p:nvSpPr>
                <p:spPr>
                  <a:xfrm>
                    <a:off x="5451480" y="5056200"/>
                    <a:ext cx="14335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rsRelEleve.xml</a:t>
                    </a:r>
                    <a:endParaRPr b="0" lang="en-US" sz="1000" spc="-1" strike="noStrike">
                      <a:solidFill>
                        <a:srgbClr val="d10a1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Text Box 30"/>
                  <p:cNvSpPr/>
                  <p:nvPr/>
                </p:nvSpPr>
                <p:spPr>
                  <a:xfrm>
                    <a:off x="5437080" y="6100560"/>
                    <a:ext cx="141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tabEducNat.xml</a:t>
                    </a:r>
                    <a:endParaRPr b="0" lang="en-US" sz="1000" spc="-1" strike="noStrike">
                      <a:solidFill>
                        <a:srgbClr val="d10a1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" name="Text Box 31"/>
                <p:cNvSpPr/>
                <p:nvPr/>
              </p:nvSpPr>
              <p:spPr>
                <a:xfrm>
                  <a:off x="5440320" y="5573880"/>
                  <a:ext cx="2102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PersEducNat.xml</a:t>
                  </a:r>
                  <a:endParaRPr b="0" lang="en-US" sz="10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8" name="Group 32"/>
            <p:cNvGrpSpPr/>
            <p:nvPr/>
          </p:nvGrpSpPr>
          <p:grpSpPr>
            <a:xfrm>
              <a:off x="7027920" y="3774960"/>
              <a:ext cx="2066760" cy="2874960"/>
              <a:chOff x="7027920" y="3774960"/>
              <a:chExt cx="2066760" cy="2874960"/>
            </a:xfrm>
          </p:grpSpPr>
          <p:sp>
            <p:nvSpPr>
              <p:cNvPr id="529" name="Rectangle 33"/>
              <p:cNvSpPr/>
              <p:nvPr/>
            </p:nvSpPr>
            <p:spPr>
              <a:xfrm>
                <a:off x="7095960" y="3848040"/>
                <a:ext cx="1903680" cy="2801880"/>
              </a:xfrm>
              <a:prstGeom prst="rect">
                <a:avLst/>
              </a:prstGeom>
              <a:solidFill>
                <a:srgbClr val="9bb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grpSp>
            <p:nvGrpSpPr>
              <p:cNvPr id="530" name="Group 34"/>
              <p:cNvGrpSpPr/>
              <p:nvPr/>
            </p:nvGrpSpPr>
            <p:grpSpPr>
              <a:xfrm>
                <a:off x="7027920" y="3774960"/>
                <a:ext cx="2066760" cy="2819520"/>
                <a:chOff x="7027920" y="3774960"/>
                <a:chExt cx="2066760" cy="2819520"/>
              </a:xfrm>
            </p:grpSpPr>
            <p:sp>
              <p:nvSpPr>
                <p:cNvPr id="531" name="Text Box 35"/>
                <p:cNvSpPr/>
                <p:nvPr/>
              </p:nvSpPr>
              <p:spPr>
                <a:xfrm>
                  <a:off x="7027920" y="3774960"/>
                  <a:ext cx="1913040" cy="28195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Extraction </a:t>
                  </a:r>
                  <a:br>
                    <a:rPr sz="1800"/>
                  </a:b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Delta</a:t>
                  </a:r>
                  <a:endParaRPr b="0" lang="en-US" sz="1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36"/>
                <p:cNvSpPr/>
                <p:nvPr/>
              </p:nvSpPr>
              <p:spPr>
                <a:xfrm>
                  <a:off x="7192800" y="4502160"/>
                  <a:ext cx="274680" cy="3636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9bba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br>
                    <a:rPr sz="1400"/>
                  </a:br>
                  <a:endParaRPr b="0" lang="en-US" sz="14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33" name="Text Box 37"/>
                <p:cNvSpPr/>
                <p:nvPr/>
              </p:nvSpPr>
              <p:spPr>
                <a:xfrm>
                  <a:off x="7448400" y="5580000"/>
                  <a:ext cx="1563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elta_PersEducNat.xml</a:t>
                  </a:r>
                  <a:endParaRPr b="0" lang="en-US" sz="10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38"/>
                <p:cNvSpPr/>
                <p:nvPr/>
              </p:nvSpPr>
              <p:spPr>
                <a:xfrm>
                  <a:off x="7199280" y="5029200"/>
                  <a:ext cx="274680" cy="3636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9bba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br>
                    <a:rPr sz="1400"/>
                  </a:br>
                  <a:endParaRPr b="0" lang="en-US" sz="14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39"/>
                <p:cNvSpPr/>
                <p:nvPr/>
              </p:nvSpPr>
              <p:spPr>
                <a:xfrm>
                  <a:off x="7186680" y="6086520"/>
                  <a:ext cx="274680" cy="3636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9bba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br>
                    <a:rPr sz="1400"/>
                  </a:br>
                  <a:endParaRPr b="0" lang="en-US" sz="14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40"/>
                <p:cNvSpPr/>
                <p:nvPr/>
              </p:nvSpPr>
              <p:spPr>
                <a:xfrm>
                  <a:off x="7192800" y="5554800"/>
                  <a:ext cx="292320" cy="3650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9bba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br>
                    <a:rPr sz="1400"/>
                  </a:br>
                  <a:endParaRPr b="0" lang="en-US" sz="14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41"/>
                <p:cNvSpPr/>
                <p:nvPr/>
              </p:nvSpPr>
              <p:spPr>
                <a:xfrm>
                  <a:off x="7481880" y="4525920"/>
                  <a:ext cx="141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elta_Eleve.xml</a:t>
                  </a:r>
                  <a:endParaRPr b="0" lang="en-US" sz="10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42"/>
                <p:cNvSpPr/>
                <p:nvPr/>
              </p:nvSpPr>
              <p:spPr>
                <a:xfrm>
                  <a:off x="7478640" y="5052960"/>
                  <a:ext cx="1616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elta_PersRelEleve.xml</a:t>
                  </a:r>
                  <a:endParaRPr b="0" lang="en-US" sz="10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43"/>
                <p:cNvSpPr/>
                <p:nvPr/>
              </p:nvSpPr>
              <p:spPr>
                <a:xfrm>
                  <a:off x="7464240" y="6097680"/>
                  <a:ext cx="1571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Delta_EtabEducNat.xml</a:t>
                  </a:r>
                  <a:endParaRPr b="0" lang="en-US" sz="10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0" name="AutoShape 44"/>
            <p:cNvSpPr/>
            <p:nvPr/>
          </p:nvSpPr>
          <p:spPr>
            <a:xfrm flipH="1">
              <a:off x="4491000" y="3475080"/>
              <a:ext cx="566640" cy="557280"/>
            </a:xfrm>
            <a:custGeom>
              <a:avLst/>
              <a:gdLst>
                <a:gd name="textAreaLeft" fmla="*/ 82440 w 566640"/>
                <a:gd name="textAreaRight" fmla="*/ 484200 w 566640"/>
                <a:gd name="textAreaTop" fmla="*/ 81000 h 557280"/>
                <a:gd name="textAreaBottom" fmla="*/ 476280 h 55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30" y="17722"/>
                  </a:moveTo>
                  <a:cubicBezTo>
                    <a:pt x="14641" y="17706"/>
                    <a:pt x="17723" y="14611"/>
                    <a:pt x="17723" y="10800"/>
                  </a:cubicBezTo>
                  <a:cubicBezTo>
                    <a:pt x="17723" y="8681"/>
                    <a:pt x="16752" y="6678"/>
                    <a:pt x="15089" y="5366"/>
                  </a:cubicBezTo>
                  <a:lnTo>
                    <a:pt x="17491" y="2322"/>
                  </a:lnTo>
                  <a:cubicBezTo>
                    <a:pt x="20086" y="4371"/>
                    <a:pt x="21600" y="7494"/>
                    <a:pt x="21600" y="10800"/>
                  </a:cubicBezTo>
                  <a:cubicBezTo>
                    <a:pt x="21600" y="16746"/>
                    <a:pt x="16793" y="21574"/>
                    <a:pt x="10846" y="21599"/>
                  </a:cubicBezTo>
                  <a:lnTo>
                    <a:pt x="10858" y="24299"/>
                  </a:lnTo>
                  <a:lnTo>
                    <a:pt x="6199" y="19681"/>
                  </a:lnTo>
                  <a:lnTo>
                    <a:pt x="10818" y="15022"/>
                  </a:lnTo>
                  <a:lnTo>
                    <a:pt x="10830" y="17722"/>
                  </a:lnTo>
                  <a:close/>
                </a:path>
              </a:pathLst>
            </a:custGeom>
            <a:solidFill>
              <a:srgbClr val="cb23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33E9-EBFC-4106-9CC1-39A06584A920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400"/>
            </a:b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pie d’écran de la page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du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-125280" y="1492200"/>
            <a:ext cx="93549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9080" y="19080"/>
            <a:ext cx="9144000" cy="7009920"/>
            <a:chOff x="19080" y="19080"/>
            <a:chExt cx="9144000" cy="7009920"/>
          </a:xfrm>
        </p:grpSpPr>
        <p:sp>
          <p:nvSpPr>
            <p:cNvPr id="195" name="Rectangle 3"/>
            <p:cNvSpPr/>
            <p:nvPr/>
          </p:nvSpPr>
          <p:spPr>
            <a:xfrm>
              <a:off x="19080" y="19080"/>
              <a:ext cx="9144000" cy="700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96" name="Rectangle 4"/>
            <p:cNvSpPr/>
            <p:nvPr/>
          </p:nvSpPr>
          <p:spPr>
            <a:xfrm>
              <a:off x="268200" y="273600"/>
              <a:ext cx="8710560" cy="6494040"/>
            </a:xfrm>
            <a:prstGeom prst="rect">
              <a:avLst/>
            </a:prstGeom>
            <a:solidFill>
              <a:srgbClr val="9bb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197" name="Group 5"/>
            <p:cNvGrpSpPr/>
            <p:nvPr/>
          </p:nvGrpSpPr>
          <p:grpSpPr>
            <a:xfrm>
              <a:off x="6810480" y="2342880"/>
              <a:ext cx="2301840" cy="2364840"/>
              <a:chOff x="6810480" y="2342880"/>
              <a:chExt cx="2301840" cy="2364840"/>
            </a:xfrm>
          </p:grpSpPr>
          <p:grpSp>
            <p:nvGrpSpPr>
              <p:cNvPr id="198" name="Group 6"/>
              <p:cNvGrpSpPr/>
              <p:nvPr/>
            </p:nvGrpSpPr>
            <p:grpSpPr>
              <a:xfrm>
                <a:off x="6810480" y="2342880"/>
                <a:ext cx="2301840" cy="2364840"/>
                <a:chOff x="6810480" y="2342880"/>
                <a:chExt cx="2301840" cy="2364840"/>
              </a:xfrm>
            </p:grpSpPr>
            <p:sp>
              <p:nvSpPr>
                <p:cNvPr id="199" name="Rectangle 7"/>
                <p:cNvSpPr/>
                <p:nvPr/>
              </p:nvSpPr>
              <p:spPr>
                <a:xfrm>
                  <a:off x="6810480" y="2342880"/>
                  <a:ext cx="166680" cy="235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8"/>
                <p:cNvSpPr/>
                <p:nvPr/>
              </p:nvSpPr>
              <p:spPr>
                <a:xfrm rot="5400000">
                  <a:off x="7875360" y="1279080"/>
                  <a:ext cx="17208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9"/>
                <p:cNvSpPr/>
                <p:nvPr/>
              </p:nvSpPr>
              <p:spPr>
                <a:xfrm rot="5400000">
                  <a:off x="7875360" y="3470760"/>
                  <a:ext cx="17172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2" name="Picture 10" descr="Nx LOGO1"/>
              <p:cNvPicPr/>
              <p:nvPr/>
            </p:nvPicPr>
            <p:blipFill>
              <a:blip r:embed="rId1"/>
              <a:stretch/>
            </p:blipFill>
            <p:spPr>
              <a:xfrm>
                <a:off x="6970680" y="2503080"/>
                <a:ext cx="2008080" cy="205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03" name="Picture 11" descr="logoMENESR"/>
          <p:cNvPicPr/>
          <p:nvPr/>
        </p:nvPicPr>
        <p:blipFill>
          <a:blip r:embed="rId2"/>
          <a:stretch/>
        </p:blipFill>
        <p:spPr>
          <a:xfrm>
            <a:off x="5164200" y="297000"/>
            <a:ext cx="2022480" cy="189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88520" y="2301480"/>
            <a:ext cx="6597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03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grandes lignes du projet Annuaire 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oom sur l’annuaire féd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orpus documentaire et O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principales étapes de la mise en œuvre de l’alimentation de l’ENT via l’annuaire fédér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cisions sur les grandes étapes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cision sur certains attrib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tilisation du jeu d es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1365120" y="1192320"/>
            <a:ext cx="2330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F4AD-A606-4B6C-A2FE-247CB7C6A612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600"/>
            </a:br>
            <a:br>
              <a:rPr sz="1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Jeu de test anonymisé 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471600" y="1711440"/>
            <a:ext cx="1295280" cy="919800"/>
            <a:chOff x="471600" y="1711440"/>
            <a:chExt cx="1295280" cy="919800"/>
          </a:xfrm>
        </p:grpSpPr>
        <p:sp>
          <p:nvSpPr>
            <p:cNvPr id="547" name="AutoShape 4"/>
            <p:cNvSpPr/>
            <p:nvPr/>
          </p:nvSpPr>
          <p:spPr>
            <a:xfrm>
              <a:off x="882720" y="1711440"/>
              <a:ext cx="456840" cy="574560"/>
            </a:xfrm>
            <a:prstGeom prst="foldedCorner">
              <a:avLst>
                <a:gd name="adj" fmla="val 125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br>
                <a:rPr sz="1400"/>
              </a:b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548" name="Text Box 5"/>
            <p:cNvSpPr/>
            <p:nvPr/>
          </p:nvSpPr>
          <p:spPr>
            <a:xfrm>
              <a:off x="471600" y="23241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leves.xml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pic>
        <p:nvPicPr>
          <p:cNvPr id="549" name="Picture 6" descr="copie_ecran_xml_anonym_persEduc"/>
          <p:cNvPicPr/>
          <p:nvPr/>
        </p:nvPicPr>
        <p:blipFill>
          <a:blip r:embed="rId1"/>
          <a:stretch/>
        </p:blipFill>
        <p:spPr>
          <a:xfrm>
            <a:off x="2000160" y="1666800"/>
            <a:ext cx="5888160" cy="38307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7"/>
          <p:cNvSpPr/>
          <p:nvPr/>
        </p:nvSpPr>
        <p:spPr>
          <a:xfrm flipH="1">
            <a:off x="1223280" y="2286000"/>
            <a:ext cx="770040" cy="824040"/>
          </a:xfrm>
          <a:custGeom>
            <a:avLst/>
            <a:gdLst>
              <a:gd name="textAreaLeft" fmla="*/ 112680 w 770040"/>
              <a:gd name="textAreaRight" fmla="*/ 657360 w 770040"/>
              <a:gd name="textAreaTop" fmla="*/ 120600 h 824040"/>
              <a:gd name="textAreaBottom" fmla="*/ 703440 h 824040"/>
            </a:gdLst>
            <a:ahLst/>
            <a:rect l="textAreaLeft" t="textAreaTop" r="textAreaRight" b="textAreaBottom"/>
            <a:pathLst>
              <a:path w="21600" h="21600">
                <a:moveTo>
                  <a:pt x="11133" y="17853"/>
                </a:moveTo>
                <a:cubicBezTo>
                  <a:pt x="14899" y="17674"/>
                  <a:pt x="17861" y="14569"/>
                  <a:pt x="17861" y="10800"/>
                </a:cubicBezTo>
                <a:cubicBezTo>
                  <a:pt x="17861" y="10777"/>
                  <a:pt x="17860" y="10754"/>
                  <a:pt x="17860" y="10732"/>
                </a:cubicBezTo>
                <a:lnTo>
                  <a:pt x="21599" y="10696"/>
                </a:lnTo>
                <a:cubicBezTo>
                  <a:pt x="21599" y="10731"/>
                  <a:pt x="21600" y="10765"/>
                  <a:pt x="21600" y="10800"/>
                </a:cubicBezTo>
                <a:cubicBezTo>
                  <a:pt x="21600" y="16566"/>
                  <a:pt x="17070" y="21315"/>
                  <a:pt x="11310" y="21587"/>
                </a:cubicBezTo>
                <a:lnTo>
                  <a:pt x="11438" y="24284"/>
                </a:lnTo>
                <a:lnTo>
                  <a:pt x="6657" y="19937"/>
                </a:lnTo>
                <a:lnTo>
                  <a:pt x="11006" y="15156"/>
                </a:lnTo>
                <a:lnTo>
                  <a:pt x="11133" y="17853"/>
                </a:lnTo>
                <a:close/>
              </a:path>
            </a:pathLst>
          </a:custGeom>
          <a:solidFill>
            <a:srgbClr val="cb23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551" name="Picture 8" descr=""/>
          <p:cNvPicPr/>
          <p:nvPr/>
        </p:nvPicPr>
        <p:blipFill>
          <a:blip r:embed="rId2"/>
          <a:stretch/>
        </p:blipFill>
        <p:spPr>
          <a:xfrm>
            <a:off x="244440" y="3519360"/>
            <a:ext cx="6854760" cy="262080"/>
          </a:xfrm>
          <a:prstGeom prst="rect">
            <a:avLst/>
          </a:prstGeom>
          <a:ln w="9360">
            <a:solidFill>
              <a:srgbClr val="cb232a"/>
            </a:solidFill>
            <a:miter/>
          </a:ln>
        </p:spPr>
      </p:pic>
      <p:pic>
        <p:nvPicPr>
          <p:cNvPr id="552" name="Picture 9" descr=""/>
          <p:cNvPicPr/>
          <p:nvPr/>
        </p:nvPicPr>
        <p:blipFill>
          <a:blip r:embed="rId3"/>
          <a:stretch/>
        </p:blipFill>
        <p:spPr>
          <a:xfrm>
            <a:off x="244440" y="3971880"/>
            <a:ext cx="8783640" cy="344520"/>
          </a:xfrm>
          <a:prstGeom prst="rect">
            <a:avLst/>
          </a:prstGeom>
          <a:ln w="9360">
            <a:solidFill>
              <a:srgbClr val="cb232a"/>
            </a:solidFill>
            <a:miter/>
          </a:ln>
        </p:spPr>
      </p:pic>
      <p:pic>
        <p:nvPicPr>
          <p:cNvPr id="553" name="Picture 10" descr=""/>
          <p:cNvPicPr/>
          <p:nvPr/>
        </p:nvPicPr>
        <p:blipFill>
          <a:blip r:embed="rId4"/>
          <a:stretch/>
        </p:blipFill>
        <p:spPr>
          <a:xfrm>
            <a:off x="244440" y="4495680"/>
            <a:ext cx="8244000" cy="476280"/>
          </a:xfrm>
          <a:prstGeom prst="rect">
            <a:avLst/>
          </a:prstGeom>
          <a:ln w="9360">
            <a:solidFill>
              <a:srgbClr val="cb232a"/>
            </a:solidFill>
            <a:miter/>
          </a:ln>
        </p:spPr>
      </p:pic>
      <p:sp>
        <p:nvSpPr>
          <p:cNvPr id="554" name="Text Box 11"/>
          <p:cNvSpPr/>
          <p:nvPr/>
        </p:nvSpPr>
        <p:spPr>
          <a:xfrm>
            <a:off x="244440" y="5742000"/>
            <a:ext cx="845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marque sur cet exemple : le nom des classes doit être renseigné de manière explicite dans SCONET car il se retrouve dans l’ENT.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C51C-C6CF-455F-B797-41763CD4A62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600"/>
            </a:br>
            <a:br>
              <a:rPr sz="1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estion des deltas – postulats initi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739800" y="1593720"/>
            <a:ext cx="791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ncipe des fichiers de delta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mettre un fichier contenant les écarts dans la base de donnée de l’annuaire fédérateur entre deux dates (moins volumineux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utôt que des fichiers complets.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744480" y="39924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ectorat (les responsables de l’administration de l’annuaire fédérateur) et l’équipe Projet ENT déterminent ensembl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368360" y="4705200"/>
            <a:ext cx="67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spcBef>
                <a:spcPts val="1125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fréquence des extractions complètes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xemple 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comple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1 extraction tous les 30 jours)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indent="284040">
              <a:spcBef>
                <a:spcPts val="1125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valeur de n (période de répétition des modifications/créations/suppressions dans les fichiers de delta)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747720" y="323676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fichier de delta est généré tous les jours.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98D8-EBC6-4248-A8AB-146017D732D0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90480" y="188640"/>
            <a:ext cx="6167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orpus Annuaire ENT</a:t>
            </a:r>
            <a:br>
              <a:rPr sz="1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estion des deltas – génération d’extractions de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rcRect l="0" t="0" r="0" b="53112"/>
          <a:stretch/>
        </p:blipFill>
        <p:spPr>
          <a:xfrm>
            <a:off x="1542960" y="1523880"/>
            <a:ext cx="6135840" cy="2305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"/>
          <p:cNvPicPr/>
          <p:nvPr/>
        </p:nvPicPr>
        <p:blipFill>
          <a:blip r:embed="rId2"/>
          <a:stretch/>
        </p:blipFill>
        <p:spPr>
          <a:xfrm>
            <a:off x="1562040" y="3929040"/>
            <a:ext cx="6121440" cy="16257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"/>
          <p:cNvPicPr/>
          <p:nvPr/>
        </p:nvPicPr>
        <p:blipFill>
          <a:blip r:embed="rId3"/>
          <a:stretch/>
        </p:blipFill>
        <p:spPr>
          <a:xfrm>
            <a:off x="582480" y="2370240"/>
            <a:ext cx="8220240" cy="904680"/>
          </a:xfrm>
          <a:prstGeom prst="rect">
            <a:avLst/>
          </a:prstGeom>
          <a:ln w="9360">
            <a:solidFill>
              <a:srgbClr val="cb232a"/>
            </a:solidFill>
            <a:miter/>
          </a:ln>
        </p:spPr>
      </p:pic>
      <p:pic>
        <p:nvPicPr>
          <p:cNvPr id="566" name="Picture 6" descr=""/>
          <p:cNvPicPr/>
          <p:nvPr/>
        </p:nvPicPr>
        <p:blipFill>
          <a:blip r:embed="rId4"/>
          <a:stretch/>
        </p:blipFill>
        <p:spPr>
          <a:xfrm>
            <a:off x="1552680" y="5315040"/>
            <a:ext cx="6124320" cy="1504800"/>
          </a:xfrm>
          <a:prstGeom prst="rect">
            <a:avLst/>
          </a:prstGeom>
          <a:ln w="0">
            <a:noFill/>
          </a:ln>
        </p:spPr>
      </p:pic>
      <p:sp>
        <p:nvSpPr>
          <p:cNvPr id="567" name="Freeform 7"/>
          <p:cNvSpPr/>
          <p:nvPr/>
        </p:nvSpPr>
        <p:spPr>
          <a:xfrm>
            <a:off x="1436760" y="5318280"/>
            <a:ext cx="6364080" cy="466560"/>
          </a:xfrm>
          <a:custGeom>
            <a:avLst/>
            <a:gdLst/>
            <a:ahLst/>
            <a:rect l="l" t="t" r="r" b="b"/>
            <a:pathLst>
              <a:path w="4009" h="294">
                <a:moveTo>
                  <a:pt x="12" y="141"/>
                </a:moveTo>
                <a:lnTo>
                  <a:pt x="594" y="47"/>
                </a:lnTo>
                <a:lnTo>
                  <a:pt x="1117" y="112"/>
                </a:lnTo>
                <a:lnTo>
                  <a:pt x="1963" y="24"/>
                </a:lnTo>
                <a:lnTo>
                  <a:pt x="2680" y="82"/>
                </a:lnTo>
                <a:lnTo>
                  <a:pt x="3286" y="0"/>
                </a:lnTo>
                <a:lnTo>
                  <a:pt x="3803" y="130"/>
                </a:lnTo>
                <a:lnTo>
                  <a:pt x="4009" y="0"/>
                </a:lnTo>
                <a:lnTo>
                  <a:pt x="3985" y="253"/>
                </a:lnTo>
                <a:lnTo>
                  <a:pt x="3826" y="294"/>
                </a:lnTo>
                <a:lnTo>
                  <a:pt x="3292" y="124"/>
                </a:lnTo>
                <a:lnTo>
                  <a:pt x="2821" y="200"/>
                </a:lnTo>
                <a:lnTo>
                  <a:pt x="1946" y="159"/>
                </a:lnTo>
                <a:lnTo>
                  <a:pt x="1140" y="200"/>
                </a:lnTo>
                <a:lnTo>
                  <a:pt x="594" y="130"/>
                </a:lnTo>
                <a:lnTo>
                  <a:pt x="0" y="235"/>
                </a:lnTo>
                <a:lnTo>
                  <a:pt x="12" y="1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6969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5"/>
          <a:stretch/>
        </p:blipFill>
        <p:spPr>
          <a:xfrm>
            <a:off x="125280" y="5641920"/>
            <a:ext cx="8896320" cy="743040"/>
          </a:xfrm>
          <a:prstGeom prst="rect">
            <a:avLst/>
          </a:prstGeom>
          <a:ln w="9360">
            <a:solidFill>
              <a:srgbClr val="cb232a"/>
            </a:solidFill>
            <a:miter/>
          </a:ln>
        </p:spPr>
      </p:pic>
      <p:sp>
        <p:nvSpPr>
          <p:cNvPr id="569" name="Freeform 9"/>
          <p:cNvSpPr/>
          <p:nvPr/>
        </p:nvSpPr>
        <p:spPr>
          <a:xfrm>
            <a:off x="1400040" y="3594240"/>
            <a:ext cx="6338880" cy="466560"/>
          </a:xfrm>
          <a:custGeom>
            <a:avLst/>
            <a:gdLst/>
            <a:ahLst/>
            <a:rect l="l" t="t" r="r" b="b"/>
            <a:pathLst>
              <a:path w="3993" h="294">
                <a:moveTo>
                  <a:pt x="41" y="28"/>
                </a:moveTo>
                <a:lnTo>
                  <a:pt x="564" y="146"/>
                </a:lnTo>
                <a:lnTo>
                  <a:pt x="1099" y="40"/>
                </a:lnTo>
                <a:lnTo>
                  <a:pt x="1947" y="24"/>
                </a:lnTo>
                <a:lnTo>
                  <a:pt x="2664" y="82"/>
                </a:lnTo>
                <a:lnTo>
                  <a:pt x="3270" y="0"/>
                </a:lnTo>
                <a:lnTo>
                  <a:pt x="3787" y="130"/>
                </a:lnTo>
                <a:lnTo>
                  <a:pt x="3993" y="0"/>
                </a:lnTo>
                <a:lnTo>
                  <a:pt x="3969" y="253"/>
                </a:lnTo>
                <a:lnTo>
                  <a:pt x="3810" y="294"/>
                </a:lnTo>
                <a:lnTo>
                  <a:pt x="3276" y="124"/>
                </a:lnTo>
                <a:lnTo>
                  <a:pt x="2805" y="200"/>
                </a:lnTo>
                <a:lnTo>
                  <a:pt x="1930" y="159"/>
                </a:lnTo>
                <a:lnTo>
                  <a:pt x="1099" y="246"/>
                </a:lnTo>
                <a:lnTo>
                  <a:pt x="576" y="216"/>
                </a:lnTo>
                <a:lnTo>
                  <a:pt x="0" y="158"/>
                </a:ln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6969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6"/>
          <a:stretch/>
        </p:blipFill>
        <p:spPr>
          <a:xfrm>
            <a:off x="611280" y="4043520"/>
            <a:ext cx="8181720" cy="1123920"/>
          </a:xfrm>
          <a:prstGeom prst="rect">
            <a:avLst/>
          </a:prstGeom>
          <a:ln w="9360">
            <a:solidFill>
              <a:srgbClr val="cb23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2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573" name="Rectangle 4"/>
            <p:cNvSpPr/>
            <p:nvPr/>
          </p:nvSpPr>
          <p:spPr>
            <a:xfrm>
              <a:off x="249120" y="249120"/>
              <a:ext cx="8710560" cy="6353280"/>
            </a:xfrm>
            <a:prstGeom prst="rect">
              <a:avLst/>
            </a:prstGeom>
            <a:solidFill>
              <a:srgbClr val="9bb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574" name="Group 5"/>
            <p:cNvGrpSpPr/>
            <p:nvPr/>
          </p:nvGrpSpPr>
          <p:grpSpPr>
            <a:xfrm>
              <a:off x="6791400" y="2273400"/>
              <a:ext cx="2301840" cy="2314440"/>
              <a:chOff x="6791400" y="2273400"/>
              <a:chExt cx="2301840" cy="2314440"/>
            </a:xfrm>
          </p:grpSpPr>
          <p:grpSp>
            <p:nvGrpSpPr>
              <p:cNvPr id="575" name="Group 6"/>
              <p:cNvGrpSpPr/>
              <p:nvPr/>
            </p:nvGrpSpPr>
            <p:grpSpPr>
              <a:xfrm>
                <a:off x="6791400" y="2273400"/>
                <a:ext cx="2301840" cy="2314440"/>
                <a:chOff x="6791400" y="2273400"/>
                <a:chExt cx="2301840" cy="2314440"/>
              </a:xfrm>
            </p:grpSpPr>
            <p:sp>
              <p:nvSpPr>
                <p:cNvPr id="576" name="Rectangle 7"/>
                <p:cNvSpPr/>
                <p:nvPr/>
              </p:nvSpPr>
              <p:spPr>
                <a:xfrm>
                  <a:off x="6791400" y="2273400"/>
                  <a:ext cx="16668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8"/>
                <p:cNvSpPr/>
                <p:nvPr/>
              </p:nvSpPr>
              <p:spPr>
                <a:xfrm rot="5400000">
                  <a:off x="7858080" y="1207800"/>
                  <a:ext cx="16848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9"/>
                <p:cNvSpPr/>
                <p:nvPr/>
              </p:nvSpPr>
              <p:spPr>
                <a:xfrm rot="5400000">
                  <a:off x="7858080" y="3352680"/>
                  <a:ext cx="16812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9" name="Picture 10" descr="Nx LOGO1"/>
              <p:cNvPicPr/>
              <p:nvPr/>
            </p:nvPicPr>
            <p:blipFill>
              <a:blip r:embed="rId1"/>
              <a:stretch/>
            </p:blipFill>
            <p:spPr>
              <a:xfrm>
                <a:off x="6951600" y="2430360"/>
                <a:ext cx="2008080" cy="200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0" name="Picture 11" descr="logoMENESR"/>
          <p:cNvPicPr/>
          <p:nvPr/>
        </p:nvPicPr>
        <p:blipFill>
          <a:blip r:embed="rId2"/>
          <a:srcRect l="-2361" t="0" r="-2290" b="0"/>
          <a:stretch/>
        </p:blipFill>
        <p:spPr>
          <a:xfrm>
            <a:off x="4465800" y="206280"/>
            <a:ext cx="2311200" cy="20638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2"/>
          <p:cNvSpPr/>
          <p:nvPr/>
        </p:nvSpPr>
        <p:spPr>
          <a:xfrm>
            <a:off x="1139760" y="4911840"/>
            <a:ext cx="701208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5240" y="3557520"/>
            <a:ext cx="6673680" cy="290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Les principales étapes de la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mise en œuvre de l’alimentation de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l’ENT via l’annuaire fédérateu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6056-6E6C-4DE8-953B-9440F014041D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77520" y="415800"/>
            <a:ext cx="622476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émarche Conseillé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71000" y="1544400"/>
            <a:ext cx="8759880" cy="2057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bbace"/>
                </a:solidFill>
                <a:latin typeface="Arial"/>
              </a:rPr>
              <a:t>Nommer un chef de projet Annu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003320" y="5084640"/>
            <a:ext cx="33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7680" y="3718080"/>
            <a:ext cx="33004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85760" y="1854360"/>
            <a:ext cx="7226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fr-FR" sz="2000" spc="-1" strike="noStrike">
                <a:solidFill>
                  <a:srgbClr val="9bbace"/>
                </a:solidFill>
                <a:latin typeface="Arial"/>
              </a:rPr>
              <a:t>Vérifi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GB" sz="2000" spc="-1" strike="noStrike">
                <a:solidFill>
                  <a:srgbClr val="9bbace"/>
                </a:solidFill>
                <a:latin typeface="Arial"/>
                <a:ea typeface="Arial Unicode MS"/>
              </a:rPr>
              <a:t>les données ( Base scolarité, Bases SIRH..)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165240" y="2131920"/>
            <a:ext cx="807084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9bbace"/>
                </a:solidFill>
                <a:latin typeface="Arial"/>
                <a:ea typeface="Arial Unicode MS"/>
              </a:rPr>
              <a:t>Se préparer à l’arrivée de l’annuaire fédérateur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2" marL="1123920" indent="-37944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endre connaissance du cahier des charges annuaire ENT et de ses annexe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lvl="2" marL="1123920" indent="-37944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ettre en conformité son annuaire ENT (ou planifier la mise en conformité)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lvl="2" marL="1123920" indent="-37944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cheter les plateformes de l’annuaire fédérateur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lvl="2" marL="1123920" indent="-37944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ntégrer le jeu de tests anonymisé sur une plateforme de tests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171360" y="3711600"/>
            <a:ext cx="8786880" cy="1170000"/>
          </a:xfrm>
          <a:prstGeom prst="rect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9bbace"/>
                </a:solidFill>
                <a:latin typeface="Arial"/>
                <a:ea typeface="Arial Unicode MS"/>
              </a:rPr>
              <a:t>Installer l’annuaire fédérateur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200160" y="4019400"/>
            <a:ext cx="89438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9bbace"/>
                </a:solidFill>
                <a:latin typeface="Arial"/>
                <a:ea typeface="Arial Unicode MS"/>
              </a:rPr>
              <a:t>Produire les fichiers XML complets et des fichiers de Deltas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185760" y="4398840"/>
            <a:ext cx="856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9bbace"/>
                </a:solidFill>
                <a:latin typeface="Arial"/>
                <a:ea typeface="Arial Unicode MS"/>
              </a:rPr>
              <a:t>Établir les modalités d’échange des données personnelles avec </a:t>
            </a:r>
            <a:r>
              <a:rPr b="1" lang="en-GB" sz="1800" spc="-1" strike="noStrike">
                <a:solidFill>
                  <a:srgbClr val="9bbace"/>
                </a:solidFill>
                <a:latin typeface="Arial"/>
                <a:ea typeface="Arial Unicode MS"/>
              </a:rPr>
              <a:t>l’ENT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93" name="Rectangle 11"/>
          <p:cNvSpPr/>
          <p:nvPr/>
        </p:nvSpPr>
        <p:spPr>
          <a:xfrm>
            <a:off x="200160" y="6272280"/>
            <a:ext cx="31428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94" name="Rectangle 12"/>
          <p:cNvSpPr/>
          <p:nvPr/>
        </p:nvSpPr>
        <p:spPr>
          <a:xfrm>
            <a:off x="171360" y="4973760"/>
            <a:ext cx="8758440" cy="1365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9bbace"/>
                </a:solidFill>
                <a:latin typeface="Arial"/>
                <a:ea typeface="Arial Unicode MS"/>
              </a:rPr>
              <a:t>Pré-Production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1" marL="820800" indent="-417600">
              <a:spcBef>
                <a:spcPts val="34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harger des fichiers XML (données réelles) sur plateforme ENT de pré-production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lvl="1" marL="820800" indent="-41760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ester la Migration des donnée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pour les projets possédant un existant en matière d’ENT sur un nombre limité d’établissements (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Mise en place la clef de jointure, bascule des identifiants/mots de passe)</a:t>
            </a:r>
            <a:endParaRPr b="0" lang="en-US" sz="15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95" name="Rectangle 13"/>
          <p:cNvSpPr/>
          <p:nvPr/>
        </p:nvSpPr>
        <p:spPr>
          <a:xfrm>
            <a:off x="171360" y="6426360"/>
            <a:ext cx="8759880" cy="4032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9bbace"/>
                </a:solidFill>
                <a:latin typeface="Arial"/>
                <a:ea typeface="Arial Unicode MS"/>
              </a:rPr>
              <a:t>Mise en production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CB36-15FD-4A39-94D1-8E024B90B704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97" name="AutoShape 2"/>
          <p:cNvSpPr/>
          <p:nvPr/>
        </p:nvSpPr>
        <p:spPr>
          <a:xfrm>
            <a:off x="185760" y="2786040"/>
            <a:ext cx="8958240" cy="1600200"/>
          </a:xfrm>
          <a:prstGeom prst="rightArrow">
            <a:avLst>
              <a:gd name="adj1" fmla="val 50000"/>
              <a:gd name="adj2" fmla="val 13995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142920" y="3157560"/>
            <a:ext cx="2192400" cy="83484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4813200" y="3141720"/>
            <a:ext cx="2857680" cy="871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3171960" y="3143160"/>
            <a:ext cx="1644480" cy="8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328840" y="3162240"/>
            <a:ext cx="822240" cy="835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602" name="Group 7"/>
          <p:cNvGrpSpPr/>
          <p:nvPr/>
        </p:nvGrpSpPr>
        <p:grpSpPr>
          <a:xfrm>
            <a:off x="527040" y="3330720"/>
            <a:ext cx="6627600" cy="276480"/>
            <a:chOff x="527040" y="3330720"/>
            <a:chExt cx="6627600" cy="276480"/>
          </a:xfrm>
        </p:grpSpPr>
        <p:sp>
          <p:nvSpPr>
            <p:cNvPr id="603" name="Text Box 8"/>
            <p:cNvSpPr/>
            <p:nvPr/>
          </p:nvSpPr>
          <p:spPr>
            <a:xfrm>
              <a:off x="527040" y="3330720"/>
              <a:ext cx="15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é requi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04" name="Text Box 9"/>
            <p:cNvSpPr/>
            <p:nvPr/>
          </p:nvSpPr>
          <p:spPr>
            <a:xfrm>
              <a:off x="5283720" y="3330720"/>
              <a:ext cx="187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oduc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3293280" y="3330720"/>
              <a:ext cx="137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é produc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2231280" y="333072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stalla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nning type de 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mise en œuvr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e  proje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timation à adapter en fonction de chaque projet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13"/>
          <p:cNvSpPr/>
          <p:nvPr/>
        </p:nvSpPr>
        <p:spPr>
          <a:xfrm>
            <a:off x="2335320" y="2022480"/>
            <a:ext cx="1440" cy="4044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09" name="Line 14"/>
          <p:cNvSpPr/>
          <p:nvPr/>
        </p:nvSpPr>
        <p:spPr>
          <a:xfrm flipH="1">
            <a:off x="3406320" y="2065320"/>
            <a:ext cx="17640" cy="4159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10" name="Line 15"/>
          <p:cNvSpPr/>
          <p:nvPr/>
        </p:nvSpPr>
        <p:spPr>
          <a:xfrm flipH="1">
            <a:off x="4476600" y="2008080"/>
            <a:ext cx="30240" cy="4173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11" name="Line 16"/>
          <p:cNvSpPr/>
          <p:nvPr/>
        </p:nvSpPr>
        <p:spPr>
          <a:xfrm>
            <a:off x="5603760" y="2386080"/>
            <a:ext cx="1800" cy="3859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12" name="Line 17"/>
          <p:cNvSpPr/>
          <p:nvPr/>
        </p:nvSpPr>
        <p:spPr>
          <a:xfrm>
            <a:off x="6657840" y="2022480"/>
            <a:ext cx="14400" cy="4059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12708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122544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615" name="Group 20"/>
          <p:cNvGrpSpPr/>
          <p:nvPr/>
        </p:nvGrpSpPr>
        <p:grpSpPr>
          <a:xfrm>
            <a:off x="2178000" y="2065320"/>
            <a:ext cx="5125680" cy="276480"/>
            <a:chOff x="2178000" y="2065320"/>
            <a:chExt cx="5125680" cy="276480"/>
          </a:xfrm>
        </p:grpSpPr>
        <p:sp>
          <p:nvSpPr>
            <p:cNvPr id="616" name="Text Box 21"/>
            <p:cNvSpPr/>
            <p:nvPr/>
          </p:nvSpPr>
          <p:spPr>
            <a:xfrm>
              <a:off x="2178000" y="2065320"/>
              <a:ext cx="9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0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17" name="Text Box 22"/>
            <p:cNvSpPr/>
            <p:nvPr/>
          </p:nvSpPr>
          <p:spPr>
            <a:xfrm>
              <a:off x="3120840" y="2065320"/>
              <a:ext cx="94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0+1Moi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18" name="Text Box 23"/>
            <p:cNvSpPr/>
            <p:nvPr/>
          </p:nvSpPr>
          <p:spPr>
            <a:xfrm>
              <a:off x="4174560" y="2065320"/>
              <a:ext cx="94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0+2Moi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19" name="Text Box 24"/>
            <p:cNvSpPr/>
            <p:nvPr/>
          </p:nvSpPr>
          <p:spPr>
            <a:xfrm>
              <a:off x="5240880" y="2065320"/>
              <a:ext cx="95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0+3Moi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20" name="Text Box 25"/>
            <p:cNvSpPr/>
            <p:nvPr/>
          </p:nvSpPr>
          <p:spPr>
            <a:xfrm>
              <a:off x="6354720" y="2065320"/>
              <a:ext cx="94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0+4Moi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621" name="Line 26"/>
          <p:cNvSpPr/>
          <p:nvPr/>
        </p:nvSpPr>
        <p:spPr>
          <a:xfrm>
            <a:off x="0" y="2386080"/>
            <a:ext cx="92836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622" name="Group 27"/>
          <p:cNvGrpSpPr/>
          <p:nvPr/>
        </p:nvGrpSpPr>
        <p:grpSpPr>
          <a:xfrm>
            <a:off x="128520" y="4602240"/>
            <a:ext cx="8753400" cy="583920"/>
            <a:chOff x="128520" y="4602240"/>
            <a:chExt cx="8753400" cy="583920"/>
          </a:xfrm>
        </p:grpSpPr>
        <p:sp>
          <p:nvSpPr>
            <p:cNvPr id="623" name="Text Box 28"/>
            <p:cNvSpPr/>
            <p:nvPr/>
          </p:nvSpPr>
          <p:spPr>
            <a:xfrm>
              <a:off x="128520" y="4602240"/>
              <a:ext cx="8753400" cy="307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UIVI , pilotage par la Maitrise d’ouvrage Collectivité locale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24" name="Text Box 29"/>
            <p:cNvSpPr/>
            <p:nvPr/>
          </p:nvSpPr>
          <p:spPr>
            <a:xfrm>
              <a:off x="128520" y="4879080"/>
              <a:ext cx="8753400" cy="30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UIVI , pilotage par la Maitrise d’ouvrage Rectorat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625" name="Rectangle 30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146160" y="5410080"/>
            <a:ext cx="8754840" cy="30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ensibilisation des Chefs d’établissement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06C0-D1F4-4584-9BB5-D3BC5D5F3339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262080" y="1425600"/>
            <a:ext cx="8003880" cy="981000"/>
          </a:xfrm>
          <a:prstGeom prst="rightArrow">
            <a:avLst>
              <a:gd name="adj1" fmla="val 50000"/>
              <a:gd name="adj2" fmla="val 203972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223920" y="1652760"/>
            <a:ext cx="1958760" cy="449388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4397400" y="1643040"/>
            <a:ext cx="2552760" cy="534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2930400" y="1644480"/>
            <a:ext cx="1468440" cy="52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2176560" y="1655640"/>
            <a:ext cx="734760" cy="51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633" name="Group 7"/>
          <p:cNvGrpSpPr/>
          <p:nvPr/>
        </p:nvGrpSpPr>
        <p:grpSpPr>
          <a:xfrm>
            <a:off x="566640" y="1758960"/>
            <a:ext cx="5921280" cy="459000"/>
            <a:chOff x="566640" y="1758960"/>
            <a:chExt cx="5921280" cy="459000"/>
          </a:xfrm>
        </p:grpSpPr>
        <p:sp>
          <p:nvSpPr>
            <p:cNvPr id="634" name="Text Box 8"/>
            <p:cNvSpPr/>
            <p:nvPr/>
          </p:nvSpPr>
          <p:spPr>
            <a:xfrm>
              <a:off x="566640" y="175896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é requi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35" name="Text Box 9"/>
            <p:cNvSpPr/>
            <p:nvPr/>
          </p:nvSpPr>
          <p:spPr>
            <a:xfrm>
              <a:off x="4815360" y="1758960"/>
              <a:ext cx="167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oduc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36" name="Text Box 10"/>
            <p:cNvSpPr/>
            <p:nvPr/>
          </p:nvSpPr>
          <p:spPr>
            <a:xfrm>
              <a:off x="3037680" y="1758960"/>
              <a:ext cx="1230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é produc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37" name="Text Box 11"/>
            <p:cNvSpPr/>
            <p:nvPr/>
          </p:nvSpPr>
          <p:spPr>
            <a:xfrm>
              <a:off x="2090160" y="1758960"/>
              <a:ext cx="94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stalla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47280" y="174240"/>
            <a:ext cx="62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nning type de 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mise en œuvr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e  projet </a:t>
            </a:r>
            <a:br>
              <a:rPr sz="1600"/>
            </a:br>
            <a:br>
              <a:rPr sz="16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é-requ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12708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22544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41" name="Rectangle 15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7240" y="4140360"/>
            <a:ext cx="2212920" cy="29340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chat des plateformes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43" name="Text Box 17"/>
          <p:cNvSpPr/>
          <p:nvPr/>
        </p:nvSpPr>
        <p:spPr>
          <a:xfrm>
            <a:off x="57240" y="5268960"/>
            <a:ext cx="2212920" cy="4762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ests sur les données anonymisées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44" name="Text Box 18"/>
          <p:cNvSpPr/>
          <p:nvPr/>
        </p:nvSpPr>
        <p:spPr>
          <a:xfrm>
            <a:off x="57240" y="4533840"/>
            <a:ext cx="2212920" cy="5684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Mise en conformité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de l Annuaire ENT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45" name="Text Box 19"/>
          <p:cNvSpPr/>
          <p:nvPr/>
        </p:nvSpPr>
        <p:spPr>
          <a:xfrm>
            <a:off x="14400" y="3619440"/>
            <a:ext cx="2212920" cy="274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Fiabiliser les données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46" name="Rectangle 20"/>
          <p:cNvSpPr/>
          <p:nvPr/>
        </p:nvSpPr>
        <p:spPr>
          <a:xfrm>
            <a:off x="57240" y="2814480"/>
            <a:ext cx="2214360" cy="5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Nommer un chef de projet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nnuaire ENT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647" name="Group 21"/>
          <p:cNvGrpSpPr/>
          <p:nvPr/>
        </p:nvGrpSpPr>
        <p:grpSpPr>
          <a:xfrm>
            <a:off x="1625760" y="6458040"/>
            <a:ext cx="7394400" cy="415800"/>
            <a:chOff x="1625760" y="6458040"/>
            <a:chExt cx="7394400" cy="415800"/>
          </a:xfrm>
        </p:grpSpPr>
        <p:sp>
          <p:nvSpPr>
            <p:cNvPr id="648" name="Rectangle 22"/>
            <p:cNvSpPr/>
            <p:nvPr/>
          </p:nvSpPr>
          <p:spPr>
            <a:xfrm>
              <a:off x="1625760" y="6458040"/>
              <a:ext cx="739440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es acteurs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49" name="Text Box 23"/>
            <p:cNvSpPr/>
            <p:nvPr/>
          </p:nvSpPr>
          <p:spPr>
            <a:xfrm>
              <a:off x="3216240" y="6588000"/>
              <a:ext cx="1725480" cy="246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hefs d’établissement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50" name="Text Box 24"/>
            <p:cNvSpPr/>
            <p:nvPr/>
          </p:nvSpPr>
          <p:spPr>
            <a:xfrm>
              <a:off x="5192640" y="6588000"/>
              <a:ext cx="1731960" cy="246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ctorat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51" name="Text Box 25"/>
            <p:cNvSpPr/>
            <p:nvPr/>
          </p:nvSpPr>
          <p:spPr>
            <a:xfrm>
              <a:off x="7165800" y="6588000"/>
              <a:ext cx="152424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égrateur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652" name="AutoShape 26">
            <a:hlinkClick r:id="" action="ppaction://hlinkshowjump?jump=previousslide"/>
          </p:cNvPr>
          <p:cNvSpPr/>
          <p:nvPr/>
        </p:nvSpPr>
        <p:spPr>
          <a:xfrm>
            <a:off x="2359080" y="4167360"/>
            <a:ext cx="369720" cy="264960"/>
          </a:xfrm>
          <a:custGeom>
            <a:avLst/>
            <a:gdLst>
              <a:gd name="textAreaLeft" fmla="*/ 16920 w 369720"/>
              <a:gd name="textAreaRight" fmla="*/ 352800 w 36972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30129" h="21600">
                <a:moveTo>
                  <a:pt x="0" y="0"/>
                </a:moveTo>
                <a:lnTo>
                  <a:pt x="30129" y="0"/>
                </a:lnTo>
                <a:lnTo>
                  <a:pt x="30129" y="21600"/>
                </a:lnTo>
                <a:lnTo>
                  <a:pt x="0" y="21600"/>
                </a:lnTo>
                <a:close/>
              </a:path>
              <a:path fill="lightenLess" w="30129" h="21600">
                <a:moveTo>
                  <a:pt x="0" y="0"/>
                </a:moveTo>
                <a:lnTo>
                  <a:pt x="30129" y="0"/>
                </a:lnTo>
                <a:lnTo>
                  <a:pt x="28729" y="1400"/>
                </a:lnTo>
                <a:lnTo>
                  <a:pt x="1400" y="1400"/>
                </a:lnTo>
                <a:close/>
              </a:path>
              <a:path fill="darken" w="30129" h="21600">
                <a:moveTo>
                  <a:pt x="30129" y="0"/>
                </a:moveTo>
                <a:lnTo>
                  <a:pt x="30129" y="21600"/>
                </a:lnTo>
                <a:lnTo>
                  <a:pt x="28729" y="20200"/>
                </a:lnTo>
                <a:lnTo>
                  <a:pt x="28729" y="1400"/>
                </a:lnTo>
                <a:close/>
              </a:path>
              <a:path fill="darkenLess" w="30129" h="21600">
                <a:moveTo>
                  <a:pt x="301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29" y="20200"/>
                </a:lnTo>
                <a:close/>
              </a:path>
              <a:path fill="lighten" w="301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29" h="21600">
                <a:moveTo>
                  <a:pt x="8058" y="10800"/>
                </a:moveTo>
                <a:lnTo>
                  <a:pt x="22071" y="3794"/>
                </a:lnTo>
                <a:lnTo>
                  <a:pt x="22071" y="17806"/>
                </a:lnTo>
                <a:close/>
              </a:path>
            </a:pathLst>
          </a:custGeom>
          <a:solidFill>
            <a:srgbClr val="ffff00"/>
          </a:solidFill>
          <a:ln w="442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53" name="Rectangle 26"/>
          <p:cNvSpPr/>
          <p:nvPr/>
        </p:nvSpPr>
        <p:spPr>
          <a:xfrm>
            <a:off x="2936880" y="2066760"/>
            <a:ext cx="61358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rastructure de l’annuaire fédérateur (AAF)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base de donnée DB2 de l’AAF doit être installée sur un serveur :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rveur Bi-pro 64 bits 8 Go (licence DB2)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s scripts java de AAF sont implantés sur un nouveau serveur Bi-pro 32 bits ayant une capacité de stockage de 2 x 143 Go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agent SUNOPSIS devra également être installé sur ce nouveau serveur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s extractions ENT et EPLE sont stockées sur ce même serveur.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mise à disposition des extractions ENT se fera à l’initiative du CATI vers l’infrastructure ENT par transferts SFTP (clés de cryptage à prévoir)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guichet est en cours d’étude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654" name="Picture 28" descr="logoMENESR"/>
          <p:cNvPicPr/>
          <p:nvPr/>
        </p:nvPicPr>
        <p:blipFill>
          <a:blip r:embed="rId3"/>
          <a:stretch/>
        </p:blipFill>
        <p:spPr>
          <a:xfrm>
            <a:off x="184320" y="216000"/>
            <a:ext cx="1315800" cy="12636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29"/>
          <p:cNvSpPr/>
          <p:nvPr/>
        </p:nvSpPr>
        <p:spPr>
          <a:xfrm>
            <a:off x="7666200" y="190440"/>
            <a:ext cx="1477800" cy="12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4FBF-EB5E-4CAF-942F-16929324057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708120" y="1654200"/>
            <a:ext cx="1457280" cy="480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58" name="AutoShape 3"/>
          <p:cNvSpPr/>
          <p:nvPr/>
        </p:nvSpPr>
        <p:spPr>
          <a:xfrm>
            <a:off x="712800" y="1420920"/>
            <a:ext cx="7553160" cy="981000"/>
          </a:xfrm>
          <a:prstGeom prst="rightArrow">
            <a:avLst>
              <a:gd name="adj1" fmla="val 52750"/>
              <a:gd name="adj2" fmla="val 204392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223920" y="1652760"/>
            <a:ext cx="135000" cy="51084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93840" y="1654200"/>
            <a:ext cx="133200" cy="511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90840" y="37440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lanning type de mise en œuvre du projet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549360" y="1654200"/>
            <a:ext cx="13320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480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2828880" y="2322360"/>
            <a:ext cx="595800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3920" indent="-223920">
              <a:spcBef>
                <a:spcPts val="425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235080" y="2306520"/>
            <a:ext cx="1888920" cy="884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ffectuer migration comptes existants d’1 EPLE (15j)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ou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créer ex-nihilo les compte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235080" y="4048200"/>
            <a:ext cx="1888920" cy="244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Suivi académique 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235080" y="4417920"/>
            <a:ext cx="1888920" cy="3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n liaison avec les chefs d’établissement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235080" y="3316320"/>
            <a:ext cx="1888920" cy="604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Prise en compte des modifications par delta (XML)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714240" y="4941720"/>
            <a:ext cx="1409760" cy="816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itialisation avec données rentrée 2007/2008 (par delta ou complet)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712800" y="5884920"/>
            <a:ext cx="1411200" cy="50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cb0a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Fin mise en 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71" name="AutoShape 16">
            <a:hlinkClick r:id="" action="ppaction://hlinkshowjump?jump=previousslide"/>
          </p:cNvPr>
          <p:cNvSpPr/>
          <p:nvPr/>
        </p:nvSpPr>
        <p:spPr>
          <a:xfrm>
            <a:off x="2359080" y="5226120"/>
            <a:ext cx="369720" cy="264960"/>
          </a:xfrm>
          <a:custGeom>
            <a:avLst/>
            <a:gdLst>
              <a:gd name="textAreaLeft" fmla="*/ 16920 w 369720"/>
              <a:gd name="textAreaRight" fmla="*/ 352800 w 36972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30129" h="21600">
                <a:moveTo>
                  <a:pt x="0" y="0"/>
                </a:moveTo>
                <a:lnTo>
                  <a:pt x="30129" y="0"/>
                </a:lnTo>
                <a:lnTo>
                  <a:pt x="30129" y="21600"/>
                </a:lnTo>
                <a:lnTo>
                  <a:pt x="0" y="21600"/>
                </a:lnTo>
                <a:close/>
              </a:path>
              <a:path fill="lightenLess" w="30129" h="21600">
                <a:moveTo>
                  <a:pt x="0" y="0"/>
                </a:moveTo>
                <a:lnTo>
                  <a:pt x="30129" y="0"/>
                </a:lnTo>
                <a:lnTo>
                  <a:pt x="28729" y="1400"/>
                </a:lnTo>
                <a:lnTo>
                  <a:pt x="1400" y="1400"/>
                </a:lnTo>
                <a:close/>
              </a:path>
              <a:path fill="darken" w="30129" h="21600">
                <a:moveTo>
                  <a:pt x="30129" y="0"/>
                </a:moveTo>
                <a:lnTo>
                  <a:pt x="30129" y="21600"/>
                </a:lnTo>
                <a:lnTo>
                  <a:pt x="28729" y="20200"/>
                </a:lnTo>
                <a:lnTo>
                  <a:pt x="28729" y="1400"/>
                </a:lnTo>
                <a:close/>
              </a:path>
              <a:path fill="darkenLess" w="30129" h="21600">
                <a:moveTo>
                  <a:pt x="301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29" y="20200"/>
                </a:lnTo>
                <a:close/>
              </a:path>
              <a:path fill="lighten" w="301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29" h="21600">
                <a:moveTo>
                  <a:pt x="8058" y="10800"/>
                </a:moveTo>
                <a:lnTo>
                  <a:pt x="22071" y="3794"/>
                </a:lnTo>
                <a:lnTo>
                  <a:pt x="22071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72" name="AutoShape 17">
            <a:hlinkClick r:id="" action="ppaction://hlinkshowjump?jump=previousslide"/>
          </p:cNvPr>
          <p:cNvSpPr/>
          <p:nvPr/>
        </p:nvSpPr>
        <p:spPr>
          <a:xfrm>
            <a:off x="2359080" y="6006960"/>
            <a:ext cx="369720" cy="265320"/>
          </a:xfrm>
          <a:custGeom>
            <a:avLst/>
            <a:gdLst>
              <a:gd name="textAreaLeft" fmla="*/ 16920 w 369720"/>
              <a:gd name="textAreaRight" fmla="*/ 352800 w 36972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30088" h="21600">
                <a:moveTo>
                  <a:pt x="0" y="0"/>
                </a:moveTo>
                <a:lnTo>
                  <a:pt x="30088" y="0"/>
                </a:lnTo>
                <a:lnTo>
                  <a:pt x="30088" y="21600"/>
                </a:lnTo>
                <a:lnTo>
                  <a:pt x="0" y="21600"/>
                </a:lnTo>
                <a:close/>
              </a:path>
              <a:path fill="lightenLess" w="30088" h="21600">
                <a:moveTo>
                  <a:pt x="0" y="0"/>
                </a:moveTo>
                <a:lnTo>
                  <a:pt x="30088" y="0"/>
                </a:lnTo>
                <a:lnTo>
                  <a:pt x="28688" y="1400"/>
                </a:lnTo>
                <a:lnTo>
                  <a:pt x="1400" y="1400"/>
                </a:lnTo>
                <a:close/>
              </a:path>
              <a:path fill="darken" w="30088" h="21600">
                <a:moveTo>
                  <a:pt x="30088" y="0"/>
                </a:moveTo>
                <a:lnTo>
                  <a:pt x="30088" y="21600"/>
                </a:lnTo>
                <a:lnTo>
                  <a:pt x="28688" y="20200"/>
                </a:lnTo>
                <a:lnTo>
                  <a:pt x="28688" y="1400"/>
                </a:lnTo>
                <a:close/>
              </a:path>
              <a:path fill="darkenLess" w="30088" h="21600">
                <a:moveTo>
                  <a:pt x="30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8" y="20200"/>
                </a:lnTo>
                <a:close/>
              </a:path>
              <a:path fill="lighten" w="30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8" h="21600">
                <a:moveTo>
                  <a:pt x="8037" y="10800"/>
                </a:moveTo>
                <a:lnTo>
                  <a:pt x="22050" y="3794"/>
                </a:lnTo>
                <a:lnTo>
                  <a:pt x="22050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673" name="Group 18"/>
          <p:cNvGrpSpPr/>
          <p:nvPr/>
        </p:nvGrpSpPr>
        <p:grpSpPr>
          <a:xfrm>
            <a:off x="1625760" y="6442200"/>
            <a:ext cx="7394400" cy="415800"/>
            <a:chOff x="1625760" y="6442200"/>
            <a:chExt cx="7394400" cy="415800"/>
          </a:xfrm>
        </p:grpSpPr>
        <p:sp>
          <p:nvSpPr>
            <p:cNvPr id="674" name="Rectangle 19"/>
            <p:cNvSpPr/>
            <p:nvPr/>
          </p:nvSpPr>
          <p:spPr>
            <a:xfrm>
              <a:off x="1625760" y="6442200"/>
              <a:ext cx="739440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es acteurs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75" name="Text Box 20"/>
            <p:cNvSpPr/>
            <p:nvPr/>
          </p:nvSpPr>
          <p:spPr>
            <a:xfrm>
              <a:off x="3216240" y="6572160"/>
              <a:ext cx="1725480" cy="246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hefs d’établissement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76" name="Text Box 21"/>
            <p:cNvSpPr/>
            <p:nvPr/>
          </p:nvSpPr>
          <p:spPr>
            <a:xfrm>
              <a:off x="5192640" y="6572160"/>
              <a:ext cx="1731960" cy="246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ctorat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77" name="Text Box 22"/>
            <p:cNvSpPr/>
            <p:nvPr/>
          </p:nvSpPr>
          <p:spPr>
            <a:xfrm>
              <a:off x="7165800" y="6572160"/>
              <a:ext cx="152424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égrateur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678" name="Rectangle 26"/>
          <p:cNvSpPr/>
          <p:nvPr/>
        </p:nvSpPr>
        <p:spPr>
          <a:xfrm>
            <a:off x="2825640" y="4194000"/>
            <a:ext cx="5910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 partir de mai les chefs d’établissement travaillent sur deux bases SCONET (année 2007 et année 2008)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configuration l’annuaire peut prendre les données 2007 ou bien directement les données 2008.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appartient à chaque projet d’évaluer sur quelle base SCONET les essais de pré-production doivent être faits.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rs d’une bascule de rentrée, il faut configurer l’annuaire fédérateur pour qu’il pointent sur la nouvelle base SCONET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évolutions peuvent être traîtées par le mécanisme des deltas. L’annuaire fédérateur garantit la continuité de l’identifiant d’une année scolaire à l’autre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679" name="Picture 24" descr="logoMENESR"/>
          <p:cNvPicPr/>
          <p:nvPr/>
        </p:nvPicPr>
        <p:blipFill>
          <a:blip r:embed="rId3"/>
          <a:stretch/>
        </p:blipFill>
        <p:spPr>
          <a:xfrm>
            <a:off x="184320" y="247680"/>
            <a:ext cx="1315800" cy="128916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25"/>
          <p:cNvSpPr/>
          <p:nvPr/>
        </p:nvSpPr>
        <p:spPr>
          <a:xfrm>
            <a:off x="7666200" y="190440"/>
            <a:ext cx="1477800" cy="12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46F2-F455-4B04-BB4D-13DCDEB9F34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82" name="AutoShape 2"/>
          <p:cNvSpPr/>
          <p:nvPr/>
        </p:nvSpPr>
        <p:spPr>
          <a:xfrm>
            <a:off x="380880" y="1600200"/>
            <a:ext cx="3932280" cy="2314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83" name="AutoShape 3"/>
          <p:cNvSpPr/>
          <p:nvPr/>
        </p:nvSpPr>
        <p:spPr>
          <a:xfrm>
            <a:off x="609480" y="2209680"/>
            <a:ext cx="89388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AA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684" name="Group 4"/>
          <p:cNvGrpSpPr/>
          <p:nvPr/>
        </p:nvGrpSpPr>
        <p:grpSpPr>
          <a:xfrm>
            <a:off x="6268680" y="4881600"/>
            <a:ext cx="1023480" cy="1273320"/>
            <a:chOff x="6268680" y="4881600"/>
            <a:chExt cx="1023480" cy="1273320"/>
          </a:xfrm>
        </p:grpSpPr>
        <p:pic>
          <p:nvPicPr>
            <p:cNvPr id="685" name="Picture 5" descr=""/>
            <p:cNvPicPr/>
            <p:nvPr/>
          </p:nvPicPr>
          <p:blipFill>
            <a:blip r:embed="rId1"/>
            <a:stretch/>
          </p:blipFill>
          <p:spPr>
            <a:xfrm>
              <a:off x="6284880" y="4881600"/>
              <a:ext cx="36036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6" descr=""/>
            <p:cNvPicPr/>
            <p:nvPr/>
          </p:nvPicPr>
          <p:blipFill>
            <a:blip r:embed="rId2"/>
            <a:stretch/>
          </p:blipFill>
          <p:spPr>
            <a:xfrm>
              <a:off x="6705720" y="5091120"/>
              <a:ext cx="3603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Text Box 7"/>
            <p:cNvSpPr/>
            <p:nvPr/>
          </p:nvSpPr>
          <p:spPr>
            <a:xfrm>
              <a:off x="6268680" y="5513400"/>
              <a:ext cx="1023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Élève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nseignant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arents…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688" name="AutoShape 8"/>
          <p:cNvSpPr/>
          <p:nvPr/>
        </p:nvSpPr>
        <p:spPr>
          <a:xfrm>
            <a:off x="609480" y="2133720"/>
            <a:ext cx="893880" cy="41724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DAP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689" name="Group 9"/>
          <p:cNvGrpSpPr/>
          <p:nvPr/>
        </p:nvGrpSpPr>
        <p:grpSpPr>
          <a:xfrm>
            <a:off x="4678200" y="2128680"/>
            <a:ext cx="1219320" cy="1583280"/>
            <a:chOff x="4678200" y="2128680"/>
            <a:chExt cx="1219320" cy="1583280"/>
          </a:xfrm>
        </p:grpSpPr>
        <p:sp>
          <p:nvSpPr>
            <p:cNvPr id="690" name="AutoShape 10"/>
            <p:cNvSpPr/>
            <p:nvPr/>
          </p:nvSpPr>
          <p:spPr>
            <a:xfrm>
              <a:off x="5056920" y="2128680"/>
              <a:ext cx="435960" cy="574200"/>
            </a:xfrm>
            <a:prstGeom prst="foldedCorner">
              <a:avLst>
                <a:gd name="adj" fmla="val 125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br>
                <a:rPr sz="1400"/>
              </a:br>
              <a:br>
                <a:rPr sz="1400"/>
              </a:b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691" name="Text Box 11"/>
            <p:cNvSpPr/>
            <p:nvPr/>
          </p:nvSpPr>
          <p:spPr>
            <a:xfrm>
              <a:off x="4678200" y="2430000"/>
              <a:ext cx="12193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d1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Fichier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limentation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ML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cxnSp>
        <p:nvCxnSpPr>
          <p:cNvPr id="692" name="AutoShape 12"/>
          <p:cNvCxnSpPr>
            <a:stCxn id="693" idx="4"/>
          </p:cNvCxnSpPr>
          <p:nvPr/>
        </p:nvCxnSpPr>
        <p:spPr>
          <a:xfrm flipV="1">
            <a:off x="4222440" y="2918520"/>
            <a:ext cx="827640" cy="19800"/>
          </a:xfrm>
          <a:prstGeom prst="straightConnector1">
            <a:avLst/>
          </a:prstGeom>
          <a:ln w="76320">
            <a:solidFill>
              <a:srgbClr val="cb232a"/>
            </a:solidFill>
            <a:miter/>
            <a:tailEnd len="med" type="triangle" w="med"/>
          </a:ln>
        </p:spPr>
      </p:cxnSp>
      <p:sp>
        <p:nvSpPr>
          <p:cNvPr id="694" name="Text Box 13"/>
          <p:cNvSpPr/>
          <p:nvPr/>
        </p:nvSpPr>
        <p:spPr>
          <a:xfrm>
            <a:off x="4511520" y="5905440"/>
            <a:ext cx="166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Demande de modification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695" name="Picture 14" descr=""/>
          <p:cNvPicPr/>
          <p:nvPr/>
        </p:nvPicPr>
        <p:blipFill>
          <a:blip r:embed="rId3"/>
          <a:stretch/>
        </p:blipFill>
        <p:spPr>
          <a:xfrm>
            <a:off x="7848720" y="4699080"/>
            <a:ext cx="1066680" cy="1036440"/>
          </a:xfrm>
          <a:prstGeom prst="rect">
            <a:avLst/>
          </a:prstGeom>
          <a:ln w="0">
            <a:noFill/>
          </a:ln>
        </p:spPr>
      </p:pic>
      <p:cxnSp>
        <p:nvCxnSpPr>
          <p:cNvPr id="696" name="AutoShape 15"/>
          <p:cNvCxnSpPr>
            <a:stCxn id="687" idx="1"/>
          </p:cNvCxnSpPr>
          <p:nvPr/>
        </p:nvCxnSpPr>
        <p:spPr>
          <a:xfrm flipH="1" flipV="1">
            <a:off x="4136400" y="5820840"/>
            <a:ext cx="2135880" cy="13680"/>
          </a:xfrm>
          <a:prstGeom prst="straightConnector1">
            <a:avLst/>
          </a:prstGeom>
          <a:ln w="28440">
            <a:solidFill>
              <a:srgbClr val="cd0028"/>
            </a:solidFill>
            <a:miter/>
            <a:tailEnd len="med" type="triangle" w="med"/>
          </a:ln>
        </p:spPr>
      </p:cxnSp>
      <p:sp>
        <p:nvSpPr>
          <p:cNvPr id="697" name="Text Box 16"/>
          <p:cNvSpPr/>
          <p:nvPr/>
        </p:nvSpPr>
        <p:spPr>
          <a:xfrm>
            <a:off x="7818480" y="5616720"/>
            <a:ext cx="127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dminist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Ou autre sourc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98" name="AutoShape 17"/>
          <p:cNvSpPr/>
          <p:nvPr/>
        </p:nvSpPr>
        <p:spPr>
          <a:xfrm>
            <a:off x="1878120" y="2147760"/>
            <a:ext cx="89352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99" name="AutoShape 18"/>
          <p:cNvSpPr/>
          <p:nvPr/>
        </p:nvSpPr>
        <p:spPr>
          <a:xfrm>
            <a:off x="1762200" y="1989000"/>
            <a:ext cx="89352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PP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700" name="AutoShape 19"/>
          <p:cNvCxnSpPr>
            <a:stCxn id="701" idx="0"/>
            <a:endCxn id="702" idx="2"/>
          </p:cNvCxnSpPr>
          <p:nvPr/>
        </p:nvCxnSpPr>
        <p:spPr>
          <a:xfrm flipV="1">
            <a:off x="2185560" y="4103280"/>
            <a:ext cx="740520" cy="1154880"/>
          </a:xfrm>
          <a:prstGeom prst="straightConnector1">
            <a:avLst/>
          </a:prstGeom>
          <a:ln w="57240">
            <a:solidFill>
              <a:srgbClr val="cd0028"/>
            </a:solidFill>
            <a:miter/>
            <a:tailEnd len="med" type="triangle" w="med"/>
          </a:ln>
        </p:spPr>
      </p:cxnSp>
      <p:grpSp>
        <p:nvGrpSpPr>
          <p:cNvPr id="703" name="Group 20"/>
          <p:cNvGrpSpPr/>
          <p:nvPr/>
        </p:nvGrpSpPr>
        <p:grpSpPr>
          <a:xfrm>
            <a:off x="533520" y="5257800"/>
            <a:ext cx="3305160" cy="1096200"/>
            <a:chOff x="533520" y="5257800"/>
            <a:chExt cx="3305160" cy="1096200"/>
          </a:xfrm>
        </p:grpSpPr>
        <p:sp>
          <p:nvSpPr>
            <p:cNvPr id="701" name="AutoShape 21"/>
            <p:cNvSpPr/>
            <p:nvPr/>
          </p:nvSpPr>
          <p:spPr>
            <a:xfrm>
              <a:off x="533520" y="5257800"/>
              <a:ext cx="3305160" cy="1064880"/>
            </a:xfrm>
            <a:prstGeom prst="roundRect">
              <a:avLst>
                <a:gd name="adj" fmla="val 16667"/>
              </a:avLst>
            </a:prstGeom>
            <a:solidFill>
              <a:srgbClr val="e6dcc1"/>
            </a:solidFill>
            <a:ln w="12600">
              <a:solidFill>
                <a:srgbClr val="6b5a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6b5a2b"/>
                  </a:solidFill>
                  <a:latin typeface="Arial"/>
                  <a:ea typeface="Arial Unicode MS"/>
                </a:rPr>
                <a:t>Établissement</a:t>
              </a:r>
              <a:endParaRPr b="0" lang="en-US" sz="16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704" name="Group 22"/>
            <p:cNvGrpSpPr/>
            <p:nvPr/>
          </p:nvGrpSpPr>
          <p:grpSpPr>
            <a:xfrm>
              <a:off x="634320" y="5319720"/>
              <a:ext cx="1421280" cy="1034280"/>
              <a:chOff x="634320" y="5319720"/>
              <a:chExt cx="1421280" cy="1034280"/>
            </a:xfrm>
          </p:grpSpPr>
          <p:pic>
            <p:nvPicPr>
              <p:cNvPr id="705" name="Picture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5960" y="531972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Text Box 24"/>
              <p:cNvSpPr/>
              <p:nvPr/>
            </p:nvSpPr>
            <p:spPr>
              <a:xfrm>
                <a:off x="634320" y="5833800"/>
                <a:ext cx="1421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Chef</a:t>
                </a:r>
                <a:br>
                  <a:rPr sz="1400"/>
                </a:b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’établissement</a:t>
                </a:r>
                <a:endParaRPr b="0" lang="en-US" sz="14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</p:grpSp>
      <p:sp>
        <p:nvSpPr>
          <p:cNvPr id="707" name="AutoShape 25"/>
          <p:cNvSpPr/>
          <p:nvPr/>
        </p:nvSpPr>
        <p:spPr>
          <a:xfrm>
            <a:off x="1935000" y="3224160"/>
            <a:ext cx="80964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CONET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693" name="AutoShape 26"/>
          <p:cNvSpPr/>
          <p:nvPr/>
        </p:nvSpPr>
        <p:spPr>
          <a:xfrm>
            <a:off x="3333600" y="2187720"/>
            <a:ext cx="889200" cy="750600"/>
          </a:xfrm>
          <a:prstGeom prst="triangle">
            <a:avLst>
              <a:gd name="adj" fmla="val 50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708" name="AutoShape 27"/>
          <p:cNvCxnSpPr>
            <a:stCxn id="709" idx="4"/>
            <a:endCxn id="693" idx="1"/>
          </p:cNvCxnSpPr>
          <p:nvPr/>
        </p:nvCxnSpPr>
        <p:spPr>
          <a:xfrm flipV="1">
            <a:off x="2714400" y="2563200"/>
            <a:ext cx="842040" cy="84600"/>
          </a:xfrm>
          <a:prstGeom prst="straightConnector1">
            <a:avLst/>
          </a:prstGeom>
          <a:ln w="19080">
            <a:solidFill>
              <a:srgbClr val="cb232a"/>
            </a:solidFill>
            <a:miter/>
            <a:tailEnd len="med" type="triangle" w="med"/>
          </a:ln>
        </p:spPr>
      </p:cxnSp>
      <p:cxnSp>
        <p:nvCxnSpPr>
          <p:cNvPr id="710" name="AutoShape 28"/>
          <p:cNvCxnSpPr>
            <a:stCxn id="707" idx="4"/>
            <a:endCxn id="693" idx="1"/>
          </p:cNvCxnSpPr>
          <p:nvPr/>
        </p:nvCxnSpPr>
        <p:spPr>
          <a:xfrm flipV="1">
            <a:off x="2744640" y="2561400"/>
            <a:ext cx="812160" cy="870840"/>
          </a:xfrm>
          <a:prstGeom prst="straightConnector1">
            <a:avLst/>
          </a:prstGeom>
          <a:ln w="19080">
            <a:solidFill>
              <a:srgbClr val="cb232a"/>
            </a:solidFill>
            <a:miter/>
            <a:tailEnd len="med" type="triangle" w="med"/>
          </a:ln>
        </p:spPr>
      </p:cxnSp>
      <p:sp>
        <p:nvSpPr>
          <p:cNvPr id="711" name="Text Box 29"/>
          <p:cNvSpPr/>
          <p:nvPr/>
        </p:nvSpPr>
        <p:spPr>
          <a:xfrm>
            <a:off x="1812960" y="162252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b232a"/>
                </a:solidFill>
                <a:latin typeface="Arial"/>
                <a:ea typeface="Arial Unicode MS"/>
              </a:rPr>
              <a:t>Académi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12" name="Text Box 30"/>
          <p:cNvSpPr/>
          <p:nvPr/>
        </p:nvSpPr>
        <p:spPr>
          <a:xfrm>
            <a:off x="1539720" y="3657600"/>
            <a:ext cx="17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Bases académiques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13" name="AutoShape 31"/>
          <p:cNvSpPr/>
          <p:nvPr/>
        </p:nvSpPr>
        <p:spPr>
          <a:xfrm>
            <a:off x="6013440" y="1644480"/>
            <a:ext cx="2243160" cy="2313000"/>
          </a:xfrm>
          <a:custGeom>
            <a:avLst/>
            <a:gdLst>
              <a:gd name="textAreaLeft" fmla="*/ 66240 w 2243160"/>
              <a:gd name="textAreaRight" fmla="*/ 2176920 w 2243160"/>
              <a:gd name="textAreaTop" fmla="*/ 66240 h 2313000"/>
              <a:gd name="textAreaBottom" fmla="*/ 2246760 h 2313000"/>
            </a:gdLst>
            <a:ahLst/>
            <a:rect l="textAreaLeft" t="textAreaTop" r="textAreaRight" b="textAreaBottom"/>
            <a:pathLst>
              <a:path w="21600" h="22272">
                <a:moveTo>
                  <a:pt x="2180" y="0"/>
                </a:moveTo>
                <a:arcTo wR="2180" hR="2180" stAng="16200000" swAng="-5400000"/>
                <a:lnTo>
                  <a:pt x="0" y="20092"/>
                </a:lnTo>
                <a:arcTo wR="2180" hR="2180" stAng="10800000" swAng="-5400000"/>
                <a:lnTo>
                  <a:pt x="19420" y="22272"/>
                </a:lnTo>
                <a:arcTo wR="2180" hR="2180" stAng="5400000" swAng="-5400000"/>
                <a:lnTo>
                  <a:pt x="21600" y="2180"/>
                </a:lnTo>
                <a:arcTo wR="2180" hR="2180" stAng="0" swAng="-5400000"/>
                <a:close/>
              </a:path>
            </a:pathLst>
          </a:custGeom>
          <a:solidFill>
            <a:srgbClr val="caeab4"/>
          </a:solidFill>
          <a:ln w="12600">
            <a:solidFill>
              <a:srgbClr val="60a9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0a92f"/>
                </a:solidFill>
                <a:latin typeface="Arial"/>
                <a:ea typeface="Arial Unicode MS"/>
              </a:rPr>
              <a:t>ENT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14" name="Text Box 32"/>
          <p:cNvSpPr/>
          <p:nvPr/>
        </p:nvSpPr>
        <p:spPr>
          <a:xfrm>
            <a:off x="6353280" y="2117880"/>
            <a:ext cx="582480" cy="252360"/>
          </a:xfrm>
          <a:prstGeom prst="rect">
            <a:avLst/>
          </a:prstGeom>
          <a:solidFill>
            <a:srgbClr val="cde5e4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15" name="Text Box 33"/>
          <p:cNvSpPr/>
          <p:nvPr/>
        </p:nvSpPr>
        <p:spPr>
          <a:xfrm>
            <a:off x="6985080" y="2117880"/>
            <a:ext cx="582480" cy="252360"/>
          </a:xfrm>
          <a:prstGeom prst="rect">
            <a:avLst/>
          </a:prstGeom>
          <a:solidFill>
            <a:srgbClr val="cde5e4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16" name="Text Box 34"/>
          <p:cNvSpPr/>
          <p:nvPr/>
        </p:nvSpPr>
        <p:spPr>
          <a:xfrm>
            <a:off x="7618320" y="2117880"/>
            <a:ext cx="582840" cy="252360"/>
          </a:xfrm>
          <a:prstGeom prst="rect">
            <a:avLst/>
          </a:prstGeom>
          <a:solidFill>
            <a:srgbClr val="cde5e4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17" name="AutoShape 35"/>
          <p:cNvSpPr/>
          <p:nvPr/>
        </p:nvSpPr>
        <p:spPr>
          <a:xfrm>
            <a:off x="6761160" y="2743200"/>
            <a:ext cx="846000" cy="7034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718" name="AutoShape 36"/>
          <p:cNvCxnSpPr>
            <a:stCxn id="719" idx="1"/>
            <a:endCxn id="717" idx="5"/>
          </p:cNvCxnSpPr>
          <p:nvPr/>
        </p:nvCxnSpPr>
        <p:spPr>
          <a:xfrm flipH="1">
            <a:off x="7395840" y="3094200"/>
            <a:ext cx="991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AutoShape 37"/>
          <p:cNvCxnSpPr>
            <a:stCxn id="719" idx="2"/>
            <a:endCxn id="717" idx="5"/>
          </p:cNvCxnSpPr>
          <p:nvPr/>
        </p:nvCxnSpPr>
        <p:spPr>
          <a:xfrm flipH="1" flipV="1">
            <a:off x="7395480" y="3093480"/>
            <a:ext cx="13993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AutoShape 38"/>
          <p:cNvCxnSpPr>
            <a:stCxn id="719" idx="0"/>
            <a:endCxn id="717" idx="5"/>
          </p:cNvCxnSpPr>
          <p:nvPr/>
        </p:nvCxnSpPr>
        <p:spPr>
          <a:xfrm flipH="1">
            <a:off x="7395480" y="2741400"/>
            <a:ext cx="13993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Text Box 39"/>
          <p:cNvSpPr/>
          <p:nvPr/>
        </p:nvSpPr>
        <p:spPr>
          <a:xfrm>
            <a:off x="8386920" y="2741760"/>
            <a:ext cx="81432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normAutofit fontScale="7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dministrateur ou autres sourc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d’alimenta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22" name="Rectangle 40"/>
          <p:cNvSpPr/>
          <p:nvPr/>
        </p:nvSpPr>
        <p:spPr>
          <a:xfrm>
            <a:off x="6156360" y="3514680"/>
            <a:ext cx="900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Arial"/>
                <a:ea typeface="Arial Unicode MS"/>
              </a:rPr>
              <a:t>Annuaire ENT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723" name="Picture 41" descr=""/>
          <p:cNvPicPr/>
          <p:nvPr/>
        </p:nvPicPr>
        <p:blipFill>
          <a:blip r:embed="rId5"/>
          <a:stretch/>
        </p:blipFill>
        <p:spPr>
          <a:xfrm>
            <a:off x="8637480" y="2154240"/>
            <a:ext cx="322200" cy="344520"/>
          </a:xfrm>
          <a:prstGeom prst="rect">
            <a:avLst/>
          </a:prstGeom>
          <a:ln w="0">
            <a:noFill/>
          </a:ln>
        </p:spPr>
      </p:pic>
      <p:cxnSp>
        <p:nvCxnSpPr>
          <p:cNvPr id="724" name="AutoShape 42"/>
          <p:cNvCxnSpPr>
            <a:stCxn id="717" idx="3"/>
            <a:endCxn id="686" idx="0"/>
          </p:cNvCxnSpPr>
          <p:nvPr/>
        </p:nvCxnSpPr>
        <p:spPr>
          <a:xfrm flipH="1">
            <a:off x="6885720" y="3446640"/>
            <a:ext cx="299160" cy="1645200"/>
          </a:xfrm>
          <a:prstGeom prst="straightConnector1">
            <a:avLst/>
          </a:prstGeom>
          <a:ln w="28440">
            <a:solidFill>
              <a:srgbClr val="cd0028"/>
            </a:solidFill>
            <a:miter/>
          </a:ln>
        </p:spPr>
      </p:cxnSp>
      <p:cxnSp>
        <p:nvCxnSpPr>
          <p:cNvPr id="725" name="AutoShape 43"/>
          <p:cNvCxnSpPr>
            <a:stCxn id="717" idx="3"/>
            <a:endCxn id="695" idx="0"/>
          </p:cNvCxnSpPr>
          <p:nvPr/>
        </p:nvCxnSpPr>
        <p:spPr>
          <a:xfrm>
            <a:off x="7183080" y="3446280"/>
            <a:ext cx="1199160" cy="1253160"/>
          </a:xfrm>
          <a:prstGeom prst="straightConnector1">
            <a:avLst/>
          </a:prstGeom>
          <a:ln w="28440">
            <a:solidFill>
              <a:srgbClr val="cd0028"/>
            </a:solidFill>
            <a:miter/>
          </a:ln>
        </p:spPr>
      </p:cxnSp>
      <p:cxnSp>
        <p:nvCxnSpPr>
          <p:cNvPr id="726" name="AutoShape 44"/>
          <p:cNvCxnSpPr>
            <a:stCxn id="714" idx="2"/>
            <a:endCxn id="717" idx="1"/>
          </p:cNvCxnSpPr>
          <p:nvPr/>
        </p:nvCxnSpPr>
        <p:spPr>
          <a:xfrm>
            <a:off x="6644880" y="2369880"/>
            <a:ext cx="329040" cy="724680"/>
          </a:xfrm>
          <a:prstGeom prst="straightConnector1">
            <a:avLst/>
          </a:prstGeom>
          <a:ln w="12600">
            <a:solidFill>
              <a:srgbClr val="cd002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7" name="AutoShape 45"/>
          <p:cNvCxnSpPr>
            <a:stCxn id="716" idx="2"/>
            <a:endCxn id="717" idx="5"/>
          </p:cNvCxnSpPr>
          <p:nvPr/>
        </p:nvCxnSpPr>
        <p:spPr>
          <a:xfrm flipH="1">
            <a:off x="7395480" y="2369880"/>
            <a:ext cx="515160" cy="724680"/>
          </a:xfrm>
          <a:prstGeom prst="straightConnector1">
            <a:avLst/>
          </a:prstGeom>
          <a:ln w="12600">
            <a:solidFill>
              <a:srgbClr val="cd002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8" name="AutoShape 46"/>
          <p:cNvCxnSpPr>
            <a:stCxn id="717" idx="0"/>
            <a:endCxn id="715" idx="2"/>
          </p:cNvCxnSpPr>
          <p:nvPr/>
        </p:nvCxnSpPr>
        <p:spPr>
          <a:xfrm flipV="1">
            <a:off x="7183440" y="2369880"/>
            <a:ext cx="94320" cy="373680"/>
          </a:xfrm>
          <a:prstGeom prst="straightConnector1">
            <a:avLst/>
          </a:prstGeom>
          <a:ln w="19080">
            <a:solidFill>
              <a:srgbClr val="cd002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9" name="Text Box 47"/>
          <p:cNvSpPr/>
          <p:nvPr/>
        </p:nvSpPr>
        <p:spPr>
          <a:xfrm>
            <a:off x="3159000" y="3005280"/>
            <a:ext cx="116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nce Académique Annuaire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Fédé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30" name="Line 48"/>
          <p:cNvSpPr/>
          <p:nvPr/>
        </p:nvSpPr>
        <p:spPr>
          <a:xfrm>
            <a:off x="5572080" y="2900520"/>
            <a:ext cx="414360" cy="1440"/>
          </a:xfrm>
          <a:prstGeom prst="line">
            <a:avLst/>
          </a:prstGeom>
          <a:ln w="76320">
            <a:solidFill>
              <a:srgbClr val="cd00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590480" y="24732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 l’importance d’une bonne saisie des données à la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2" name="Group 50"/>
          <p:cNvGrpSpPr/>
          <p:nvPr/>
        </p:nvGrpSpPr>
        <p:grpSpPr>
          <a:xfrm>
            <a:off x="5867280" y="1523880"/>
            <a:ext cx="2585880" cy="2481480"/>
            <a:chOff x="5867280" y="1523880"/>
            <a:chExt cx="2585880" cy="2481480"/>
          </a:xfrm>
        </p:grpSpPr>
        <p:sp>
          <p:nvSpPr>
            <p:cNvPr id="733" name="Rectangle 51"/>
            <p:cNvSpPr/>
            <p:nvPr/>
          </p:nvSpPr>
          <p:spPr>
            <a:xfrm>
              <a:off x="5981760" y="1523880"/>
              <a:ext cx="2338200" cy="2481480"/>
            </a:xfrm>
            <a:prstGeom prst="rect">
              <a:avLst/>
            </a:prstGeom>
            <a:solidFill>
              <a:srgbClr val="ad091d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734" name="Text Box 52"/>
            <p:cNvSpPr/>
            <p:nvPr/>
          </p:nvSpPr>
          <p:spPr>
            <a:xfrm>
              <a:off x="5867280" y="1886040"/>
              <a:ext cx="258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Annuaire ENT</a:t>
              </a:r>
              <a:br>
                <a:rPr sz="1800"/>
              </a:br>
              <a:br>
                <a:rPr sz="1800"/>
              </a:br>
              <a:r>
                <a:rPr b="0" lang="en-GB" sz="1800" spc="-1" strike="noStrike">
                  <a:solidFill>
                    <a:srgbClr val="9bbace"/>
                  </a:solidFill>
                  <a:latin typeface="Arial"/>
                  <a:ea typeface="Arial Unicode MS"/>
                </a:rPr>
                <a:t>Rejets</a:t>
              </a:r>
              <a:endParaRPr b="0" lang="en-US" sz="1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735" name="Group 53"/>
          <p:cNvGrpSpPr/>
          <p:nvPr/>
        </p:nvGrpSpPr>
        <p:grpSpPr>
          <a:xfrm>
            <a:off x="3048120" y="4114800"/>
            <a:ext cx="3364920" cy="1481040"/>
            <a:chOff x="3048120" y="4114800"/>
            <a:chExt cx="3364920" cy="1481040"/>
          </a:xfrm>
        </p:grpSpPr>
        <p:sp>
          <p:nvSpPr>
            <p:cNvPr id="736" name="AutoShape 54"/>
            <p:cNvSpPr/>
            <p:nvPr/>
          </p:nvSpPr>
          <p:spPr>
            <a:xfrm>
              <a:off x="3048120" y="4172040"/>
              <a:ext cx="626760" cy="1423800"/>
            </a:xfrm>
            <a:custGeom>
              <a:avLst/>
              <a:gdLst>
                <a:gd name="textAreaLeft" fmla="*/ 83880 w 626760"/>
                <a:gd name="textAreaRight" fmla="*/ 542880 w 626760"/>
                <a:gd name="textAreaTop" fmla="*/ 250200 h 1423800"/>
                <a:gd name="textAreaBottom" fmla="*/ 1028520 h 14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00" stAng="-5400000" swAng="5400000"/>
                  <a:lnTo>
                    <a:pt x="21600" y="11800"/>
                  </a:lnTo>
                  <a:arcTo wR="21600" hR="7600" stAng="0" swAng="1288428"/>
                  <a:lnTo>
                    <a:pt x="14400" y="19665"/>
                  </a:lnTo>
                  <a:lnTo>
                    <a:pt x="0" y="17300"/>
                  </a:lnTo>
                  <a:lnTo>
                    <a:pt x="14400" y="11065"/>
                  </a:lnTo>
                  <a:lnTo>
                    <a:pt x="14400" y="13265"/>
                  </a:lnTo>
                  <a:arcTo wR="21600" hR="7600" stAng="1288428" swAng="-941842"/>
                  <a:lnTo>
                    <a:pt x="20759" y="9700"/>
                  </a:lnTo>
                  <a:arcTo wR="21600" hR="7600" stAng="-346586" swAng="-5053414"/>
                  <a:close/>
                </a:path>
                <a:path fill="darkenLess" w="21600" h="21600">
                  <a:moveTo>
                    <a:pt x="0" y="0"/>
                  </a:moveTo>
                  <a:arcTo wR="21600" hR="7600" stAng="-5400000" swAng="5400000"/>
                  <a:lnTo>
                    <a:pt x="21600" y="11800"/>
                  </a:lnTo>
                  <a:arcTo wR="21600" hR="7600" stAng="0" swAng="-346586"/>
                  <a:lnTo>
                    <a:pt x="20759" y="9700"/>
                  </a:lnTo>
                  <a:arcTo wR="21600" hR="7600" stAng="-346586" swAng="-5053414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b0a20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737" name="Text Box 55"/>
            <p:cNvSpPr/>
            <p:nvPr/>
          </p:nvSpPr>
          <p:spPr>
            <a:xfrm>
              <a:off x="3735360" y="4114800"/>
              <a:ext cx="2677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10a14"/>
                  </a:solidFill>
                  <a:latin typeface="Arial"/>
                  <a:ea typeface="Arial Unicode MS"/>
                </a:rPr>
                <a:t>Sensibiliser les chefs d’établissements à l’importance de la bonne saisie des données</a:t>
              </a:r>
              <a:endParaRPr b="0" lang="en-US" sz="1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738" name="AutoShape 56"/>
          <p:cNvSpPr/>
          <p:nvPr/>
        </p:nvSpPr>
        <p:spPr>
          <a:xfrm>
            <a:off x="762120" y="2819520"/>
            <a:ext cx="893520" cy="41724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AMSESE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39" name="AutoShape 57"/>
          <p:cNvSpPr/>
          <p:nvPr/>
        </p:nvSpPr>
        <p:spPr>
          <a:xfrm>
            <a:off x="2209680" y="2181240"/>
            <a:ext cx="54612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..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40" name="AutoShape 58"/>
          <p:cNvSpPr/>
          <p:nvPr/>
        </p:nvSpPr>
        <p:spPr>
          <a:xfrm>
            <a:off x="2362320" y="2333520"/>
            <a:ext cx="54612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..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741" name="AutoShape 59"/>
          <p:cNvCxnSpPr>
            <a:stCxn id="738" idx="4"/>
            <a:endCxn id="693" idx="1"/>
          </p:cNvCxnSpPr>
          <p:nvPr/>
        </p:nvCxnSpPr>
        <p:spPr>
          <a:xfrm flipV="1">
            <a:off x="1655280" y="2563560"/>
            <a:ext cx="1901160" cy="465840"/>
          </a:xfrm>
          <a:prstGeom prst="straightConnector1">
            <a:avLst/>
          </a:prstGeom>
          <a:ln w="19080">
            <a:solidFill>
              <a:srgbClr val="cb232a"/>
            </a:solidFill>
            <a:miter/>
            <a:tailEnd len="med" type="triangle" w="med"/>
          </a:ln>
        </p:spPr>
      </p:cxnSp>
      <p:sp>
        <p:nvSpPr>
          <p:cNvPr id="742" name="AutoShape 60"/>
          <p:cNvSpPr/>
          <p:nvPr/>
        </p:nvSpPr>
        <p:spPr>
          <a:xfrm>
            <a:off x="1752480" y="2133720"/>
            <a:ext cx="546120" cy="41724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..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09" name="AutoShape 61"/>
          <p:cNvSpPr/>
          <p:nvPr/>
        </p:nvSpPr>
        <p:spPr>
          <a:xfrm>
            <a:off x="1905120" y="2438280"/>
            <a:ext cx="80964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I-RH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743" name="AutoShape 62"/>
          <p:cNvCxnSpPr>
            <a:stCxn id="683" idx="4"/>
          </p:cNvCxnSpPr>
          <p:nvPr/>
        </p:nvCxnSpPr>
        <p:spPr>
          <a:xfrm>
            <a:off x="1503000" y="2418840"/>
            <a:ext cx="2205720" cy="297720"/>
          </a:xfrm>
          <a:prstGeom prst="straightConnector1">
            <a:avLst/>
          </a:prstGeom>
          <a:ln w="19080">
            <a:solidFill>
              <a:srgbClr val="cb232a"/>
            </a:solidFill>
            <a:miter/>
            <a:tailEnd len="med" type="triangle" w="med"/>
          </a:ln>
        </p:spPr>
      </p:cxnSp>
      <p:grpSp>
        <p:nvGrpSpPr>
          <p:cNvPr id="744" name="Group 63"/>
          <p:cNvGrpSpPr/>
          <p:nvPr/>
        </p:nvGrpSpPr>
        <p:grpSpPr>
          <a:xfrm>
            <a:off x="228600" y="1600200"/>
            <a:ext cx="5391000" cy="2479680"/>
            <a:chOff x="228600" y="1600200"/>
            <a:chExt cx="5391000" cy="2479680"/>
          </a:xfrm>
        </p:grpSpPr>
        <p:sp>
          <p:nvSpPr>
            <p:cNvPr id="702" name="Rectangle 64"/>
            <p:cNvSpPr/>
            <p:nvPr/>
          </p:nvSpPr>
          <p:spPr>
            <a:xfrm>
              <a:off x="228600" y="1600200"/>
              <a:ext cx="5391000" cy="2479680"/>
            </a:xfrm>
            <a:prstGeom prst="rect">
              <a:avLst/>
            </a:prstGeom>
            <a:solidFill>
              <a:srgbClr val="ad091d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745" name="Text Box 65"/>
            <p:cNvSpPr/>
            <p:nvPr/>
          </p:nvSpPr>
          <p:spPr>
            <a:xfrm>
              <a:off x="1467720" y="1961640"/>
              <a:ext cx="294516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Annuaire Fédérateur</a:t>
              </a:r>
              <a:br>
                <a:rPr sz="1800"/>
              </a:br>
              <a:endParaRPr b="0" lang="en-US" sz="1800" spc="-1" strike="noStrike">
                <a:solidFill>
                  <a:srgbClr val="d10a14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9bbace"/>
                  </a:solidFill>
                  <a:latin typeface="Arial"/>
                  <a:ea typeface="Arial Unicode MS"/>
                </a:rPr>
                <a:t>Aucun dispositif de correction des données</a:t>
              </a:r>
              <a:endParaRPr b="0" lang="en-US" sz="1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3EC1-C13D-4EA0-B37B-B18CD962708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47" name="AutoShape 2"/>
          <p:cNvSpPr/>
          <p:nvPr/>
        </p:nvSpPr>
        <p:spPr>
          <a:xfrm>
            <a:off x="0" y="1425600"/>
            <a:ext cx="8004240" cy="981000"/>
          </a:xfrm>
          <a:prstGeom prst="rightArrow">
            <a:avLst>
              <a:gd name="adj1" fmla="val 52750"/>
              <a:gd name="adj2" fmla="val 20390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1189080" y="1660680"/>
            <a:ext cx="1468440" cy="52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447840" y="1655640"/>
            <a:ext cx="734760" cy="4569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2597040" y="1673280"/>
            <a:ext cx="2552760" cy="50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2930400" y="176220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1181160" y="1644480"/>
            <a:ext cx="123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é 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560600" y="13284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nning type de mise en œuvre de  projet </a:t>
            </a:r>
            <a:br>
              <a:rPr sz="1600"/>
            </a:br>
            <a:br>
              <a:rPr sz="16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12708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122544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56" name="Rectangle 11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3216240" y="6031080"/>
            <a:ext cx="1725480" cy="24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Chefs d’établissemen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5192640" y="6031080"/>
            <a:ext cx="1731960" cy="24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Rectora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59" name="Text Box 14"/>
          <p:cNvSpPr/>
          <p:nvPr/>
        </p:nvSpPr>
        <p:spPr>
          <a:xfrm>
            <a:off x="7165800" y="6031080"/>
            <a:ext cx="1524240" cy="246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intég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60" name="Rectangle 15"/>
          <p:cNvSpPr/>
          <p:nvPr/>
        </p:nvSpPr>
        <p:spPr>
          <a:xfrm>
            <a:off x="1625760" y="5900760"/>
            <a:ext cx="739440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es acteur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360360" y="2354400"/>
            <a:ext cx="822240" cy="1470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ller l’annuaire 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xtraire les fichiers XML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(3 semaine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210960" y="4479840"/>
            <a:ext cx="1519560" cy="641520"/>
          </a:xfrm>
          <a:prstGeom prst="rect">
            <a:avLst/>
          </a:prstGeom>
          <a:solidFill>
            <a:srgbClr val="ffffff"/>
          </a:solidFill>
          <a:ln w="44280">
            <a:solidFill>
              <a:srgbClr val="cd0a2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vraison de l’Annuaire Fédé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63" name="Rectangle 18"/>
          <p:cNvSpPr/>
          <p:nvPr/>
        </p:nvSpPr>
        <p:spPr>
          <a:xfrm>
            <a:off x="14400" y="1652760"/>
            <a:ext cx="423720" cy="48096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64" name="Text Box 19"/>
          <p:cNvSpPr/>
          <p:nvPr/>
        </p:nvSpPr>
        <p:spPr>
          <a:xfrm>
            <a:off x="258840" y="1730520"/>
            <a:ext cx="10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lla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65" name="Rectangle 20"/>
          <p:cNvSpPr/>
          <p:nvPr/>
        </p:nvSpPr>
        <p:spPr>
          <a:xfrm>
            <a:off x="1884240" y="2165400"/>
            <a:ext cx="702000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t annuaire fédérateur en téléchargement sur 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ite de diffu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«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t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» de Toulouse :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ttp://diff.ac-toulouse.fr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ersion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gt;&gt; Annuaire  &gt;&gt; Annuaire federateur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gt;&gt; Primo-installation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oute communication sur ce projet sera envoyée à l’adress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afdiff@ac-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adem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fr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dresse de la diffusion : 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iffusion-identite@ac-toulouse.fr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0DA-A0C1-4F15-9748-9578ACE616EC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Contexte et les enjeux</a:t>
            </a: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30080" y="2014560"/>
            <a:ext cx="7739280" cy="14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lnSpc>
                <a:spcPct val="80000"/>
              </a:lnSpc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rès le socle une demande des porteurs de pro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mettre une gestion facilitée des profils d’utilisateurs, des dro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gestion partagée du projet entre l état et les colle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64960" y="1565280"/>
            <a:ext cx="2357640" cy="36828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 l’annuaire ENT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16000" y="3686040"/>
            <a:ext cx="8599320" cy="36828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 l’alimentation automatique de l’annuaire ENT à partir de l’annuaire fédérateur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868320" y="4300560"/>
            <a:ext cx="7974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210240" indent="-210240"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ser techniquement et juridiquement les chefs d établissement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210240" indent="-210240"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ffrir une qualité de données 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marL="210240" indent="-210240"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vrir rapidement la majorité des comptes ENT à la rentré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572760" indent="-1936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limitant les saisies manuelles et multiple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572760" indent="-1936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permettant une actualisation régulière des donnée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572760" indent="-1936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simplifiant le passage d’une année à l’autr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4310-619F-4D63-B7D0-6E43C2F24EF6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67" name="AutoShape 2"/>
          <p:cNvSpPr/>
          <p:nvPr/>
        </p:nvSpPr>
        <p:spPr>
          <a:xfrm>
            <a:off x="0" y="1425600"/>
            <a:ext cx="8004240" cy="981000"/>
          </a:xfrm>
          <a:prstGeom prst="rightArrow">
            <a:avLst>
              <a:gd name="adj1" fmla="val 52750"/>
              <a:gd name="adj2" fmla="val 20390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1189080" y="1660680"/>
            <a:ext cx="1468440" cy="52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47840" y="1655640"/>
            <a:ext cx="734760" cy="4569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2597040" y="1673280"/>
            <a:ext cx="2552760" cy="50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2930400" y="176220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72" name="Text Box 7"/>
          <p:cNvSpPr/>
          <p:nvPr/>
        </p:nvSpPr>
        <p:spPr>
          <a:xfrm>
            <a:off x="1181160" y="1644480"/>
            <a:ext cx="123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é 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18840" y="202680"/>
            <a:ext cx="62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nning type de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mise en œuvr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e  proje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12708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122544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3216240" y="6588000"/>
            <a:ext cx="1725480" cy="24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Chefs d’établissemen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5192640" y="6588000"/>
            <a:ext cx="1731960" cy="24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Rectora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79" name="Text Box 14"/>
          <p:cNvSpPr/>
          <p:nvPr/>
        </p:nvSpPr>
        <p:spPr>
          <a:xfrm>
            <a:off x="7165800" y="6588000"/>
            <a:ext cx="1524240" cy="246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intég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80" name="Rectangle 15"/>
          <p:cNvSpPr/>
          <p:nvPr/>
        </p:nvSpPr>
        <p:spPr>
          <a:xfrm>
            <a:off x="1625760" y="6458040"/>
            <a:ext cx="739440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es acteur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360360" y="2354400"/>
            <a:ext cx="822240" cy="1470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ller l’annuaire 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xtraire les fichiers XML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(3 semaine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210960" y="4479840"/>
            <a:ext cx="1519560" cy="641520"/>
          </a:xfrm>
          <a:prstGeom prst="rect">
            <a:avLst/>
          </a:prstGeom>
          <a:solidFill>
            <a:srgbClr val="ffffff"/>
          </a:solidFill>
          <a:ln w="44280">
            <a:solidFill>
              <a:srgbClr val="cd0a2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vraison de l’Annuaire Fédé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83" name="Rectangle 18"/>
          <p:cNvSpPr/>
          <p:nvPr/>
        </p:nvSpPr>
        <p:spPr>
          <a:xfrm>
            <a:off x="14400" y="1652760"/>
            <a:ext cx="423720" cy="48096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258840" y="1730520"/>
            <a:ext cx="10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lla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785" name="Picture 20" descr=""/>
          <p:cNvPicPr/>
          <p:nvPr/>
        </p:nvPicPr>
        <p:blipFill>
          <a:blip r:embed="rId2"/>
          <a:stretch/>
        </p:blipFill>
        <p:spPr>
          <a:xfrm>
            <a:off x="2268360" y="2305080"/>
            <a:ext cx="6120000" cy="41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85D1-F55E-4444-94EA-AACD2B56BB0C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87" name="AutoShape 2"/>
          <p:cNvSpPr/>
          <p:nvPr/>
        </p:nvSpPr>
        <p:spPr>
          <a:xfrm>
            <a:off x="0" y="1425600"/>
            <a:ext cx="8004240" cy="981000"/>
          </a:xfrm>
          <a:prstGeom prst="rightArrow">
            <a:avLst>
              <a:gd name="adj1" fmla="val 52750"/>
              <a:gd name="adj2" fmla="val 20390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1189080" y="1660680"/>
            <a:ext cx="1468440" cy="52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447840" y="1655640"/>
            <a:ext cx="734760" cy="4569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2597040" y="1673280"/>
            <a:ext cx="2552760" cy="50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2930400" y="176220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1181160" y="1644480"/>
            <a:ext cx="123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é 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62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nning type de 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mise en œuvr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e  projet </a:t>
            </a:r>
            <a:br>
              <a:rPr sz="1600"/>
            </a:br>
            <a:br>
              <a:rPr sz="16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12708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122544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96" name="Rectangle 11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97" name="Text Box 12"/>
          <p:cNvSpPr/>
          <p:nvPr/>
        </p:nvSpPr>
        <p:spPr>
          <a:xfrm>
            <a:off x="3216240" y="6588000"/>
            <a:ext cx="1725480" cy="24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Chefs d’établissemen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98" name="Text Box 13"/>
          <p:cNvSpPr/>
          <p:nvPr/>
        </p:nvSpPr>
        <p:spPr>
          <a:xfrm>
            <a:off x="5192640" y="6588000"/>
            <a:ext cx="1731960" cy="24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Rectora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799" name="Text Box 14"/>
          <p:cNvSpPr/>
          <p:nvPr/>
        </p:nvSpPr>
        <p:spPr>
          <a:xfrm>
            <a:off x="7165800" y="6588000"/>
            <a:ext cx="1524240" cy="246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intég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1625760" y="6458040"/>
            <a:ext cx="739440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es acteur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01" name="Text Box 16"/>
          <p:cNvSpPr/>
          <p:nvPr/>
        </p:nvSpPr>
        <p:spPr>
          <a:xfrm>
            <a:off x="360360" y="2354400"/>
            <a:ext cx="822240" cy="1470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ller l’annuaire 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xtraire les fichiers XML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(3 semaine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02" name="Text Box 17"/>
          <p:cNvSpPr/>
          <p:nvPr/>
        </p:nvSpPr>
        <p:spPr>
          <a:xfrm>
            <a:off x="210960" y="4479840"/>
            <a:ext cx="1519560" cy="641520"/>
          </a:xfrm>
          <a:prstGeom prst="rect">
            <a:avLst/>
          </a:prstGeom>
          <a:solidFill>
            <a:srgbClr val="ffffff"/>
          </a:solidFill>
          <a:ln w="44280">
            <a:solidFill>
              <a:srgbClr val="cd0a2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vraison de l’Annuaire Fédé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03" name="Rectangle 18"/>
          <p:cNvSpPr/>
          <p:nvPr/>
        </p:nvSpPr>
        <p:spPr>
          <a:xfrm>
            <a:off x="14400" y="1652760"/>
            <a:ext cx="423720" cy="48096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04" name="Text Box 19"/>
          <p:cNvSpPr/>
          <p:nvPr/>
        </p:nvSpPr>
        <p:spPr>
          <a:xfrm>
            <a:off x="258840" y="1730520"/>
            <a:ext cx="10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lla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05" name="Rectangle 20"/>
          <p:cNvSpPr/>
          <p:nvPr/>
        </p:nvSpPr>
        <p:spPr>
          <a:xfrm>
            <a:off x="1679400" y="2220840"/>
            <a:ext cx="70200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d0a20"/>
                </a:solidFill>
                <a:latin typeface="Arial"/>
                <a:ea typeface="Arial Unicode MS"/>
              </a:rPr>
              <a:t>Fichiers XML produits  : 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d0a20"/>
                </a:solidFill>
                <a:latin typeface="Arial"/>
                <a:ea typeface="Arial Unicode MS"/>
              </a:rPr>
              <a:t>[idENT]_[Complet|Delta]_[Date]_[typeFichier]_[numéro].xml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xemple: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T_Complet_20070326_PersEducNat_0000.xml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T_Complet_20070326_EtabEducNat_0000.xml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T_Complet_20070326_Eleve_0000.xml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T_Complet_20070326_PersRelEleve_0000.xml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3F8A-ACAE-4073-BFFB-7B27BF58347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1785960" y="1420920"/>
            <a:ext cx="6480000" cy="981000"/>
          </a:xfrm>
          <a:prstGeom prst="rightArrow">
            <a:avLst>
              <a:gd name="adj1" fmla="val 52750"/>
              <a:gd name="adj2" fmla="val 205688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223920" y="1652760"/>
            <a:ext cx="135000" cy="51084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393840" y="1654200"/>
            <a:ext cx="133200" cy="511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590840" y="31716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lanning type de mise en œuvre du projet</a:t>
            </a:r>
            <a:br>
              <a:rPr sz="1600"/>
            </a:br>
            <a:br>
              <a:rPr sz="1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é-production</a:t>
            </a:r>
            <a:br>
              <a:rPr sz="28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6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530520" y="6568920"/>
            <a:ext cx="1725840" cy="1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Chefs d’établissemen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5502240" y="6568920"/>
            <a:ext cx="1731960" cy="179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Rectora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7480440" y="6568920"/>
            <a:ext cx="1523880" cy="179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Intég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2211480" y="6458040"/>
            <a:ext cx="693252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es acteur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16" name="Rectangle 11"/>
          <p:cNvSpPr/>
          <p:nvPr/>
        </p:nvSpPr>
        <p:spPr>
          <a:xfrm>
            <a:off x="549360" y="1654200"/>
            <a:ext cx="1198440" cy="449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480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é-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2828880" y="2322360"/>
            <a:ext cx="631512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212400" indent="-21240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gration des comptes existants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2" marL="859680" indent="-152280"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eprise des données</a:t>
            </a:r>
            <a:endParaRPr b="0" lang="en-US" sz="1500" spc="-1" strike="noStrike">
              <a:solidFill>
                <a:srgbClr val="d10a14"/>
              </a:solidFill>
              <a:latin typeface="Arial"/>
            </a:endParaRPr>
          </a:p>
          <a:p>
            <a:pPr lvl="2" marL="859680" indent="-152280"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éconciliation des comptes existants avec ceux alimentés par l’Annuaire Fédérateur</a:t>
            </a:r>
            <a:endParaRPr b="0" lang="en-US" sz="1500" spc="-1" strike="noStrike">
              <a:solidFill>
                <a:srgbClr val="d10a14"/>
              </a:solidFill>
              <a:latin typeface="Arial"/>
            </a:endParaRPr>
          </a:p>
          <a:p>
            <a:pPr lvl="2" marL="859680" indent="-152280"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Mise à jour des relations personnes–structures et personnes–personne</a:t>
            </a:r>
            <a:endParaRPr b="0" lang="en-US" sz="1500" spc="-1" strike="noStrike">
              <a:solidFill>
                <a:srgbClr val="d10a14"/>
              </a:solidFill>
              <a:latin typeface="Arial"/>
            </a:endParaRPr>
          </a:p>
          <a:p>
            <a:pPr marL="212400" indent="-212400">
              <a:spcBef>
                <a:spcPts val="125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se en compte des modifications par delta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1" marL="578880" indent="-19584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idation du fonctionnement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 lvl="2" marL="859680" indent="-15228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se en situation avec des données réelle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lvl="2" marL="859680" indent="-15228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tection et gestion des anomalie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lvl="2" marL="859680" indent="-15228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lai de traitement, montée en charge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lvl="1" marL="578880" indent="-19584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amétrage de la période glissante des deltas (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 lvl="2" marL="859680" indent="-15228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que fichier delta contient tous les objets qui ont été modifiés durant le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jours précédent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571680" y="2529000"/>
            <a:ext cx="1158840" cy="39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Charger le XML dans l’EN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571680" y="3116160"/>
            <a:ext cx="1158840" cy="39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Traiter les rejets (1 mois)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571680" y="3703680"/>
            <a:ext cx="1888920" cy="884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ffectuer migration comptes existants d’1 EPLE (15j)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ou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créer ex-nihilo les compte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571680" y="5572080"/>
            <a:ext cx="1888920" cy="244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Suivi académique 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1680" y="6006960"/>
            <a:ext cx="1888920" cy="39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n liaison avec les chefs d’établissement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23" name="Text Box 18"/>
          <p:cNvSpPr/>
          <p:nvPr/>
        </p:nvSpPr>
        <p:spPr>
          <a:xfrm>
            <a:off x="571680" y="4778280"/>
            <a:ext cx="1888920" cy="604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Prise en compte des modifications par delta (XML)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24" name="AutoShape 19">
            <a:hlinkClick r:id="" action="ppaction://hlinkshowjump?jump=previousslide"/>
          </p:cNvPr>
          <p:cNvSpPr/>
          <p:nvPr/>
        </p:nvSpPr>
        <p:spPr>
          <a:xfrm>
            <a:off x="2359080" y="3797280"/>
            <a:ext cx="369720" cy="264960"/>
          </a:xfrm>
          <a:custGeom>
            <a:avLst/>
            <a:gdLst>
              <a:gd name="textAreaLeft" fmla="*/ 16920 w 369720"/>
              <a:gd name="textAreaRight" fmla="*/ 352800 w 36972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30129" h="21600">
                <a:moveTo>
                  <a:pt x="0" y="0"/>
                </a:moveTo>
                <a:lnTo>
                  <a:pt x="30129" y="0"/>
                </a:lnTo>
                <a:lnTo>
                  <a:pt x="30129" y="21600"/>
                </a:lnTo>
                <a:lnTo>
                  <a:pt x="0" y="21600"/>
                </a:lnTo>
                <a:close/>
              </a:path>
              <a:path fill="lightenLess" w="30129" h="21600">
                <a:moveTo>
                  <a:pt x="0" y="0"/>
                </a:moveTo>
                <a:lnTo>
                  <a:pt x="30129" y="0"/>
                </a:lnTo>
                <a:lnTo>
                  <a:pt x="28729" y="1400"/>
                </a:lnTo>
                <a:lnTo>
                  <a:pt x="1400" y="1400"/>
                </a:lnTo>
                <a:close/>
              </a:path>
              <a:path fill="darken" w="30129" h="21600">
                <a:moveTo>
                  <a:pt x="30129" y="0"/>
                </a:moveTo>
                <a:lnTo>
                  <a:pt x="30129" y="21600"/>
                </a:lnTo>
                <a:lnTo>
                  <a:pt x="28729" y="20200"/>
                </a:lnTo>
                <a:lnTo>
                  <a:pt x="28729" y="1400"/>
                </a:lnTo>
                <a:close/>
              </a:path>
              <a:path fill="darkenLess" w="30129" h="21600">
                <a:moveTo>
                  <a:pt x="301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29" y="20200"/>
                </a:lnTo>
                <a:close/>
              </a:path>
              <a:path fill="lighten" w="301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29" h="21600">
                <a:moveTo>
                  <a:pt x="8058" y="10800"/>
                </a:moveTo>
                <a:lnTo>
                  <a:pt x="22071" y="3794"/>
                </a:lnTo>
                <a:lnTo>
                  <a:pt x="22071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25" name="AutoShape 20">
            <a:hlinkClick r:id="" action="ppaction://hlinkshowjump?jump=previousslide"/>
          </p:cNvPr>
          <p:cNvSpPr/>
          <p:nvPr/>
        </p:nvSpPr>
        <p:spPr>
          <a:xfrm>
            <a:off x="2359080" y="4943520"/>
            <a:ext cx="369720" cy="264960"/>
          </a:xfrm>
          <a:custGeom>
            <a:avLst/>
            <a:gdLst>
              <a:gd name="textAreaLeft" fmla="*/ 16920 w 369720"/>
              <a:gd name="textAreaRight" fmla="*/ 352800 w 36972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30129" h="21600">
                <a:moveTo>
                  <a:pt x="0" y="0"/>
                </a:moveTo>
                <a:lnTo>
                  <a:pt x="30129" y="0"/>
                </a:lnTo>
                <a:lnTo>
                  <a:pt x="30129" y="21600"/>
                </a:lnTo>
                <a:lnTo>
                  <a:pt x="0" y="21600"/>
                </a:lnTo>
                <a:close/>
              </a:path>
              <a:path fill="lightenLess" w="30129" h="21600">
                <a:moveTo>
                  <a:pt x="0" y="0"/>
                </a:moveTo>
                <a:lnTo>
                  <a:pt x="30129" y="0"/>
                </a:lnTo>
                <a:lnTo>
                  <a:pt x="28729" y="1400"/>
                </a:lnTo>
                <a:lnTo>
                  <a:pt x="1400" y="1400"/>
                </a:lnTo>
                <a:close/>
              </a:path>
              <a:path fill="darken" w="30129" h="21600">
                <a:moveTo>
                  <a:pt x="30129" y="0"/>
                </a:moveTo>
                <a:lnTo>
                  <a:pt x="30129" y="21600"/>
                </a:lnTo>
                <a:lnTo>
                  <a:pt x="28729" y="20200"/>
                </a:lnTo>
                <a:lnTo>
                  <a:pt x="28729" y="1400"/>
                </a:lnTo>
                <a:close/>
              </a:path>
              <a:path fill="darkenLess" w="30129" h="21600">
                <a:moveTo>
                  <a:pt x="301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29" y="20200"/>
                </a:lnTo>
                <a:close/>
              </a:path>
              <a:path fill="lighten" w="301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29" h="21600">
                <a:moveTo>
                  <a:pt x="8058" y="10800"/>
                </a:moveTo>
                <a:lnTo>
                  <a:pt x="22071" y="3794"/>
                </a:lnTo>
                <a:lnTo>
                  <a:pt x="22071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B2F8-728F-428C-82F3-86A1F867CD6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708120" y="1654200"/>
            <a:ext cx="1457280" cy="480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28" name="AutoShape 3"/>
          <p:cNvSpPr/>
          <p:nvPr/>
        </p:nvSpPr>
        <p:spPr>
          <a:xfrm>
            <a:off x="712800" y="1420920"/>
            <a:ext cx="7553160" cy="981000"/>
          </a:xfrm>
          <a:prstGeom prst="rightArrow">
            <a:avLst>
              <a:gd name="adj1" fmla="val 52750"/>
              <a:gd name="adj2" fmla="val 204392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223920" y="1652760"/>
            <a:ext cx="135000" cy="51084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30" name="Rectangle 5"/>
          <p:cNvSpPr/>
          <p:nvPr/>
        </p:nvSpPr>
        <p:spPr>
          <a:xfrm>
            <a:off x="393840" y="1654200"/>
            <a:ext cx="133200" cy="511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590840" y="30276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lanning type de mise en œuvre du projet</a:t>
            </a:r>
            <a:br>
              <a:rPr sz="1800"/>
            </a:br>
            <a:br>
              <a:rPr sz="1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33" name="Rectangle 8"/>
          <p:cNvSpPr/>
          <p:nvPr/>
        </p:nvSpPr>
        <p:spPr>
          <a:xfrm>
            <a:off x="549360" y="1654200"/>
            <a:ext cx="13320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480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34" name="Rectangle 9"/>
          <p:cNvSpPr/>
          <p:nvPr/>
        </p:nvSpPr>
        <p:spPr>
          <a:xfrm>
            <a:off x="2828880" y="2322360"/>
            <a:ext cx="595800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3920" indent="-223920">
              <a:spcBef>
                <a:spcPts val="425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235080" y="2306520"/>
            <a:ext cx="1888920" cy="884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ffectuer migration comptes existants d’1 EPLE (15j)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ou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créer ex-nihilo les compte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36" name="Text Box 11"/>
          <p:cNvSpPr/>
          <p:nvPr/>
        </p:nvSpPr>
        <p:spPr>
          <a:xfrm>
            <a:off x="235080" y="4048200"/>
            <a:ext cx="1888920" cy="244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Suivi académique 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37" name="Text Box 12"/>
          <p:cNvSpPr/>
          <p:nvPr/>
        </p:nvSpPr>
        <p:spPr>
          <a:xfrm>
            <a:off x="235080" y="4417920"/>
            <a:ext cx="1888920" cy="3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n liaison avec les chefs d’établissement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38" name="Text Box 13"/>
          <p:cNvSpPr/>
          <p:nvPr/>
        </p:nvSpPr>
        <p:spPr>
          <a:xfrm>
            <a:off x="235080" y="3316320"/>
            <a:ext cx="1888920" cy="604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Prise en compte des modifications par delta (XML)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714240" y="4941720"/>
            <a:ext cx="1409760" cy="816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itialisation avec données rentrée 2007/2008 (par delta ou complet)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40" name="Text Box 15"/>
          <p:cNvSpPr/>
          <p:nvPr/>
        </p:nvSpPr>
        <p:spPr>
          <a:xfrm>
            <a:off x="712800" y="5884920"/>
            <a:ext cx="1411200" cy="50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cb0a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Fin mise en 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41" name="AutoShape 16">
            <a:hlinkClick r:id="" action="ppaction://hlinkshowjump?jump=previousslide"/>
          </p:cNvPr>
          <p:cNvSpPr/>
          <p:nvPr/>
        </p:nvSpPr>
        <p:spPr>
          <a:xfrm>
            <a:off x="2359080" y="5226120"/>
            <a:ext cx="369720" cy="264960"/>
          </a:xfrm>
          <a:custGeom>
            <a:avLst/>
            <a:gdLst>
              <a:gd name="textAreaLeft" fmla="*/ 16920 w 369720"/>
              <a:gd name="textAreaRight" fmla="*/ 352800 w 36972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30129" h="21600">
                <a:moveTo>
                  <a:pt x="0" y="0"/>
                </a:moveTo>
                <a:lnTo>
                  <a:pt x="30129" y="0"/>
                </a:lnTo>
                <a:lnTo>
                  <a:pt x="30129" y="21600"/>
                </a:lnTo>
                <a:lnTo>
                  <a:pt x="0" y="21600"/>
                </a:lnTo>
                <a:close/>
              </a:path>
              <a:path fill="lightenLess" w="30129" h="21600">
                <a:moveTo>
                  <a:pt x="0" y="0"/>
                </a:moveTo>
                <a:lnTo>
                  <a:pt x="30129" y="0"/>
                </a:lnTo>
                <a:lnTo>
                  <a:pt x="28729" y="1400"/>
                </a:lnTo>
                <a:lnTo>
                  <a:pt x="1400" y="1400"/>
                </a:lnTo>
                <a:close/>
              </a:path>
              <a:path fill="darken" w="30129" h="21600">
                <a:moveTo>
                  <a:pt x="30129" y="0"/>
                </a:moveTo>
                <a:lnTo>
                  <a:pt x="30129" y="21600"/>
                </a:lnTo>
                <a:lnTo>
                  <a:pt x="28729" y="20200"/>
                </a:lnTo>
                <a:lnTo>
                  <a:pt x="28729" y="1400"/>
                </a:lnTo>
                <a:close/>
              </a:path>
              <a:path fill="darkenLess" w="30129" h="21600">
                <a:moveTo>
                  <a:pt x="301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29" y="20200"/>
                </a:lnTo>
                <a:close/>
              </a:path>
              <a:path fill="lighten" w="301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29" h="21600">
                <a:moveTo>
                  <a:pt x="8058" y="10800"/>
                </a:moveTo>
                <a:lnTo>
                  <a:pt x="22071" y="3794"/>
                </a:lnTo>
                <a:lnTo>
                  <a:pt x="22071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42" name="AutoShape 17">
            <a:hlinkClick r:id="" action="ppaction://hlinkshowjump?jump=previousslide"/>
          </p:cNvPr>
          <p:cNvSpPr/>
          <p:nvPr/>
        </p:nvSpPr>
        <p:spPr>
          <a:xfrm>
            <a:off x="2359080" y="6006960"/>
            <a:ext cx="369720" cy="265320"/>
          </a:xfrm>
          <a:custGeom>
            <a:avLst/>
            <a:gdLst>
              <a:gd name="textAreaLeft" fmla="*/ 16920 w 369720"/>
              <a:gd name="textAreaRight" fmla="*/ 352800 w 36972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30088" h="21600">
                <a:moveTo>
                  <a:pt x="0" y="0"/>
                </a:moveTo>
                <a:lnTo>
                  <a:pt x="30088" y="0"/>
                </a:lnTo>
                <a:lnTo>
                  <a:pt x="30088" y="21600"/>
                </a:lnTo>
                <a:lnTo>
                  <a:pt x="0" y="21600"/>
                </a:lnTo>
                <a:close/>
              </a:path>
              <a:path fill="lightenLess" w="30088" h="21600">
                <a:moveTo>
                  <a:pt x="0" y="0"/>
                </a:moveTo>
                <a:lnTo>
                  <a:pt x="30088" y="0"/>
                </a:lnTo>
                <a:lnTo>
                  <a:pt x="28688" y="1400"/>
                </a:lnTo>
                <a:lnTo>
                  <a:pt x="1400" y="1400"/>
                </a:lnTo>
                <a:close/>
              </a:path>
              <a:path fill="darken" w="30088" h="21600">
                <a:moveTo>
                  <a:pt x="30088" y="0"/>
                </a:moveTo>
                <a:lnTo>
                  <a:pt x="30088" y="21600"/>
                </a:lnTo>
                <a:lnTo>
                  <a:pt x="28688" y="20200"/>
                </a:lnTo>
                <a:lnTo>
                  <a:pt x="28688" y="1400"/>
                </a:lnTo>
                <a:close/>
              </a:path>
              <a:path fill="darkenLess" w="30088" h="21600">
                <a:moveTo>
                  <a:pt x="30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8" y="20200"/>
                </a:lnTo>
                <a:close/>
              </a:path>
              <a:path fill="lighten" w="30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8" h="21600">
                <a:moveTo>
                  <a:pt x="8037" y="10800"/>
                </a:moveTo>
                <a:lnTo>
                  <a:pt x="22050" y="3794"/>
                </a:lnTo>
                <a:lnTo>
                  <a:pt x="22050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843" name="Group 23"/>
          <p:cNvGrpSpPr/>
          <p:nvPr/>
        </p:nvGrpSpPr>
        <p:grpSpPr>
          <a:xfrm>
            <a:off x="1625760" y="6442200"/>
            <a:ext cx="7394400" cy="415800"/>
            <a:chOff x="1625760" y="6442200"/>
            <a:chExt cx="7394400" cy="415800"/>
          </a:xfrm>
        </p:grpSpPr>
        <p:sp>
          <p:nvSpPr>
            <p:cNvPr id="844" name="Rectangle 24"/>
            <p:cNvSpPr/>
            <p:nvPr/>
          </p:nvSpPr>
          <p:spPr>
            <a:xfrm>
              <a:off x="1625760" y="6442200"/>
              <a:ext cx="739440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es acteurs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45" name="Text Box 25"/>
            <p:cNvSpPr/>
            <p:nvPr/>
          </p:nvSpPr>
          <p:spPr>
            <a:xfrm>
              <a:off x="3216240" y="6572160"/>
              <a:ext cx="1725480" cy="246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hefs d’établissement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46" name="Text Box 26"/>
            <p:cNvSpPr/>
            <p:nvPr/>
          </p:nvSpPr>
          <p:spPr>
            <a:xfrm>
              <a:off x="5192640" y="6572160"/>
              <a:ext cx="1731960" cy="246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ctorat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47" name="Text Box 27"/>
            <p:cNvSpPr/>
            <p:nvPr/>
          </p:nvSpPr>
          <p:spPr>
            <a:xfrm>
              <a:off x="7165800" y="6572160"/>
              <a:ext cx="152424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égrateur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848" name="Rectangle 26"/>
          <p:cNvSpPr/>
          <p:nvPr/>
        </p:nvSpPr>
        <p:spPr>
          <a:xfrm>
            <a:off x="2825640" y="4194000"/>
            <a:ext cx="5910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partir de mai les chefs d’établissement travaillent sur deux bases SCONET (année 2007 et année 2008)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r configuration l’annuaire peut prendre les données 2007 ou bien directement les données 2008.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l appartient à chaque projet d’évaluer sur quelle base SCONET les essais de pré-production doivent être faits.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ors d’une bascule de rentrée, il faut configurer l’annuaire fédérateur pour qu’il pointent sur la nouvelle base SCONET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évolutions peuvent être traîtées par le mécanisme des deltas. L’annuaire fédérateur garantit la continuité de l’identifiant d’une année scolaire à l’autre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849" name="Picture 29" descr="logoMENESR"/>
          <p:cNvPicPr/>
          <p:nvPr/>
        </p:nvPicPr>
        <p:blipFill>
          <a:blip r:embed="rId3"/>
          <a:stretch/>
        </p:blipFill>
        <p:spPr>
          <a:xfrm>
            <a:off x="184320" y="247680"/>
            <a:ext cx="1315800" cy="128916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31"/>
          <p:cNvSpPr/>
          <p:nvPr/>
        </p:nvSpPr>
        <p:spPr>
          <a:xfrm>
            <a:off x="7666200" y="247680"/>
            <a:ext cx="1477800" cy="12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240B-4079-4023-AE88-DB3C5C5CD75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52" name="Rectangle 2"/>
          <p:cNvSpPr/>
          <p:nvPr/>
        </p:nvSpPr>
        <p:spPr>
          <a:xfrm>
            <a:off x="0" y="6257880"/>
            <a:ext cx="7858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>
            <a:off x="185760" y="2786040"/>
            <a:ext cx="8958240" cy="1600200"/>
          </a:xfrm>
          <a:prstGeom prst="rightArrow">
            <a:avLst>
              <a:gd name="adj1" fmla="val 50000"/>
              <a:gd name="adj2" fmla="val 13995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142920" y="3157560"/>
            <a:ext cx="2192400" cy="83484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4813200" y="3141720"/>
            <a:ext cx="2857680" cy="871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56" name="Rectangle 6"/>
          <p:cNvSpPr/>
          <p:nvPr/>
        </p:nvSpPr>
        <p:spPr>
          <a:xfrm>
            <a:off x="3171960" y="3143160"/>
            <a:ext cx="1644480" cy="8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2328840" y="3162240"/>
            <a:ext cx="822240" cy="8352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858" name="Group 8"/>
          <p:cNvGrpSpPr/>
          <p:nvPr/>
        </p:nvGrpSpPr>
        <p:grpSpPr>
          <a:xfrm>
            <a:off x="527040" y="3330720"/>
            <a:ext cx="6627600" cy="276480"/>
            <a:chOff x="527040" y="3330720"/>
            <a:chExt cx="6627600" cy="276480"/>
          </a:xfrm>
        </p:grpSpPr>
        <p:sp>
          <p:nvSpPr>
            <p:cNvPr id="859" name="Text Box 9"/>
            <p:cNvSpPr/>
            <p:nvPr/>
          </p:nvSpPr>
          <p:spPr>
            <a:xfrm>
              <a:off x="527040" y="3330720"/>
              <a:ext cx="15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é requi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60" name="Text Box 10"/>
            <p:cNvSpPr/>
            <p:nvPr/>
          </p:nvSpPr>
          <p:spPr>
            <a:xfrm>
              <a:off x="5283720" y="3330720"/>
              <a:ext cx="187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oduc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61" name="Text Box 11"/>
            <p:cNvSpPr/>
            <p:nvPr/>
          </p:nvSpPr>
          <p:spPr>
            <a:xfrm>
              <a:off x="3293280" y="3330720"/>
              <a:ext cx="137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é produc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62" name="Text Box 12"/>
            <p:cNvSpPr/>
            <p:nvPr/>
          </p:nvSpPr>
          <p:spPr>
            <a:xfrm>
              <a:off x="2231280" y="333072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stalla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nning type de 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mise en œuvr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e  proje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timation à adapter en fonction de chaque proje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"/>
          <p:cNvSpPr/>
          <p:nvPr/>
        </p:nvSpPr>
        <p:spPr>
          <a:xfrm>
            <a:off x="2335320" y="2022480"/>
            <a:ext cx="1440" cy="4044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65" name="Line 15"/>
          <p:cNvSpPr/>
          <p:nvPr/>
        </p:nvSpPr>
        <p:spPr>
          <a:xfrm flipH="1">
            <a:off x="3406320" y="2065320"/>
            <a:ext cx="17640" cy="4159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66" name="Line 16"/>
          <p:cNvSpPr/>
          <p:nvPr/>
        </p:nvSpPr>
        <p:spPr>
          <a:xfrm flipH="1">
            <a:off x="4476600" y="2008080"/>
            <a:ext cx="30240" cy="4173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67" name="Line 17"/>
          <p:cNvSpPr/>
          <p:nvPr/>
        </p:nvSpPr>
        <p:spPr>
          <a:xfrm>
            <a:off x="5603760" y="2386080"/>
            <a:ext cx="1800" cy="3859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68" name="Line 18"/>
          <p:cNvSpPr/>
          <p:nvPr/>
        </p:nvSpPr>
        <p:spPr>
          <a:xfrm>
            <a:off x="6657840" y="2022480"/>
            <a:ext cx="14400" cy="4059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69" name="Text Box 19"/>
          <p:cNvSpPr/>
          <p:nvPr/>
        </p:nvSpPr>
        <p:spPr>
          <a:xfrm>
            <a:off x="12708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70" name="Text Box 20"/>
          <p:cNvSpPr/>
          <p:nvPr/>
        </p:nvSpPr>
        <p:spPr>
          <a:xfrm>
            <a:off x="122544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71" name="Line 21"/>
          <p:cNvSpPr/>
          <p:nvPr/>
        </p:nvSpPr>
        <p:spPr>
          <a:xfrm>
            <a:off x="0" y="2386080"/>
            <a:ext cx="92836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872" name="Group 22"/>
          <p:cNvGrpSpPr/>
          <p:nvPr/>
        </p:nvGrpSpPr>
        <p:grpSpPr>
          <a:xfrm>
            <a:off x="128520" y="5759280"/>
            <a:ext cx="8753400" cy="583920"/>
            <a:chOff x="128520" y="5759280"/>
            <a:chExt cx="8753400" cy="583920"/>
          </a:xfrm>
        </p:grpSpPr>
        <p:sp>
          <p:nvSpPr>
            <p:cNvPr id="873" name="Text Box 23"/>
            <p:cNvSpPr/>
            <p:nvPr/>
          </p:nvSpPr>
          <p:spPr>
            <a:xfrm>
              <a:off x="128520" y="5759280"/>
              <a:ext cx="8753400" cy="307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UIVI , pilotage par la Maitrise d’ouvrage Collectivité locale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74" name="Text Box 24"/>
            <p:cNvSpPr/>
            <p:nvPr/>
          </p:nvSpPr>
          <p:spPr>
            <a:xfrm>
              <a:off x="128520" y="6036120"/>
              <a:ext cx="8753400" cy="30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UIVI , pilotage par la Maitrise d’ouvrage Rectorat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875" name="Rectangle 25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76" name="Text Box 26"/>
          <p:cNvSpPr/>
          <p:nvPr/>
        </p:nvSpPr>
        <p:spPr>
          <a:xfrm>
            <a:off x="146160" y="6467400"/>
            <a:ext cx="8754840" cy="30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ensibilisation des Chefs d’établissement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877" name="Group 27"/>
          <p:cNvGrpSpPr/>
          <p:nvPr/>
        </p:nvGrpSpPr>
        <p:grpSpPr>
          <a:xfrm>
            <a:off x="2292480" y="1979640"/>
            <a:ext cx="5311440" cy="276480"/>
            <a:chOff x="2292480" y="1979640"/>
            <a:chExt cx="5311440" cy="276480"/>
          </a:xfrm>
        </p:grpSpPr>
        <p:sp>
          <p:nvSpPr>
            <p:cNvPr id="878" name="Text Box 28"/>
            <p:cNvSpPr/>
            <p:nvPr/>
          </p:nvSpPr>
          <p:spPr>
            <a:xfrm>
              <a:off x="2292480" y="1979640"/>
              <a:ext cx="950400" cy="27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ai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79" name="Text Box 29"/>
            <p:cNvSpPr/>
            <p:nvPr/>
          </p:nvSpPr>
          <p:spPr>
            <a:xfrm>
              <a:off x="3406320" y="1979640"/>
              <a:ext cx="948960" cy="27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Jui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80" name="Text Box 30"/>
            <p:cNvSpPr/>
            <p:nvPr/>
          </p:nvSpPr>
          <p:spPr>
            <a:xfrm>
              <a:off x="4488840" y="1979640"/>
              <a:ext cx="948960" cy="27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Juillet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81" name="Text Box 31"/>
            <p:cNvSpPr/>
            <p:nvPr/>
          </p:nvSpPr>
          <p:spPr>
            <a:xfrm>
              <a:off x="5555160" y="1979640"/>
              <a:ext cx="950400" cy="27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ptembre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82" name="Text Box 32"/>
            <p:cNvSpPr/>
            <p:nvPr/>
          </p:nvSpPr>
          <p:spPr>
            <a:xfrm>
              <a:off x="6654960" y="1979640"/>
              <a:ext cx="948960" cy="276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Octobre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883" name="Group 33"/>
          <p:cNvGrpSpPr/>
          <p:nvPr/>
        </p:nvGrpSpPr>
        <p:grpSpPr>
          <a:xfrm>
            <a:off x="5138640" y="2863800"/>
            <a:ext cx="1517760" cy="2689200"/>
            <a:chOff x="5138640" y="2863800"/>
            <a:chExt cx="1517760" cy="2689200"/>
          </a:xfrm>
        </p:grpSpPr>
        <p:sp>
          <p:nvSpPr>
            <p:cNvPr id="884" name="Text Box 34"/>
            <p:cNvSpPr/>
            <p:nvPr/>
          </p:nvSpPr>
          <p:spPr>
            <a:xfrm>
              <a:off x="5138640" y="5094000"/>
              <a:ext cx="1517760" cy="4590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cb0a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Fin Mise en productio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885" name="Group 35"/>
            <p:cNvGrpSpPr/>
            <p:nvPr/>
          </p:nvGrpSpPr>
          <p:grpSpPr>
            <a:xfrm>
              <a:off x="5902920" y="2863800"/>
              <a:ext cx="186840" cy="2179080"/>
              <a:chOff x="5902920" y="2863800"/>
              <a:chExt cx="186840" cy="2179080"/>
            </a:xfrm>
          </p:grpSpPr>
          <p:sp>
            <p:nvSpPr>
              <p:cNvPr id="886" name="AutoShape 36"/>
              <p:cNvSpPr/>
              <p:nvPr/>
            </p:nvSpPr>
            <p:spPr>
              <a:xfrm>
                <a:off x="5902920" y="2863800"/>
                <a:ext cx="186840" cy="186840"/>
              </a:xfrm>
              <a:prstGeom prst="triangle">
                <a:avLst>
                  <a:gd name="adj" fmla="val 50000"/>
                </a:avLst>
              </a:prstGeom>
              <a:solidFill>
                <a:srgbClr val="cb232a"/>
              </a:solidFill>
              <a:ln w="44280">
                <a:solidFill>
                  <a:srgbClr val="cb23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887" name="Line 37"/>
              <p:cNvSpPr/>
              <p:nvPr/>
            </p:nvSpPr>
            <p:spPr>
              <a:xfrm>
                <a:off x="5987520" y="3060360"/>
                <a:ext cx="1080" cy="1982520"/>
              </a:xfrm>
              <a:prstGeom prst="line">
                <a:avLst/>
              </a:prstGeom>
              <a:ln w="28440">
                <a:solidFill>
                  <a:srgbClr val="cd0a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</p:grpSp>
      <p:grpSp>
        <p:nvGrpSpPr>
          <p:cNvPr id="888" name="Group 38"/>
          <p:cNvGrpSpPr/>
          <p:nvPr/>
        </p:nvGrpSpPr>
        <p:grpSpPr>
          <a:xfrm>
            <a:off x="1625760" y="2862360"/>
            <a:ext cx="1517400" cy="2740320"/>
            <a:chOff x="1625760" y="2862360"/>
            <a:chExt cx="1517400" cy="2740320"/>
          </a:xfrm>
        </p:grpSpPr>
        <p:sp>
          <p:nvSpPr>
            <p:cNvPr id="889" name="Text Box 39"/>
            <p:cNvSpPr/>
            <p:nvPr/>
          </p:nvSpPr>
          <p:spPr>
            <a:xfrm>
              <a:off x="1625760" y="4961160"/>
              <a:ext cx="1517400" cy="64152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cd0a2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ivraison de l’Annuaire Fédérateur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890" name="Group 40"/>
            <p:cNvGrpSpPr/>
            <p:nvPr/>
          </p:nvGrpSpPr>
          <p:grpSpPr>
            <a:xfrm>
              <a:off x="2272320" y="2862360"/>
              <a:ext cx="186840" cy="2179440"/>
              <a:chOff x="2272320" y="2862360"/>
              <a:chExt cx="186840" cy="2179440"/>
            </a:xfrm>
          </p:grpSpPr>
          <p:sp>
            <p:nvSpPr>
              <p:cNvPr id="891" name="AutoShape 41"/>
              <p:cNvSpPr/>
              <p:nvPr/>
            </p:nvSpPr>
            <p:spPr>
              <a:xfrm>
                <a:off x="2272320" y="2862360"/>
                <a:ext cx="186840" cy="186840"/>
              </a:xfrm>
              <a:prstGeom prst="triangle">
                <a:avLst>
                  <a:gd name="adj" fmla="val 50000"/>
                </a:avLst>
              </a:prstGeom>
              <a:solidFill>
                <a:srgbClr val="cb232a"/>
              </a:solidFill>
              <a:ln w="44280">
                <a:solidFill>
                  <a:srgbClr val="cb23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892" name="Line 42"/>
              <p:cNvSpPr/>
              <p:nvPr/>
            </p:nvSpPr>
            <p:spPr>
              <a:xfrm>
                <a:off x="2356920" y="3058920"/>
                <a:ext cx="1080" cy="1982880"/>
              </a:xfrm>
              <a:prstGeom prst="line">
                <a:avLst/>
              </a:prstGeom>
              <a:ln w="28440">
                <a:solidFill>
                  <a:srgbClr val="cd0a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</p:grpSp>
      <p:sp>
        <p:nvSpPr>
          <p:cNvPr id="893" name="Text Box 43"/>
          <p:cNvSpPr/>
          <p:nvPr/>
        </p:nvSpPr>
        <p:spPr>
          <a:xfrm>
            <a:off x="2158920" y="4273560"/>
            <a:ext cx="467208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,5 mois de travail effectif entre livraison et mise en prod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date butoir 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263C-AAA4-4812-B4EA-F6ABEEB49A2F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5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PORT 2 ème Niveau Prévu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 relation avec l’équipe nationale T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Group 3"/>
          <p:cNvGrpSpPr/>
          <p:nvPr/>
        </p:nvGrpSpPr>
        <p:grpSpPr>
          <a:xfrm>
            <a:off x="177840" y="1514520"/>
            <a:ext cx="8760960" cy="4451040"/>
            <a:chOff x="177840" y="1514520"/>
            <a:chExt cx="8760960" cy="4451040"/>
          </a:xfrm>
        </p:grpSpPr>
        <p:sp>
          <p:nvSpPr>
            <p:cNvPr id="897" name="Rectangle 4"/>
            <p:cNvSpPr/>
            <p:nvPr/>
          </p:nvSpPr>
          <p:spPr>
            <a:xfrm>
              <a:off x="5743080" y="5426280"/>
              <a:ext cx="319428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98" name="Rectangle 5"/>
            <p:cNvSpPr/>
            <p:nvPr/>
          </p:nvSpPr>
          <p:spPr>
            <a:xfrm>
              <a:off x="177840" y="5426280"/>
              <a:ext cx="55652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9440" indent="-3794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8 Mise en production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marL="379440" indent="-379440"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899" name="Rectangle 6"/>
            <p:cNvSpPr/>
            <p:nvPr/>
          </p:nvSpPr>
          <p:spPr>
            <a:xfrm>
              <a:off x="5743080" y="4888440"/>
              <a:ext cx="319428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0" name="Rectangle 7"/>
            <p:cNvSpPr/>
            <p:nvPr/>
          </p:nvSpPr>
          <p:spPr>
            <a:xfrm>
              <a:off x="177840" y="4888440"/>
              <a:ext cx="55652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9440" indent="-3794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7Pré-Production 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marL="379440" indent="-379440"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1" name="Rectangle 8"/>
            <p:cNvSpPr/>
            <p:nvPr/>
          </p:nvSpPr>
          <p:spPr>
            <a:xfrm>
              <a:off x="5743080" y="4136400"/>
              <a:ext cx="319428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2" name="Rectangle 9"/>
            <p:cNvSpPr/>
            <p:nvPr/>
          </p:nvSpPr>
          <p:spPr>
            <a:xfrm>
              <a:off x="177840" y="4136400"/>
              <a:ext cx="55652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9440" indent="-3794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6 Établir modalités d’échange données personnelles avec l’ENT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marL="379440" indent="-3794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marL="379440" indent="-3794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3" name="Rectangle 10"/>
            <p:cNvSpPr/>
            <p:nvPr/>
          </p:nvSpPr>
          <p:spPr>
            <a:xfrm>
              <a:off x="5743080" y="3598560"/>
              <a:ext cx="319428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4" name="Rectangle 11"/>
            <p:cNvSpPr/>
            <p:nvPr/>
          </p:nvSpPr>
          <p:spPr>
            <a:xfrm>
              <a:off x="177840" y="3598560"/>
              <a:ext cx="55652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9440" indent="-3794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 Produire les fichiers XML complets et des fichiers de Deltas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marL="379440" indent="-379440"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5" name="Rectangle 12"/>
            <p:cNvSpPr/>
            <p:nvPr/>
          </p:nvSpPr>
          <p:spPr>
            <a:xfrm>
              <a:off x="5743080" y="3060720"/>
              <a:ext cx="319428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6" name="Rectangle 13"/>
            <p:cNvSpPr/>
            <p:nvPr/>
          </p:nvSpPr>
          <p:spPr>
            <a:xfrm>
              <a:off x="177840" y="3060720"/>
              <a:ext cx="55652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9440" indent="-3794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4 Installer l’annuaire fédérateur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marL="379440" indent="-379440"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7" name="Rectangle 14"/>
            <p:cNvSpPr/>
            <p:nvPr/>
          </p:nvSpPr>
          <p:spPr>
            <a:xfrm>
              <a:off x="5743080" y="2576880"/>
              <a:ext cx="3194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8" name="Rectangle 15"/>
            <p:cNvSpPr/>
            <p:nvPr/>
          </p:nvSpPr>
          <p:spPr>
            <a:xfrm>
              <a:off x="177840" y="2576880"/>
              <a:ext cx="5565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9440" indent="-379440"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3 Fiabiliser les données SCONET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09" name="Rectangle 16"/>
            <p:cNvSpPr/>
            <p:nvPr/>
          </p:nvSpPr>
          <p:spPr>
            <a:xfrm>
              <a:off x="5743080" y="2018520"/>
              <a:ext cx="319428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0" name="Rectangle 17"/>
            <p:cNvSpPr/>
            <p:nvPr/>
          </p:nvSpPr>
          <p:spPr>
            <a:xfrm>
              <a:off x="177840" y="2018520"/>
              <a:ext cx="556524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71520" indent="-371520"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 Se préparer à l’arrivée de l’annuaire fédérateur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marL="371520" indent="-371520"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chat des plateformes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1" name="Rectangle 18"/>
            <p:cNvSpPr/>
            <p:nvPr/>
          </p:nvSpPr>
          <p:spPr>
            <a:xfrm>
              <a:off x="5743080" y="1514520"/>
              <a:ext cx="31942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2" name="Rectangle 19"/>
            <p:cNvSpPr/>
            <p:nvPr/>
          </p:nvSpPr>
          <p:spPr>
            <a:xfrm>
              <a:off x="177840" y="1514520"/>
              <a:ext cx="556524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9440" indent="-379440">
                <a:spcBef>
                  <a:spcPts val="349"/>
                </a:spcBef>
                <a:tabLst>
                  <a:tab algn="l" pos="0"/>
                  <a:tab algn="l" pos="379440"/>
                  <a:tab algn="l" pos="1293840"/>
                  <a:tab algn="l" pos="2208240"/>
                  <a:tab algn="l" pos="3122640"/>
                  <a:tab algn="l" pos="4037040"/>
                  <a:tab algn="l" pos="4951440"/>
                  <a:tab algn="l" pos="5865840"/>
                  <a:tab algn="l" pos="6780240"/>
                  <a:tab algn="l" pos="7694640"/>
                  <a:tab algn="l" pos="8609040"/>
                  <a:tab algn="l" pos="9523440"/>
                  <a:tab algn="l" pos="104378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 Nommer un chef de projet Annuaire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3" name="Line 20"/>
            <p:cNvSpPr/>
            <p:nvPr/>
          </p:nvSpPr>
          <p:spPr>
            <a:xfrm>
              <a:off x="177840" y="1514520"/>
              <a:ext cx="8759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4" name="Line 21"/>
            <p:cNvSpPr/>
            <p:nvPr/>
          </p:nvSpPr>
          <p:spPr>
            <a:xfrm>
              <a:off x="177840" y="2018520"/>
              <a:ext cx="875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5" name="Line 22"/>
            <p:cNvSpPr/>
            <p:nvPr/>
          </p:nvSpPr>
          <p:spPr>
            <a:xfrm>
              <a:off x="177840" y="2576880"/>
              <a:ext cx="875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6" name="Line 23"/>
            <p:cNvSpPr/>
            <p:nvPr/>
          </p:nvSpPr>
          <p:spPr>
            <a:xfrm>
              <a:off x="177840" y="3060720"/>
              <a:ext cx="875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7" name="Line 24"/>
            <p:cNvSpPr/>
            <p:nvPr/>
          </p:nvSpPr>
          <p:spPr>
            <a:xfrm>
              <a:off x="177840" y="3598560"/>
              <a:ext cx="875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8" name="Line 25"/>
            <p:cNvSpPr/>
            <p:nvPr/>
          </p:nvSpPr>
          <p:spPr>
            <a:xfrm>
              <a:off x="177840" y="4136400"/>
              <a:ext cx="875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19" name="Line 26"/>
            <p:cNvSpPr/>
            <p:nvPr/>
          </p:nvSpPr>
          <p:spPr>
            <a:xfrm>
              <a:off x="177840" y="4888440"/>
              <a:ext cx="875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20" name="Line 27"/>
            <p:cNvSpPr/>
            <p:nvPr/>
          </p:nvSpPr>
          <p:spPr>
            <a:xfrm>
              <a:off x="177840" y="5426280"/>
              <a:ext cx="875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21" name="Line 28"/>
            <p:cNvSpPr/>
            <p:nvPr/>
          </p:nvSpPr>
          <p:spPr>
            <a:xfrm>
              <a:off x="177840" y="5964120"/>
              <a:ext cx="8759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22" name="Line 29"/>
            <p:cNvSpPr/>
            <p:nvPr/>
          </p:nvSpPr>
          <p:spPr>
            <a:xfrm>
              <a:off x="177840" y="1514520"/>
              <a:ext cx="1080" cy="444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23" name="Line 30"/>
            <p:cNvSpPr/>
            <p:nvPr/>
          </p:nvSpPr>
          <p:spPr>
            <a:xfrm>
              <a:off x="5743080" y="1514520"/>
              <a:ext cx="1080" cy="444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24" name="Line 31"/>
            <p:cNvSpPr/>
            <p:nvPr/>
          </p:nvSpPr>
          <p:spPr>
            <a:xfrm>
              <a:off x="8937720" y="1514520"/>
              <a:ext cx="1080" cy="444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925" name="Text Box 32"/>
          <p:cNvSpPr/>
          <p:nvPr/>
        </p:nvSpPr>
        <p:spPr>
          <a:xfrm>
            <a:off x="6184800" y="2219400"/>
            <a:ext cx="1568520" cy="276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TSI A1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26" name="Text Box 33"/>
          <p:cNvSpPr/>
          <p:nvPr/>
        </p:nvSpPr>
        <p:spPr>
          <a:xfrm>
            <a:off x="6184800" y="3124080"/>
            <a:ext cx="158760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SIGA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quip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de diffusion 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27" name="Text Box 34"/>
          <p:cNvSpPr/>
          <p:nvPr/>
        </p:nvSpPr>
        <p:spPr>
          <a:xfrm>
            <a:off x="6184800" y="3703680"/>
            <a:ext cx="161604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SIGAT Equipe de diffusion 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28" name="Text Box 35"/>
          <p:cNvSpPr/>
          <p:nvPr/>
        </p:nvSpPr>
        <p:spPr>
          <a:xfrm>
            <a:off x="6184800" y="5019840"/>
            <a:ext cx="1586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SIGAT Equipe de diffusion 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29" name="Text Box 36"/>
          <p:cNvSpPr/>
          <p:nvPr/>
        </p:nvSpPr>
        <p:spPr>
          <a:xfrm>
            <a:off x="6184800" y="2712960"/>
            <a:ext cx="1602000" cy="276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ctorat CTIC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30" name="Text Box 37"/>
          <p:cNvSpPr/>
          <p:nvPr/>
        </p:nvSpPr>
        <p:spPr>
          <a:xfrm>
            <a:off x="6184800" y="4251240"/>
            <a:ext cx="1596960" cy="6300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STSI A1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Préconisations, Validation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9080" y="19080"/>
            <a:ext cx="9144000" cy="7009920"/>
            <a:chOff x="19080" y="19080"/>
            <a:chExt cx="9144000" cy="7009920"/>
          </a:xfrm>
        </p:grpSpPr>
        <p:sp>
          <p:nvSpPr>
            <p:cNvPr id="932" name="Rectangle 3"/>
            <p:cNvSpPr/>
            <p:nvPr/>
          </p:nvSpPr>
          <p:spPr>
            <a:xfrm>
              <a:off x="19080" y="19080"/>
              <a:ext cx="9144000" cy="700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933" name="Rectangle 4"/>
            <p:cNvSpPr/>
            <p:nvPr/>
          </p:nvSpPr>
          <p:spPr>
            <a:xfrm>
              <a:off x="268200" y="273600"/>
              <a:ext cx="8710560" cy="6494040"/>
            </a:xfrm>
            <a:prstGeom prst="rect">
              <a:avLst/>
            </a:prstGeom>
            <a:solidFill>
              <a:srgbClr val="9bb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934" name="Group 5"/>
            <p:cNvGrpSpPr/>
            <p:nvPr/>
          </p:nvGrpSpPr>
          <p:grpSpPr>
            <a:xfrm>
              <a:off x="6810480" y="2342880"/>
              <a:ext cx="2301840" cy="2364840"/>
              <a:chOff x="6810480" y="2342880"/>
              <a:chExt cx="2301840" cy="2364840"/>
            </a:xfrm>
          </p:grpSpPr>
          <p:grpSp>
            <p:nvGrpSpPr>
              <p:cNvPr id="935" name="Group 6"/>
              <p:cNvGrpSpPr/>
              <p:nvPr/>
            </p:nvGrpSpPr>
            <p:grpSpPr>
              <a:xfrm>
                <a:off x="6810480" y="2342880"/>
                <a:ext cx="2301840" cy="2364840"/>
                <a:chOff x="6810480" y="2342880"/>
                <a:chExt cx="2301840" cy="2364840"/>
              </a:xfrm>
            </p:grpSpPr>
            <p:sp>
              <p:nvSpPr>
                <p:cNvPr id="936" name="Rectangle 7"/>
                <p:cNvSpPr/>
                <p:nvPr/>
              </p:nvSpPr>
              <p:spPr>
                <a:xfrm>
                  <a:off x="6810480" y="2342880"/>
                  <a:ext cx="166680" cy="235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937" name="Rectangle 8"/>
                <p:cNvSpPr/>
                <p:nvPr/>
              </p:nvSpPr>
              <p:spPr>
                <a:xfrm rot="5400000">
                  <a:off x="7875360" y="1279080"/>
                  <a:ext cx="17208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938" name="Rectangle 9"/>
                <p:cNvSpPr/>
                <p:nvPr/>
              </p:nvSpPr>
              <p:spPr>
                <a:xfrm rot="5400000">
                  <a:off x="7875360" y="3470760"/>
                  <a:ext cx="171720" cy="230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39" name="Picture 10" descr="Nx LOGO1"/>
              <p:cNvPicPr/>
              <p:nvPr/>
            </p:nvPicPr>
            <p:blipFill>
              <a:blip r:embed="rId1"/>
              <a:stretch/>
            </p:blipFill>
            <p:spPr>
              <a:xfrm>
                <a:off x="6970680" y="2503080"/>
                <a:ext cx="2008080" cy="205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40" name="Picture 11" descr="logoMENESR"/>
          <p:cNvPicPr/>
          <p:nvPr/>
        </p:nvPicPr>
        <p:blipFill>
          <a:blip r:embed="rId2"/>
          <a:stretch/>
        </p:blipFill>
        <p:spPr>
          <a:xfrm>
            <a:off x="5164200" y="297000"/>
            <a:ext cx="2022480" cy="189072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36160" y="2274480"/>
            <a:ext cx="6597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03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Précisions sur les grandes étapes du pro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F14F-69E5-4459-B30D-3D797F5A65B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é requ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13960" y="1771200"/>
            <a:ext cx="8697960" cy="48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lnSpc>
                <a:spcPct val="80000"/>
              </a:lnSpc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étaillée des documents de référence et des outils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nalyse détaillée de certains attrib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asses / grou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T à cheval sur 2 acadé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425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s limites°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4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érimètre détaillé (couvert/non couve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tégories de personnes et de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as d’us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4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aisie des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Erreurs de saisie </a:t>
            </a:r>
            <a:r>
              <a:rPr b="0" lang="fr-FR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sensibilisation des établiss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Fiche remontée anomali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es interrog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hat du matériel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tilisation du jeu d’essai anonymi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ions sur les types d’ « erreurs » incluses, de rejets à prendre en compte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nnées hors périmètre à ignorer (rattachement à des établissements hors expérimen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80000"/>
              </a:lnSpc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nctionnement du mode delta 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4"/>
          <p:cNvSpPr/>
          <p:nvPr/>
        </p:nvSpPr>
        <p:spPr>
          <a:xfrm>
            <a:off x="142920" y="1725480"/>
            <a:ext cx="561960" cy="446580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Espace réservé du numéro de diapositive 5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7ADA-A985-4081-92F1-4AD3E0883B7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2774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allation de l’A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raction 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mps de traitement et de propa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de l outil annuaire fédérateu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ses interrogé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figuration des batch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142920" y="1725480"/>
            <a:ext cx="561960" cy="446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FEF-948B-40B5-834E-6D39CEC0C78A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é 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738000" y="1837800"/>
            <a:ext cx="803412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96920" indent="-196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qualité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6320" indent="-141120">
              <a:spcBef>
                <a:spcPts val="400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itement en masse de certaines anomalies (ex: supprimer les « - » à la place du prén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scules d’une année sur l’au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6320" indent="-141120">
              <a:spcBef>
                <a:spcPts val="400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érennité de la cl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6320" indent="-141120">
              <a:spcBef>
                <a:spcPts val="400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blème de volumétrie : delta énorme (mais pas plus l’initialis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6320" indent="-141120">
              <a:spcBef>
                <a:spcPts val="400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scule sur l’autre base (dates associées, impératifs de gestion SCONET, immatriculation des nouveaux entrants, des enfants inscrits à 2 endro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6320" indent="-141120">
              <a:spcBef>
                <a:spcPts val="400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ur les nouveaux, branchez-vous directement sur la nouvelle base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mps de traitement –analyse des perform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alyse de la chaine de bout en 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040" indent="-18144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alités d’échange avec l’intégrateur 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n attendant le guichet uniqu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itement des de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040" indent="-18144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voquer cas particuliers (requête en modification à traiter par l’ENT en créatio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figuration des batches côté 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142920" y="1725480"/>
            <a:ext cx="561960" cy="44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ED86-751E-40B7-9F9C-76E2228F2942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aractéristiques de l’annuaire ENT</a:t>
            </a: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604880"/>
            <a:ext cx="888048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lnSpc>
                <a:spcPct val="105000"/>
              </a:lnSpc>
              <a:spcBef>
                <a:spcPts val="7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Annuaire 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 algn="just">
              <a:lnSpc>
                <a:spcPct val="95000"/>
              </a:lnSpc>
              <a:spcBef>
                <a:spcPts val="675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ca5be"/>
                </a:solidFill>
                <a:latin typeface="Arial"/>
              </a:rPr>
              <a:t>« Annuaire » contenant les informations partagées nécessaires à la gestion des identités, à l’administration des droits d’accès et à la qualification des personnes et des structures en relation avec l’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Annuaire fédér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05000"/>
              </a:lnSpc>
              <a:spcBef>
                <a:spcPts val="60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pose un service de référence </a:t>
            </a:r>
            <a:r>
              <a:rPr b="0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our l’ensemble des données de l’Éducation Nationale dont l’ENT a bes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05000"/>
              </a:lnSpc>
              <a:spcBef>
                <a:spcPts val="60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ègre l’ensemble des attributs utiles pour l’ENT et présents dans les différentes bases du MENESR (Sconet, EPP, STSWeb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our les autres populations et attribu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l’Annuaire ENT sera complé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05000"/>
              </a:lnSpc>
              <a:spcBef>
                <a:spcPts val="60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7ca5be"/>
                </a:solidFill>
                <a:latin typeface="Arial"/>
              </a:rPr>
              <a:t>Par des procédures locales (conformément à l’arrêté CNIL 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05000"/>
              </a:lnSpc>
              <a:spcBef>
                <a:spcPts val="60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7ca5be"/>
                </a:solidFill>
                <a:latin typeface="Arial"/>
              </a:rPr>
              <a:t>Par d’autres dispositifs d’alimentation depuis les SI des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05000"/>
              </a:lnSpc>
              <a:spcBef>
                <a:spcPts val="60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7ca5be"/>
                </a:solidFill>
                <a:latin typeface="Arial"/>
              </a:rPr>
              <a:t>Par des procédures d’alimentation manu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Espace réservé du numéro de diapositive 5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61ED-383B-4123-884C-F934E582050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4680" cy="29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cules d’une année sur l’a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érennité de la cl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oblème de volumétrie : delta énorme (mais pas plus qu’à l’initialisa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Bascule sur l’autre base (dates associées, impératifs de gestion SCONET, immatriculation des nouveaux entrants, des enfants inscrits à 2 endroi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ur les nouveaux, branchez-vous directement sur la nouvelle base (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our d’expé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142920" y="1725480"/>
            <a:ext cx="561960" cy="446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724040" y="1704960"/>
            <a:ext cx="67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1641600" y="3959280"/>
            <a:ext cx="71355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C966-3FA5-47D9-930D-71CC719A32E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457200" y="1676520"/>
            <a:ext cx="756432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d0a20"/>
                </a:solidFill>
                <a:latin typeface="Arial"/>
              </a:rPr>
              <a:t>Installation en plusieurs étapes : 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allation des scénarii sunopsis (cf PIAD) 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allation de l’agent sunopsis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allation de DB2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éation et paramètrage de la base AAF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allation des scripts ( paramètrage …)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allation du fichier des nomenclatures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mètrage ASPETL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247680"/>
            <a:ext cx="1476360" cy="12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7694640" y="247680"/>
            <a:ext cx="1434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965" name="Picture 6" descr="Logo acad - avril 2004_couleur"/>
          <p:cNvPicPr/>
          <p:nvPr/>
        </p:nvPicPr>
        <p:blipFill>
          <a:blip r:embed="rId1"/>
          <a:stretch/>
        </p:blipFill>
        <p:spPr>
          <a:xfrm>
            <a:off x="208080" y="217440"/>
            <a:ext cx="13064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7F42-8840-403B-99E1-2CADF2C77DC5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67" name="AutoShape 2"/>
          <p:cNvSpPr/>
          <p:nvPr/>
        </p:nvSpPr>
        <p:spPr>
          <a:xfrm>
            <a:off x="0" y="1425600"/>
            <a:ext cx="8004240" cy="981000"/>
          </a:xfrm>
          <a:prstGeom prst="rightArrow">
            <a:avLst>
              <a:gd name="adj1" fmla="val 52750"/>
              <a:gd name="adj2" fmla="val 20390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1189080" y="1660680"/>
            <a:ext cx="1468440" cy="52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69" name="Rectangle 4"/>
          <p:cNvSpPr/>
          <p:nvPr/>
        </p:nvSpPr>
        <p:spPr>
          <a:xfrm>
            <a:off x="447840" y="1655640"/>
            <a:ext cx="734760" cy="4569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2597040" y="1673280"/>
            <a:ext cx="2552760" cy="50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2930400" y="176220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72" name="Text Box 7"/>
          <p:cNvSpPr/>
          <p:nvPr/>
        </p:nvSpPr>
        <p:spPr>
          <a:xfrm>
            <a:off x="1181160" y="1644480"/>
            <a:ext cx="123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é produc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590840" y="33156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ning type d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ise en œuv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  projet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9"/>
          <p:cNvSpPr/>
          <p:nvPr/>
        </p:nvSpPr>
        <p:spPr>
          <a:xfrm>
            <a:off x="12708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75" name="Text Box 10"/>
          <p:cNvSpPr/>
          <p:nvPr/>
        </p:nvSpPr>
        <p:spPr>
          <a:xfrm>
            <a:off x="1225440" y="1436760"/>
            <a:ext cx="9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76" name="Rectangle 11"/>
          <p:cNvSpPr/>
          <p:nvPr/>
        </p:nvSpPr>
        <p:spPr>
          <a:xfrm>
            <a:off x="6919920" y="56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3216240" y="6588000"/>
            <a:ext cx="1725480" cy="24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Chefs d’établissemen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78" name="Text Box 13"/>
          <p:cNvSpPr/>
          <p:nvPr/>
        </p:nvSpPr>
        <p:spPr>
          <a:xfrm>
            <a:off x="5192640" y="6588000"/>
            <a:ext cx="1731960" cy="24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Rectora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79" name="Text Box 14"/>
          <p:cNvSpPr/>
          <p:nvPr/>
        </p:nvSpPr>
        <p:spPr>
          <a:xfrm>
            <a:off x="7165800" y="6588000"/>
            <a:ext cx="1524240" cy="246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intég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0" name="Rectangle 15"/>
          <p:cNvSpPr/>
          <p:nvPr/>
        </p:nvSpPr>
        <p:spPr>
          <a:xfrm>
            <a:off x="1625760" y="6458040"/>
            <a:ext cx="739440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es acteur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1" name="Text Box 16"/>
          <p:cNvSpPr/>
          <p:nvPr/>
        </p:nvSpPr>
        <p:spPr>
          <a:xfrm>
            <a:off x="360360" y="2354400"/>
            <a:ext cx="822240" cy="1470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ller l’annuaire 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xtraire les fichiers XML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(3 semaine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2" name="Text Box 17"/>
          <p:cNvSpPr/>
          <p:nvPr/>
        </p:nvSpPr>
        <p:spPr>
          <a:xfrm>
            <a:off x="210960" y="4479840"/>
            <a:ext cx="1519560" cy="641520"/>
          </a:xfrm>
          <a:prstGeom prst="rect">
            <a:avLst/>
          </a:prstGeom>
          <a:solidFill>
            <a:srgbClr val="ffffff"/>
          </a:solidFill>
          <a:ln w="44280">
            <a:solidFill>
              <a:srgbClr val="cd0a2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vraison de l’Annuaire Fédé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3" name="Rectangle 18"/>
          <p:cNvSpPr/>
          <p:nvPr/>
        </p:nvSpPr>
        <p:spPr>
          <a:xfrm>
            <a:off x="14400" y="1652760"/>
            <a:ext cx="423720" cy="480960"/>
          </a:xfrm>
          <a:prstGeom prst="rect">
            <a:avLst/>
          </a:prstGeom>
          <a:solidFill>
            <a:srgbClr val="00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4" name="Text Box 19"/>
          <p:cNvSpPr/>
          <p:nvPr/>
        </p:nvSpPr>
        <p:spPr>
          <a:xfrm>
            <a:off x="258840" y="1730520"/>
            <a:ext cx="10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llatio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5" name="Rectangle 20"/>
          <p:cNvSpPr/>
          <p:nvPr/>
        </p:nvSpPr>
        <p:spPr>
          <a:xfrm>
            <a:off x="1679400" y="2157480"/>
            <a:ext cx="70200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d0a20"/>
                </a:solidFill>
                <a:latin typeface="Arial"/>
                <a:ea typeface="Arial Unicode MS"/>
              </a:rPr>
              <a:t>Première exploitation : 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ramétrage des établissements expérimentaux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itialisation de la base AAF 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raitement des erreurs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xtraction des fichiers XML pour test d’alimentation de l’annuaire ENT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xtraction des fichiers XML pour alimentation de l’annuaire ENT en pré-production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6" name="AutoShape 21"/>
          <p:cNvSpPr/>
          <p:nvPr/>
        </p:nvSpPr>
        <p:spPr>
          <a:xfrm>
            <a:off x="5726160" y="3787920"/>
            <a:ext cx="282600" cy="582480"/>
          </a:xfrm>
          <a:custGeom>
            <a:avLst/>
            <a:gdLst>
              <a:gd name="textAreaLeft" fmla="*/ 37800 w 282600"/>
              <a:gd name="textAreaRight" fmla="*/ 244800 w 282600"/>
              <a:gd name="textAreaTop" fmla="*/ 102240 h 582480"/>
              <a:gd name="textAreaBottom" fmla="*/ 420840 h 5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9bbace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7" name="AutoShape 22"/>
          <p:cNvSpPr/>
          <p:nvPr/>
        </p:nvSpPr>
        <p:spPr>
          <a:xfrm rot="10860000">
            <a:off x="5351040" y="3763440"/>
            <a:ext cx="282600" cy="582840"/>
          </a:xfrm>
          <a:custGeom>
            <a:avLst/>
            <a:gdLst>
              <a:gd name="textAreaLeft" fmla="*/ 37800 w 282600"/>
              <a:gd name="textAreaRight" fmla="*/ 244800 w 282600"/>
              <a:gd name="textAreaTop" fmla="*/ 102600 h 582840"/>
              <a:gd name="textAreaBottom" fmla="*/ 421200 h 58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9bbace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8" name="AutoShape 23"/>
          <p:cNvSpPr/>
          <p:nvPr/>
        </p:nvSpPr>
        <p:spPr>
          <a:xfrm>
            <a:off x="8686800" y="4724280"/>
            <a:ext cx="282600" cy="582840"/>
          </a:xfrm>
          <a:custGeom>
            <a:avLst/>
            <a:gdLst>
              <a:gd name="textAreaLeft" fmla="*/ 37800 w 282600"/>
              <a:gd name="textAreaRight" fmla="*/ 244800 w 282600"/>
              <a:gd name="textAreaTop" fmla="*/ 102600 h 582840"/>
              <a:gd name="textAreaBottom" fmla="*/ 421200 h 58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9bbace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89" name="AutoShape 24"/>
          <p:cNvSpPr/>
          <p:nvPr/>
        </p:nvSpPr>
        <p:spPr>
          <a:xfrm rot="10860000">
            <a:off x="8305560" y="4648320"/>
            <a:ext cx="282600" cy="582480"/>
          </a:xfrm>
          <a:custGeom>
            <a:avLst/>
            <a:gdLst>
              <a:gd name="textAreaLeft" fmla="*/ 37800 w 282600"/>
              <a:gd name="textAreaRight" fmla="*/ 244800 w 282600"/>
              <a:gd name="textAreaTop" fmla="*/ 102240 h 582480"/>
              <a:gd name="textAreaBottom" fmla="*/ 420840 h 5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9bbace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90" name="Rectangle 25"/>
          <p:cNvSpPr/>
          <p:nvPr/>
        </p:nvSpPr>
        <p:spPr>
          <a:xfrm>
            <a:off x="0" y="247680"/>
            <a:ext cx="1476360" cy="12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991" name="Picture 26" descr="Logo acad - avril 2004_couleur"/>
          <p:cNvPicPr/>
          <p:nvPr/>
        </p:nvPicPr>
        <p:blipFill>
          <a:blip r:embed="rId2"/>
          <a:stretch/>
        </p:blipFill>
        <p:spPr>
          <a:xfrm>
            <a:off x="208080" y="60480"/>
            <a:ext cx="1306440" cy="132552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27"/>
          <p:cNvSpPr/>
          <p:nvPr/>
        </p:nvSpPr>
        <p:spPr>
          <a:xfrm>
            <a:off x="7694640" y="247680"/>
            <a:ext cx="1434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69A1-00A1-4BFC-BD7E-494FE19D0AB5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5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elier techniqu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6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tallation de l’agent su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Picture 4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3444840" cy="673200"/>
          </a:xfrm>
          <a:prstGeom prst="rect">
            <a:avLst/>
          </a:prstGeom>
          <a:ln w="0">
            <a:noFill/>
          </a:ln>
        </p:spPr>
      </p:pic>
      <p:sp>
        <p:nvSpPr>
          <p:cNvPr id="997" name="Rectangle 5"/>
          <p:cNvSpPr/>
          <p:nvPr/>
        </p:nvSpPr>
        <p:spPr>
          <a:xfrm>
            <a:off x="762120" y="2895480"/>
            <a:ext cx="756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tallation de db2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998" name="Rectangle 6"/>
          <p:cNvSpPr/>
          <p:nvPr/>
        </p:nvSpPr>
        <p:spPr>
          <a:xfrm>
            <a:off x="762120" y="3429000"/>
            <a:ext cx="756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réation de la base AAF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999" name="Picture 7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3649680" cy="123984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8"/>
          <p:cNvSpPr/>
          <p:nvPr/>
        </p:nvSpPr>
        <p:spPr>
          <a:xfrm>
            <a:off x="1756800" y="5408640"/>
            <a:ext cx="663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réation des utilisateurs 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création de la base : lancement du script createBDAAFvx.x.sql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paramètrage de la base : logs….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01" name="Rectangle 9"/>
          <p:cNvSpPr/>
          <p:nvPr/>
        </p:nvSpPr>
        <p:spPr>
          <a:xfrm>
            <a:off x="0" y="247680"/>
            <a:ext cx="1476360" cy="12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002" name="Picture 10" descr="Logo acad - avril 2004_couleur"/>
          <p:cNvPicPr/>
          <p:nvPr/>
        </p:nvPicPr>
        <p:blipFill>
          <a:blip r:embed="rId3"/>
          <a:stretch/>
        </p:blipFill>
        <p:spPr>
          <a:xfrm>
            <a:off x="208080" y="31680"/>
            <a:ext cx="1306440" cy="1325520"/>
          </a:xfrm>
          <a:prstGeom prst="rect">
            <a:avLst/>
          </a:prstGeom>
          <a:ln w="0">
            <a:noFill/>
          </a:ln>
        </p:spPr>
      </p:pic>
      <p:sp>
        <p:nvSpPr>
          <p:cNvPr id="1003" name="Rectangle 11"/>
          <p:cNvSpPr/>
          <p:nvPr/>
        </p:nvSpPr>
        <p:spPr>
          <a:xfrm>
            <a:off x="7694640" y="247680"/>
            <a:ext cx="1434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1108-1C71-483E-8A30-3318F82517A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5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elier techniqu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6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tallation des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"/>
          <p:cNvSpPr/>
          <p:nvPr/>
        </p:nvSpPr>
        <p:spPr>
          <a:xfrm>
            <a:off x="4879080" y="2057400"/>
            <a:ext cx="2795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appli/aaf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export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conf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fichier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lib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log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script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import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conf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fichier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lib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log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script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008" name="Picture 5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2741760" cy="99540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6" descr="Logo acad - avril 2004_couleur"/>
          <p:cNvPicPr/>
          <p:nvPr/>
        </p:nvPicPr>
        <p:blipFill>
          <a:blip r:embed="rId2"/>
          <a:stretch/>
        </p:blipFill>
        <p:spPr>
          <a:xfrm>
            <a:off x="208080" y="217440"/>
            <a:ext cx="1306440" cy="1325520"/>
          </a:xfrm>
          <a:prstGeom prst="rect">
            <a:avLst/>
          </a:prstGeom>
          <a:ln w="0">
            <a:noFill/>
          </a:ln>
        </p:spPr>
      </p:pic>
      <p:sp>
        <p:nvSpPr>
          <p:cNvPr id="1010" name="Rectangle 7"/>
          <p:cNvSpPr/>
          <p:nvPr/>
        </p:nvSpPr>
        <p:spPr>
          <a:xfrm>
            <a:off x="7694640" y="247680"/>
            <a:ext cx="1434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8776-0CD4-4640-AF88-315F03EBDFFC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5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elier techniqu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6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mètrage des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4"/>
          <p:cNvSpPr/>
          <p:nvPr/>
        </p:nvSpPr>
        <p:spPr>
          <a:xfrm>
            <a:off x="1982880" y="213660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chier env.conf</a:t>
            </a: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chier log.conf</a:t>
            </a: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chier ENT_list.conf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</p:txBody>
      </p:sp>
      <p:graphicFrame>
        <p:nvGraphicFramePr>
          <p:cNvPr id="1015" name="Object 5"/>
          <p:cNvGraphicFramePr/>
          <p:nvPr/>
        </p:nvGraphicFramePr>
        <p:xfrm>
          <a:off x="1371600" y="3429000"/>
          <a:ext cx="6489720" cy="31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29000"/>
                    <a:ext cx="64897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7" name="Text Box 6"/>
          <p:cNvSpPr/>
          <p:nvPr/>
        </p:nvSpPr>
        <p:spPr>
          <a:xfrm>
            <a:off x="763560" y="3886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i vous avez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</p:txBody>
      </p:sp>
      <p:graphicFrame>
        <p:nvGraphicFramePr>
          <p:cNvPr id="1018" name="Object 7"/>
          <p:cNvGraphicFramePr/>
          <p:nvPr/>
        </p:nvGraphicFramePr>
        <p:xfrm>
          <a:off x="2806560" y="3962520"/>
          <a:ext cx="6337440" cy="290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3962520"/>
                    <a:ext cx="63374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Text Box 8"/>
          <p:cNvSpPr/>
          <p:nvPr/>
        </p:nvSpPr>
        <p:spPr>
          <a:xfrm>
            <a:off x="681120" y="4495680"/>
            <a:ext cx="81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us obtiendrez un fichier ENT_Filtre_Complet_YYYYMMAA_000.xml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21" name="Text Box 9"/>
          <p:cNvSpPr/>
          <p:nvPr/>
        </p:nvSpPr>
        <p:spPr>
          <a:xfrm>
            <a:off x="763560" y="4876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i vous avez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d10a14"/>
              </a:solidFill>
              <a:latin typeface="Arial"/>
            </a:endParaRPr>
          </a:p>
        </p:txBody>
      </p:sp>
      <p:graphicFrame>
        <p:nvGraphicFramePr>
          <p:cNvPr id="1022" name="Object 10"/>
          <p:cNvGraphicFramePr/>
          <p:nvPr/>
        </p:nvGraphicFramePr>
        <p:xfrm>
          <a:off x="2730600" y="4952880"/>
          <a:ext cx="6413400" cy="520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2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0600" y="4952880"/>
                    <a:ext cx="64134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Text Box 11"/>
          <p:cNvSpPr/>
          <p:nvPr/>
        </p:nvSpPr>
        <p:spPr>
          <a:xfrm>
            <a:off x="524520" y="5562720"/>
            <a:ext cx="86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us obtiendrez 2 fichiers ETB0090025D_Complet_YYYYMMAA_000.xml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761040" y="5943600"/>
            <a:ext cx="56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TB0090018W_Complet_YYYYMMAA_000.xml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026" name="Picture 13" descr="Logo acad - avril 2004_couleur"/>
          <p:cNvPicPr/>
          <p:nvPr/>
        </p:nvPicPr>
        <p:blipFill>
          <a:blip r:embed="rId7"/>
          <a:stretch/>
        </p:blipFill>
        <p:spPr>
          <a:xfrm>
            <a:off x="208080" y="217440"/>
            <a:ext cx="1306440" cy="132552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14"/>
          <p:cNvSpPr/>
          <p:nvPr/>
        </p:nvSpPr>
        <p:spPr>
          <a:xfrm>
            <a:off x="7694640" y="247680"/>
            <a:ext cx="1434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B222-5919-40C0-B0C1-D87BB9FB8DF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5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elier techniqu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6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tallation des nomencl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4"/>
          <p:cNvSpPr/>
          <p:nvPr/>
        </p:nvSpPr>
        <p:spPr>
          <a:xfrm>
            <a:off x="1359000" y="3809880"/>
            <a:ext cx="7837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ifférentes variables à inititialis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: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la durée du delta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une adresse email pour recevoir les compte-rendus 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 ’exécution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durée de conservation des données sur les enseignants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durée de conservation des données sur les éléves et leurs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rents.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032" name="Picture 5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3014640" cy="234720"/>
          </a:xfrm>
          <a:prstGeom prst="rect">
            <a:avLst/>
          </a:prstGeom>
          <a:ln w="0">
            <a:noFill/>
          </a:ln>
        </p:spPr>
      </p:pic>
      <p:sp>
        <p:nvSpPr>
          <p:cNvPr id="1033" name="Rectangle 6"/>
          <p:cNvSpPr/>
          <p:nvPr/>
        </p:nvSpPr>
        <p:spPr>
          <a:xfrm>
            <a:off x="914400" y="2590920"/>
            <a:ext cx="756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ramétrage par ASPETL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034" name="Picture 7" descr=""/>
          <p:cNvPicPr/>
          <p:nvPr/>
        </p:nvPicPr>
        <p:blipFill>
          <a:blip r:embed="rId2"/>
          <a:stretch/>
        </p:blipFill>
        <p:spPr>
          <a:xfrm>
            <a:off x="2286000" y="3087720"/>
            <a:ext cx="3044880" cy="341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8" descr="Logo acad - avril 2004_couleur"/>
          <p:cNvPicPr/>
          <p:nvPr/>
        </p:nvPicPr>
        <p:blipFill>
          <a:blip r:embed="rId3"/>
          <a:stretch/>
        </p:blipFill>
        <p:spPr>
          <a:xfrm>
            <a:off x="208080" y="217440"/>
            <a:ext cx="1306440" cy="1325520"/>
          </a:xfrm>
          <a:prstGeom prst="rect">
            <a:avLst/>
          </a:prstGeom>
          <a:ln w="0">
            <a:noFill/>
          </a:ln>
        </p:spPr>
      </p:pic>
      <p:sp>
        <p:nvSpPr>
          <p:cNvPr id="1036" name="Rectangle 9"/>
          <p:cNvSpPr/>
          <p:nvPr/>
        </p:nvSpPr>
        <p:spPr>
          <a:xfrm>
            <a:off x="7694640" y="247680"/>
            <a:ext cx="1434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A541-61ED-486D-811C-F3808399DDC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5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elier techniqu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6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mplément sur le périmètre de t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4"/>
          <p:cNvSpPr/>
          <p:nvPr/>
        </p:nvSpPr>
        <p:spPr>
          <a:xfrm>
            <a:off x="685800" y="2209680"/>
            <a:ext cx="746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écepte : Sconet ne connaît que des UAJ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Toutes les UAA rattachées à un UAJ seront automatiquement incluses dans les extractions :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e pas indiquer les UAA dans le fichier ENT_list.conf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pour une cité scolaire contenant plusieurs UAJ,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éciser toutes les UAJ dans le fichier ENT_list.conf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041" name="Picture 5" descr="Logo acad - avril 2004_couleur"/>
          <p:cNvPicPr/>
          <p:nvPr/>
        </p:nvPicPr>
        <p:blipFill>
          <a:blip r:embed="rId1"/>
          <a:stretch/>
        </p:blipFill>
        <p:spPr>
          <a:xfrm>
            <a:off x="208080" y="217440"/>
            <a:ext cx="1306440" cy="1325520"/>
          </a:xfrm>
          <a:prstGeom prst="rect">
            <a:avLst/>
          </a:prstGeom>
          <a:ln w="0">
            <a:noFill/>
          </a:ln>
        </p:spPr>
      </p:pic>
      <p:sp>
        <p:nvSpPr>
          <p:cNvPr id="1042" name="Rectangle 6"/>
          <p:cNvSpPr/>
          <p:nvPr/>
        </p:nvSpPr>
        <p:spPr>
          <a:xfrm>
            <a:off x="7694640" y="247680"/>
            <a:ext cx="1434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039-D9C3-49F4-8DC7-77EB7BE78C54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5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elier techniqu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6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2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mplément sur lancement des scénari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4"/>
          <p:cNvSpPr/>
          <p:nvPr/>
        </p:nvSpPr>
        <p:spPr>
          <a:xfrm>
            <a:off x="685800" y="2057400"/>
            <a:ext cx="419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ne fois en mode de production :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Utiliser le mode 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« scheduler » pour automatiser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 lancement des traitements 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047" name="Picture 5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402000" cy="4017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6" descr="Logo acad - avril 2004_couleur"/>
          <p:cNvPicPr/>
          <p:nvPr/>
        </p:nvPicPr>
        <p:blipFill>
          <a:blip r:embed="rId2"/>
          <a:stretch/>
        </p:blipFill>
        <p:spPr>
          <a:xfrm>
            <a:off x="208080" y="217440"/>
            <a:ext cx="1306440" cy="1325520"/>
          </a:xfrm>
          <a:prstGeom prst="rect">
            <a:avLst/>
          </a:prstGeom>
          <a:ln w="0">
            <a:noFill/>
          </a:ln>
        </p:spPr>
      </p:pic>
      <p:sp>
        <p:nvSpPr>
          <p:cNvPr id="1049" name="Rectangle 7"/>
          <p:cNvSpPr/>
          <p:nvPr/>
        </p:nvSpPr>
        <p:spPr>
          <a:xfrm>
            <a:off x="7694640" y="247680"/>
            <a:ext cx="1434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190-F01F-4F35-905A-535B3CC112C9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380880" y="1600200"/>
            <a:ext cx="3932280" cy="2314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6268680" y="4881600"/>
            <a:ext cx="1023480" cy="1273320"/>
            <a:chOff x="6268680" y="4881600"/>
            <a:chExt cx="1023480" cy="1273320"/>
          </a:xfrm>
        </p:grpSpPr>
        <p:pic>
          <p:nvPicPr>
            <p:cNvPr id="218" name="Picture 4" descr=""/>
            <p:cNvPicPr/>
            <p:nvPr/>
          </p:nvPicPr>
          <p:blipFill>
            <a:blip r:embed="rId1"/>
            <a:stretch/>
          </p:blipFill>
          <p:spPr>
            <a:xfrm>
              <a:off x="6284880" y="4881600"/>
              <a:ext cx="360360" cy="50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"/>
            <p:cNvPicPr/>
            <p:nvPr/>
          </p:nvPicPr>
          <p:blipFill>
            <a:blip r:embed="rId2"/>
            <a:stretch/>
          </p:blipFill>
          <p:spPr>
            <a:xfrm>
              <a:off x="6705720" y="5091120"/>
              <a:ext cx="3603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6"/>
            <p:cNvSpPr/>
            <p:nvPr/>
          </p:nvSpPr>
          <p:spPr>
            <a:xfrm>
              <a:off x="6268680" y="5513400"/>
              <a:ext cx="1023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Élève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nseignant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arents…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221" name="Group 7"/>
          <p:cNvGrpSpPr/>
          <p:nvPr/>
        </p:nvGrpSpPr>
        <p:grpSpPr>
          <a:xfrm>
            <a:off x="4665600" y="2276640"/>
            <a:ext cx="1220760" cy="1583280"/>
            <a:chOff x="4665600" y="2276640"/>
            <a:chExt cx="1220760" cy="1583280"/>
          </a:xfrm>
        </p:grpSpPr>
        <p:sp>
          <p:nvSpPr>
            <p:cNvPr id="222" name="AutoShape 8"/>
            <p:cNvSpPr/>
            <p:nvPr/>
          </p:nvSpPr>
          <p:spPr>
            <a:xfrm>
              <a:off x="5044680" y="2276640"/>
              <a:ext cx="436320" cy="574560"/>
            </a:xfrm>
            <a:prstGeom prst="foldedCorner">
              <a:avLst>
                <a:gd name="adj" fmla="val 12500"/>
              </a:avLst>
            </a:pr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br>
                <a:rPr sz="1400"/>
              </a:br>
              <a:br>
                <a:rPr sz="1400"/>
              </a:b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4665600" y="2577960"/>
              <a:ext cx="12207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d1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Fichier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limentation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XML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cxnSp>
        <p:nvCxnSpPr>
          <p:cNvPr id="224" name="AutoShape 10"/>
          <p:cNvCxnSpPr/>
          <p:nvPr/>
        </p:nvCxnSpPr>
        <p:spPr>
          <a:xfrm flipV="1">
            <a:off x="4138560" y="2836080"/>
            <a:ext cx="828000" cy="19800"/>
          </a:xfrm>
          <a:prstGeom prst="straightConnector1">
            <a:avLst/>
          </a:prstGeom>
          <a:ln w="76320">
            <a:solidFill>
              <a:srgbClr val="cb232a"/>
            </a:solidFill>
            <a:miter/>
            <a:tailEnd len="med" type="triangle" w="med"/>
          </a:ln>
        </p:spPr>
      </p:cxnSp>
      <p:sp>
        <p:nvSpPr>
          <p:cNvPr id="225" name="Text Box 11"/>
          <p:cNvSpPr/>
          <p:nvPr/>
        </p:nvSpPr>
        <p:spPr>
          <a:xfrm>
            <a:off x="4511520" y="5905440"/>
            <a:ext cx="166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Demande de modifications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7848720" y="4699080"/>
            <a:ext cx="1066680" cy="1036440"/>
          </a:xfrm>
          <a:prstGeom prst="rect">
            <a:avLst/>
          </a:prstGeom>
          <a:ln w="0">
            <a:noFill/>
          </a:ln>
        </p:spPr>
      </p:pic>
      <p:cxnSp>
        <p:nvCxnSpPr>
          <p:cNvPr id="227" name="AutoShape 13"/>
          <p:cNvCxnSpPr>
            <a:stCxn id="220" idx="1"/>
          </p:cNvCxnSpPr>
          <p:nvPr/>
        </p:nvCxnSpPr>
        <p:spPr>
          <a:xfrm flipH="1" flipV="1">
            <a:off x="4136400" y="5820840"/>
            <a:ext cx="2135880" cy="13680"/>
          </a:xfrm>
          <a:prstGeom prst="straightConnector1">
            <a:avLst/>
          </a:prstGeom>
          <a:ln w="28440">
            <a:solidFill>
              <a:srgbClr val="cd0028"/>
            </a:solidFill>
            <a:miter/>
            <a:tailEnd len="med" type="triangle" w="med"/>
          </a:ln>
        </p:spPr>
      </p:cxnSp>
      <p:sp>
        <p:nvSpPr>
          <p:cNvPr id="228" name="Text Box 14"/>
          <p:cNvSpPr/>
          <p:nvPr/>
        </p:nvSpPr>
        <p:spPr>
          <a:xfrm>
            <a:off x="7818480" y="5616720"/>
            <a:ext cx="127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dminist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Ou autre sourc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229" name="AutoShape 15"/>
          <p:cNvCxnSpPr>
            <a:stCxn id="230" idx="0"/>
          </p:cNvCxnSpPr>
          <p:nvPr/>
        </p:nvCxnSpPr>
        <p:spPr>
          <a:xfrm flipH="1" flipV="1">
            <a:off x="2180520" y="3656880"/>
            <a:ext cx="5400" cy="1600920"/>
          </a:xfrm>
          <a:prstGeom prst="straightConnector1">
            <a:avLst/>
          </a:prstGeom>
          <a:ln w="57240">
            <a:solidFill>
              <a:srgbClr val="cd0028"/>
            </a:solidFill>
            <a:miter/>
            <a:tailEnd len="med" type="triangle" w="med"/>
          </a:ln>
        </p:spPr>
      </p:cxnSp>
      <p:grpSp>
        <p:nvGrpSpPr>
          <p:cNvPr id="231" name="Group 16"/>
          <p:cNvGrpSpPr/>
          <p:nvPr/>
        </p:nvGrpSpPr>
        <p:grpSpPr>
          <a:xfrm>
            <a:off x="533520" y="5257800"/>
            <a:ext cx="3305160" cy="1096200"/>
            <a:chOff x="533520" y="5257800"/>
            <a:chExt cx="3305160" cy="1096200"/>
          </a:xfrm>
        </p:grpSpPr>
        <p:sp>
          <p:nvSpPr>
            <p:cNvPr id="230" name="AutoShape 17"/>
            <p:cNvSpPr/>
            <p:nvPr/>
          </p:nvSpPr>
          <p:spPr>
            <a:xfrm>
              <a:off x="533520" y="5257800"/>
              <a:ext cx="3305160" cy="1064880"/>
            </a:xfrm>
            <a:prstGeom prst="roundRect">
              <a:avLst>
                <a:gd name="adj" fmla="val 16667"/>
              </a:avLst>
            </a:prstGeom>
            <a:solidFill>
              <a:srgbClr val="e6dcc1"/>
            </a:solidFill>
            <a:ln w="12600">
              <a:solidFill>
                <a:srgbClr val="6b5a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6b5a2b"/>
                  </a:solidFill>
                  <a:latin typeface="Arial"/>
                  <a:ea typeface="Arial Unicode MS"/>
                </a:rPr>
                <a:t>Établissement</a:t>
              </a:r>
              <a:endParaRPr b="0" lang="en-US" sz="16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232" name="Group 18"/>
            <p:cNvGrpSpPr/>
            <p:nvPr/>
          </p:nvGrpSpPr>
          <p:grpSpPr>
            <a:xfrm>
              <a:off x="634320" y="5319720"/>
              <a:ext cx="1421280" cy="1034280"/>
              <a:chOff x="634320" y="5319720"/>
              <a:chExt cx="1421280" cy="1034280"/>
            </a:xfrm>
          </p:grpSpPr>
          <p:pic>
            <p:nvPicPr>
              <p:cNvPr id="233" name="Pictur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5960" y="5319720"/>
                <a:ext cx="406440" cy="4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20"/>
              <p:cNvSpPr/>
              <p:nvPr/>
            </p:nvSpPr>
            <p:spPr>
              <a:xfrm>
                <a:off x="634320" y="5833800"/>
                <a:ext cx="1421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Chef</a:t>
                </a:r>
                <a:br>
                  <a:rPr sz="1400"/>
                </a:b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’établissement</a:t>
                </a:r>
                <a:endParaRPr b="0" lang="en-US" sz="14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21"/>
          <p:cNvSpPr/>
          <p:nvPr/>
        </p:nvSpPr>
        <p:spPr>
          <a:xfrm>
            <a:off x="1738440" y="3224160"/>
            <a:ext cx="80964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CONET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36" name="AutoShape 22"/>
          <p:cNvSpPr/>
          <p:nvPr/>
        </p:nvSpPr>
        <p:spPr>
          <a:xfrm>
            <a:off x="3038400" y="2187720"/>
            <a:ext cx="1184400" cy="1004760"/>
          </a:xfrm>
          <a:prstGeom prst="triangle">
            <a:avLst>
              <a:gd name="adj" fmla="val 50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237" name="AutoShape 23"/>
          <p:cNvCxnSpPr>
            <a:stCxn id="238" idx="4"/>
            <a:endCxn id="236" idx="1"/>
          </p:cNvCxnSpPr>
          <p:nvPr/>
        </p:nvCxnSpPr>
        <p:spPr>
          <a:xfrm>
            <a:off x="1857240" y="2395440"/>
            <a:ext cx="1478880" cy="295560"/>
          </a:xfrm>
          <a:prstGeom prst="straightConnector1">
            <a:avLst/>
          </a:prstGeom>
          <a:ln w="19080">
            <a:solidFill>
              <a:srgbClr val="cb232a"/>
            </a:solidFill>
            <a:miter/>
            <a:tailEnd len="med" type="triangle" w="med"/>
          </a:ln>
        </p:spPr>
      </p:cxnSp>
      <p:cxnSp>
        <p:nvCxnSpPr>
          <p:cNvPr id="239" name="AutoShape 24"/>
          <p:cNvCxnSpPr>
            <a:stCxn id="235" idx="4"/>
            <a:endCxn id="236" idx="1"/>
          </p:cNvCxnSpPr>
          <p:nvPr/>
        </p:nvCxnSpPr>
        <p:spPr>
          <a:xfrm flipV="1">
            <a:off x="2547720" y="2690280"/>
            <a:ext cx="788040" cy="743760"/>
          </a:xfrm>
          <a:prstGeom prst="straightConnector1">
            <a:avLst/>
          </a:prstGeom>
          <a:ln w="19080">
            <a:solidFill>
              <a:srgbClr val="cb232a"/>
            </a:solidFill>
            <a:miter/>
            <a:tailEnd len="med" type="triangle" w="med"/>
          </a:ln>
        </p:spPr>
      </p:cxnSp>
      <p:sp>
        <p:nvSpPr>
          <p:cNvPr id="240" name="Text Box 25"/>
          <p:cNvSpPr/>
          <p:nvPr/>
        </p:nvSpPr>
        <p:spPr>
          <a:xfrm>
            <a:off x="1812960" y="162252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b232a"/>
                </a:solidFill>
                <a:latin typeface="Arial"/>
                <a:ea typeface="Arial Unicode MS"/>
              </a:rPr>
              <a:t>Académi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41" name="AutoShape 26"/>
          <p:cNvSpPr/>
          <p:nvPr/>
        </p:nvSpPr>
        <p:spPr>
          <a:xfrm>
            <a:off x="6013440" y="1644480"/>
            <a:ext cx="2243160" cy="2313000"/>
          </a:xfrm>
          <a:custGeom>
            <a:avLst/>
            <a:gdLst>
              <a:gd name="textAreaLeft" fmla="*/ 66240 w 2243160"/>
              <a:gd name="textAreaRight" fmla="*/ 2176920 w 2243160"/>
              <a:gd name="textAreaTop" fmla="*/ 66240 h 2313000"/>
              <a:gd name="textAreaBottom" fmla="*/ 2246760 h 2313000"/>
            </a:gdLst>
            <a:ahLst/>
            <a:rect l="textAreaLeft" t="textAreaTop" r="textAreaRight" b="textAreaBottom"/>
            <a:pathLst>
              <a:path w="21600" h="22272">
                <a:moveTo>
                  <a:pt x="2180" y="0"/>
                </a:moveTo>
                <a:arcTo wR="2180" hR="2180" stAng="16200000" swAng="-5400000"/>
                <a:lnTo>
                  <a:pt x="0" y="20092"/>
                </a:lnTo>
                <a:arcTo wR="2180" hR="2180" stAng="10800000" swAng="-5400000"/>
                <a:lnTo>
                  <a:pt x="19420" y="22272"/>
                </a:lnTo>
                <a:arcTo wR="2180" hR="2180" stAng="5400000" swAng="-5400000"/>
                <a:lnTo>
                  <a:pt x="21600" y="2180"/>
                </a:lnTo>
                <a:arcTo wR="2180" hR="2180" stAng="0" swAng="-5400000"/>
                <a:close/>
              </a:path>
            </a:pathLst>
          </a:custGeom>
          <a:solidFill>
            <a:srgbClr val="caeab4"/>
          </a:solidFill>
          <a:ln w="12600">
            <a:solidFill>
              <a:srgbClr val="60a9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0a92f"/>
                </a:solidFill>
                <a:latin typeface="Arial"/>
                <a:ea typeface="Arial Unicode MS"/>
              </a:rPr>
              <a:t>ENT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6761160" y="2743200"/>
            <a:ext cx="846000" cy="7034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6156360" y="3514680"/>
            <a:ext cx="900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Arial"/>
                <a:ea typeface="Arial Unicode MS"/>
              </a:rPr>
              <a:t>Annuaire ENT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244" name="AutoShape 29"/>
          <p:cNvCxnSpPr>
            <a:stCxn id="242" idx="3"/>
            <a:endCxn id="219" idx="0"/>
          </p:cNvCxnSpPr>
          <p:nvPr/>
        </p:nvCxnSpPr>
        <p:spPr>
          <a:xfrm flipH="1">
            <a:off x="6885720" y="3446640"/>
            <a:ext cx="299160" cy="1645200"/>
          </a:xfrm>
          <a:prstGeom prst="straightConnector1">
            <a:avLst/>
          </a:prstGeom>
          <a:ln w="28440">
            <a:solidFill>
              <a:srgbClr val="cd0028"/>
            </a:solidFill>
            <a:miter/>
          </a:ln>
        </p:spPr>
      </p:cxnSp>
      <p:cxnSp>
        <p:nvCxnSpPr>
          <p:cNvPr id="245" name="AutoShape 30"/>
          <p:cNvCxnSpPr>
            <a:stCxn id="242" idx="3"/>
            <a:endCxn id="226" idx="0"/>
          </p:cNvCxnSpPr>
          <p:nvPr/>
        </p:nvCxnSpPr>
        <p:spPr>
          <a:xfrm>
            <a:off x="7183080" y="3446280"/>
            <a:ext cx="1199160" cy="1253160"/>
          </a:xfrm>
          <a:prstGeom prst="straightConnector1">
            <a:avLst/>
          </a:prstGeom>
          <a:ln w="28440">
            <a:solidFill>
              <a:srgbClr val="cd0028"/>
            </a:solidFill>
            <a:miter/>
          </a:ln>
        </p:spPr>
      </p:cxnSp>
      <p:sp>
        <p:nvSpPr>
          <p:cNvPr id="246" name="Text Box 31"/>
          <p:cNvSpPr/>
          <p:nvPr/>
        </p:nvSpPr>
        <p:spPr>
          <a:xfrm>
            <a:off x="3073320" y="275112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nnuaire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Fédé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47" name="Line 32"/>
          <p:cNvSpPr/>
          <p:nvPr/>
        </p:nvSpPr>
        <p:spPr>
          <a:xfrm>
            <a:off x="5572080" y="2900520"/>
            <a:ext cx="414360" cy="1440"/>
          </a:xfrm>
          <a:prstGeom prst="line">
            <a:avLst/>
          </a:prstGeom>
          <a:ln w="76320">
            <a:solidFill>
              <a:srgbClr val="cd00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61680" y="247320"/>
            <a:ext cx="636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héma global du flux des donn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4"/>
          <p:cNvSpPr/>
          <p:nvPr/>
        </p:nvSpPr>
        <p:spPr>
          <a:xfrm>
            <a:off x="762120" y="2819520"/>
            <a:ext cx="893520" cy="41724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AMSESE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cxnSp>
        <p:nvCxnSpPr>
          <p:cNvPr id="250" name="AutoShape 35"/>
          <p:cNvCxnSpPr>
            <a:stCxn id="249" idx="4"/>
            <a:endCxn id="236" idx="1"/>
          </p:cNvCxnSpPr>
          <p:nvPr/>
        </p:nvCxnSpPr>
        <p:spPr>
          <a:xfrm flipV="1">
            <a:off x="1655640" y="2690280"/>
            <a:ext cx="1680480" cy="339120"/>
          </a:xfrm>
          <a:prstGeom prst="straightConnector1">
            <a:avLst/>
          </a:prstGeom>
          <a:ln w="19080">
            <a:solidFill>
              <a:srgbClr val="cb232a"/>
            </a:solidFill>
            <a:miter/>
            <a:tailEnd len="med" type="triangle" w="med"/>
          </a:ln>
        </p:spPr>
      </p:cxnSp>
      <p:sp>
        <p:nvSpPr>
          <p:cNvPr id="251" name="AutoShape 36"/>
          <p:cNvSpPr/>
          <p:nvPr/>
        </p:nvSpPr>
        <p:spPr>
          <a:xfrm>
            <a:off x="650880" y="1820880"/>
            <a:ext cx="89388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PP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52" name="AutoShape 37"/>
          <p:cNvSpPr/>
          <p:nvPr/>
        </p:nvSpPr>
        <p:spPr>
          <a:xfrm>
            <a:off x="766800" y="1979640"/>
            <a:ext cx="89388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…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38" name="AutoShape 38"/>
          <p:cNvSpPr/>
          <p:nvPr/>
        </p:nvSpPr>
        <p:spPr>
          <a:xfrm>
            <a:off x="851040" y="2185920"/>
            <a:ext cx="1006200" cy="417600"/>
          </a:xfrm>
          <a:prstGeom prst="can">
            <a:avLst>
              <a:gd name="adj" fmla="val 2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I-RH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1724040" y="1704960"/>
            <a:ext cx="6740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Précisions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sur certains attributs</a:t>
            </a:r>
            <a:endParaRPr b="0" lang="en-US" sz="4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696-3D3D-46F8-99B5-F28AEA29A0E9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marque prélimin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59920" y="1837800"/>
            <a:ext cx="851220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spcBef>
                <a:spcPts val="524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9bbace"/>
                </a:solidFill>
                <a:latin typeface="Arial"/>
              </a:rPr>
              <a:t>La gestion des attributs suit la règle générale suiv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76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Toute données issue de l'Annuaire Fédérateur n'est pas modifiable dans l'interface de gestion des contenus de l’annuaire 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524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9bbace"/>
                </a:solidFill>
                <a:latin typeface="Arial"/>
              </a:rPr>
              <a:t>Excep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76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rtains attributs mentionnés dans la colonne « Alimentation » du tableau de l’annexe 4 sont initialisés par l’alimentation MENESR puis proposés en self-service (civilité, email…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9D38-4298-4E31-BA89-ABBABFD696A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ttributs particuliers détaillés dans le cahier des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259920" y="1837800"/>
            <a:ext cx="851220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spcBef>
                <a:spcPts val="425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9bbace"/>
                </a:solidFill>
                <a:latin typeface="Arial"/>
              </a:rPr>
              <a:t>Règles de construction particulières présentées dans le document princip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id : </a:t>
            </a:r>
            <a:r>
              <a:rPr b="0" lang="fr-FR" sz="1500" spc="-1" strike="noStrike">
                <a:solidFill>
                  <a:srgbClr val="000000"/>
                </a:solidFill>
                <a:latin typeface="Courier New"/>
              </a:rPr>
              <a:t>LxxCiii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(+ Annexe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li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hotograph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9bbace"/>
                </a:solidFill>
                <a:latin typeface="Arial"/>
              </a:rPr>
              <a:t>Clé de join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49"/>
              </a:spcBef>
              <a:buClr>
                <a:srgbClr val="9bbace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Il s’agit de 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063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9bbace"/>
                </a:solidFill>
                <a:latin typeface="Arial"/>
              </a:rPr>
              <a:t>Règle de transformation par rapport aux données des fichiers XML transmises par le MENES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00000"/>
              </a:lnSpc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urier New"/>
              </a:rPr>
              <a:t>Eleve : </a:t>
            </a:r>
            <a:r>
              <a:rPr b="0" lang="fr-FR" sz="1500" spc="-1" strike="noStrike">
                <a:solidFill>
                  <a:srgbClr val="9bbace"/>
                </a:solidFill>
                <a:latin typeface="Courier New"/>
              </a:rPr>
              <a:t>ENTPersonAutresPreno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00000"/>
              </a:lnSpc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urier New"/>
              </a:rPr>
              <a:t>PersEducNat : </a:t>
            </a:r>
            <a:r>
              <a:rPr b="0" lang="fr-FR" sz="1500" spc="-1" strike="noStrike">
                <a:solidFill>
                  <a:srgbClr val="9bbace"/>
                </a:solidFill>
                <a:latin typeface="Courier New"/>
              </a:rPr>
              <a:t>ma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00000"/>
              </a:lnSpc>
              <a:spcBef>
                <a:spcPts val="374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urier New"/>
              </a:rPr>
              <a:t>PersEducNat : </a:t>
            </a:r>
            <a:r>
              <a:rPr b="0" lang="fr-FR" sz="1500" spc="-1" strike="noStrike">
                <a:solidFill>
                  <a:srgbClr val="9bbace"/>
                </a:solidFill>
                <a:latin typeface="Courier New"/>
              </a:rPr>
              <a:t>PersEducNatPresenceDevantEle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374"/>
              </a:spcBef>
              <a:buClr>
                <a:srgbClr val="9bbace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Détails à l’annexe 4, fichier XLS en pièce-jointe, cellules sur fond rou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2F31-F1A2-43C2-9271-B8B6A561B00D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lé de join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259920" y="1514160"/>
            <a:ext cx="85122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99080" indent="-199080">
              <a:spcBef>
                <a:spcPts val="476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9bbace"/>
                </a:solidFill>
                <a:latin typeface="Arial"/>
              </a:rPr>
              <a:t>Clé de join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183240">
              <a:spcBef>
                <a:spcPts val="425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’annuaire ENT peut être alimenté par plusieurs sources : académie(s), Ministère de l’Agriculture, collectivité(s) locale(s), saisie manuelle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183240">
              <a:spcBef>
                <a:spcPts val="876"/>
              </a:spcBef>
              <a:buClr>
                <a:srgbClr val="9bbace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que personne doit être identifiée de manière unique au fil des alimentations successives :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ENTPersonJointur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multi-valu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53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53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518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limentation manuelle depuis l’ENT : identifiant = « </a:t>
            </a:r>
            <a:r>
              <a:rPr b="0" lang="fr-FR" sz="1500" spc="-1" strike="noStrike">
                <a:solidFill>
                  <a:srgbClr val="000000"/>
                </a:solidFill>
                <a:latin typeface="Courier New"/>
              </a:rPr>
              <a:t>ENT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518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limentation depuis le SI du MENESR : identifiant = « </a:t>
            </a:r>
            <a:r>
              <a:rPr b="0" lang="fr-FR" sz="1500" spc="-1" strike="noStrike">
                <a:solidFill>
                  <a:srgbClr val="000000"/>
                </a:solidFill>
                <a:latin typeface="Courier New"/>
              </a:rPr>
              <a:t>MENESR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669680" indent="-15804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300" spc="-1" strike="noStrike">
                <a:solidFill>
                  <a:srgbClr val="000000"/>
                </a:solidFill>
                <a:latin typeface="Arial"/>
              </a:rPr>
              <a:t>Pour un ENT sur 2 académies : « </a:t>
            </a:r>
            <a:r>
              <a:rPr b="0" i="1" lang="fr-FR" sz="1300" spc="-1" strike="noStrike">
                <a:solidFill>
                  <a:srgbClr val="000000"/>
                </a:solidFill>
                <a:latin typeface="Courier New"/>
              </a:rPr>
              <a:t>Academie1</a:t>
            </a:r>
            <a:r>
              <a:rPr b="0" i="1" lang="fr-FR" sz="1300" spc="-1" strike="noStrike">
                <a:solidFill>
                  <a:srgbClr val="000000"/>
                </a:solidFill>
                <a:latin typeface="Arial"/>
              </a:rPr>
              <a:t> », « </a:t>
            </a:r>
            <a:r>
              <a:rPr b="0" i="1" lang="fr-FR" sz="1300" spc="-1" strike="noStrike">
                <a:solidFill>
                  <a:srgbClr val="000000"/>
                </a:solidFill>
                <a:latin typeface="Courier New"/>
              </a:rPr>
              <a:t>Academie2</a:t>
            </a:r>
            <a:r>
              <a:rPr b="0" i="1" lang="fr-FR" sz="13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518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utres sources d’alimentation : identifiant librement défini par chaque proj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183240">
              <a:spcBef>
                <a:spcPts val="1063"/>
              </a:spcBef>
              <a:buClr>
                <a:srgbClr val="9bbace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lé de jointure MENESR conservée d’une année sur l’aut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05320" indent="-142560"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 condition de respecter les procédures (et donc éviter les ré-immatricula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183240">
              <a:spcBef>
                <a:spcPts val="1063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i une même personne est présente dans différentes sour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05320" indent="-142560"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ispose de plusieurs comp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5320" indent="-142560"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Eventuellement, mécanismes de « réconciliation » volontai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5320" indent="-142560">
              <a:spcBef>
                <a:spcPts val="876"/>
              </a:spcBef>
              <a:buClr>
                <a:srgbClr val="9bbace"/>
              </a:buClr>
              <a:buSzPct val="6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S ’appliquent également aux personnes vues comme deux objets dans une même source : enseignant </a:t>
            </a:r>
            <a:r>
              <a:rPr b="0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4"/>
          <p:cNvGrpSpPr/>
          <p:nvPr/>
        </p:nvGrpSpPr>
        <p:grpSpPr>
          <a:xfrm>
            <a:off x="1440000" y="3179880"/>
            <a:ext cx="6588000" cy="1398600"/>
            <a:chOff x="1440000" y="3179880"/>
            <a:chExt cx="6588000" cy="1398600"/>
          </a:xfrm>
        </p:grpSpPr>
        <p:sp>
          <p:nvSpPr>
            <p:cNvPr id="1061" name="Text Box 5"/>
            <p:cNvSpPr/>
            <p:nvPr/>
          </p:nvSpPr>
          <p:spPr>
            <a:xfrm>
              <a:off x="1440000" y="3179880"/>
              <a:ext cx="2120760" cy="291960"/>
            </a:xfrm>
            <a:prstGeom prst="rect">
              <a:avLst/>
            </a:prstGeom>
            <a:solidFill>
              <a:srgbClr val="9bbace"/>
            </a:solidFill>
            <a:ln w="1260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dentifiant de la source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62" name="Text Box 6"/>
            <p:cNvSpPr/>
            <p:nvPr/>
          </p:nvSpPr>
          <p:spPr>
            <a:xfrm>
              <a:off x="3560760" y="3179880"/>
              <a:ext cx="281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63" name="Text Box 7"/>
            <p:cNvSpPr/>
            <p:nvPr/>
          </p:nvSpPr>
          <p:spPr>
            <a:xfrm>
              <a:off x="3841920" y="3179880"/>
              <a:ext cx="442800" cy="291960"/>
            </a:xfrm>
            <a:prstGeom prst="rect">
              <a:avLst/>
            </a:prstGeom>
            <a:solidFill>
              <a:srgbClr val="9bbace"/>
            </a:solidFill>
            <a:ln w="1260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urier New"/>
                </a:rPr>
                <a:t>$</a:t>
              </a:r>
              <a:endParaRPr b="0" lang="en-US" sz="16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64" name="Text Box 8"/>
            <p:cNvSpPr/>
            <p:nvPr/>
          </p:nvSpPr>
          <p:spPr>
            <a:xfrm>
              <a:off x="4284720" y="3179880"/>
              <a:ext cx="280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65" name="Text Box 9"/>
            <p:cNvSpPr/>
            <p:nvPr/>
          </p:nvSpPr>
          <p:spPr>
            <a:xfrm>
              <a:off x="4564080" y="3179880"/>
              <a:ext cx="3463920" cy="291960"/>
            </a:xfrm>
            <a:prstGeom prst="rect">
              <a:avLst/>
            </a:prstGeom>
            <a:solidFill>
              <a:srgbClr val="9bbace"/>
            </a:solidFill>
            <a:ln w="1260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é de jointure fournie par la source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66" name="Line 10"/>
            <p:cNvSpPr/>
            <p:nvPr/>
          </p:nvSpPr>
          <p:spPr>
            <a:xfrm>
              <a:off x="1582560" y="3297240"/>
              <a:ext cx="0" cy="1278000"/>
            </a:xfrm>
            <a:prstGeom prst="line">
              <a:avLst/>
            </a:prstGeom>
            <a:ln w="1908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67" name="Line 11"/>
            <p:cNvSpPr/>
            <p:nvPr/>
          </p:nvSpPr>
          <p:spPr>
            <a:xfrm>
              <a:off x="1577880" y="3773520"/>
              <a:ext cx="206640" cy="0"/>
            </a:xfrm>
            <a:prstGeom prst="line">
              <a:avLst/>
            </a:prstGeom>
            <a:ln w="19080">
              <a:solidFill>
                <a:srgbClr val="9bba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68" name="Line 12"/>
            <p:cNvSpPr/>
            <p:nvPr/>
          </p:nvSpPr>
          <p:spPr>
            <a:xfrm>
              <a:off x="1577880" y="4049640"/>
              <a:ext cx="206640" cy="0"/>
            </a:xfrm>
            <a:prstGeom prst="line">
              <a:avLst/>
            </a:prstGeom>
            <a:ln w="19080">
              <a:solidFill>
                <a:srgbClr val="9bba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69" name="Line 13"/>
            <p:cNvSpPr/>
            <p:nvPr/>
          </p:nvSpPr>
          <p:spPr>
            <a:xfrm>
              <a:off x="1577880" y="4578480"/>
              <a:ext cx="206640" cy="0"/>
            </a:xfrm>
            <a:prstGeom prst="line">
              <a:avLst/>
            </a:prstGeom>
            <a:ln w="19080">
              <a:solidFill>
                <a:srgbClr val="9bba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707C-4CFB-42C1-BC31-FC9FE9CFA8B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carts entre les données XML et les données de l’annuaire 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59920" y="1837800"/>
            <a:ext cx="851220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10240" indent="-210240">
              <a:lnSpc>
                <a:spcPct val="100000"/>
              </a:lnSpc>
              <a:spcBef>
                <a:spcPts val="1125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bace"/>
                </a:solidFill>
                <a:latin typeface="Courier New"/>
              </a:rPr>
              <a:t>Eleve</a:t>
            </a:r>
            <a:r>
              <a:rPr b="0" lang="fr-FR" sz="1800" spc="-1" strike="noStrike">
                <a:solidFill>
                  <a:srgbClr val="9bbace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9bbace"/>
                </a:solidFill>
                <a:latin typeface="Courier New"/>
              </a:rPr>
              <a:t>ENTPersonAutresPren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19368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ML : mono-valué  /  ENT : mono-val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19368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ML : 3 prénoms séparés par « 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19368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1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st toujours égal à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givenNam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; les 2 autres peuvent être vides (mais les « 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» sont toujours transm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00000"/>
              </a:lnSpc>
              <a:spcBef>
                <a:spcPts val="1125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bace"/>
                </a:solidFill>
                <a:latin typeface="Courier New"/>
              </a:rPr>
              <a:t>PersEducNat</a:t>
            </a:r>
            <a:r>
              <a:rPr b="0" lang="fr-FR" sz="1800" spc="-1" strike="noStrike">
                <a:solidFill>
                  <a:srgbClr val="9bbace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9bbace"/>
                </a:solidFill>
                <a:latin typeface="Courier New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19368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ML : multi-valué  /  ENT : mono-val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19368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ule la 1ère valeur transmise doit être prise en compte par l’annuaire 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00000"/>
              </a:lnSpc>
              <a:spcBef>
                <a:spcPts val="1125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bace"/>
                </a:solidFill>
                <a:latin typeface="Courier New"/>
              </a:rPr>
              <a:t>PersEducNat</a:t>
            </a:r>
            <a:r>
              <a:rPr b="0" lang="fr-FR" sz="1800" spc="-1" strike="noStrike">
                <a:solidFill>
                  <a:srgbClr val="9bbace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9bbace"/>
                </a:solidFill>
                <a:latin typeface="Courier New"/>
              </a:rPr>
              <a:t>PersEducNatPresenceDevantEl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19368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»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ffectation à la class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ENTAux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19368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»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ffectation à la class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ENTAuxNonEnsE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19368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Remarques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0680" indent="-15084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ttribut non stocké dans l’annuaire 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0680" indent="-150840">
              <a:spcBef>
                <a:spcPts val="34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À ce jour, cet attribut est valorisé par le MENESR d’après la règle suivante 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833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ourier New"/>
              </a:rPr>
              <a:t>PersEducNatPresenceDevantEleves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est valorisé à « </a:t>
            </a:r>
            <a:r>
              <a:rPr b="0" i="1" lang="fr-FR" sz="14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 » si l'attribut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ENTAuxEnsMEF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comporte au moins une valeur, et à « </a:t>
            </a:r>
            <a:r>
              <a:rPr b="0" i="1" lang="fr-FR" sz="1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 » sin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094B-7522-457A-9205-436EB075F07D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lasses et grou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9920" y="1837800"/>
            <a:ext cx="851220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bbace"/>
                </a:solidFill>
                <a:latin typeface="Arial"/>
              </a:rPr>
              <a:t>Alimentation MENE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1125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asses (=divisions) et groupes structurels ne sont pas alimentés en tant « qu’objets » par l’Annuaire Féd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1125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t des attributs des objets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Elev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ersEduc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1125"/>
              </a:spcBef>
              <a:buClr>
                <a:srgbClr val="9bbace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 nouvelle classe (respectivement groupe) détectée doit être créée dans l’annuaire 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90000"/>
              </a:lnSpc>
              <a:spcBef>
                <a:spcPts val="1063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ructures de données prévues :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</a:rPr>
              <a:t>ENTClass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</a:rPr>
              <a:t>ENTGrou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5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bbace"/>
                </a:solidFill>
                <a:latin typeface="Arial"/>
              </a:rPr>
              <a:t>Interface de gestion manuelle (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1125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 des personnes dans ces classes ou ces groupes, quelles que soit leur catégorie d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1125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ppression à la demande et en fin d’année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90000"/>
              </a:lnSpc>
              <a:spcBef>
                <a:spcPts val="1125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</a:t>
            </a:r>
            <a:r>
              <a:rPr b="0" lang="fr-FR" sz="1800" spc="-1" strike="noStrike">
                <a:solidFill>
                  <a:srgbClr val="9bbace"/>
                </a:solidFill>
                <a:latin typeface="Arial"/>
              </a:rPr>
              <a:t>d’autre group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projets, TPE…) et ajout de perso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EA07-626B-4E31-B05B-5E8661D83FC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formations liées à la scolarité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Générali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59920" y="1498680"/>
            <a:ext cx="8512200" cy="48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609480" indent="-206280">
              <a:spcBef>
                <a:spcPts val="1375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référence des nomenclatures est la </a:t>
            </a:r>
            <a:r>
              <a:rPr b="0" lang="fr-FR" sz="2200" spc="-1" strike="noStrike">
                <a:solidFill>
                  <a:srgbClr val="9bbace"/>
                </a:solidFill>
                <a:latin typeface="Arial"/>
              </a:rPr>
              <a:t>BC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 : Base Centrale des Nomenclatures (</a:t>
            </a:r>
            <a:r>
              <a:rPr b="0" lang="fr-FR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nfocentre.education.fr/bcn/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1375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F (Modules Élémentaires de 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49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ématique de la formation (M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49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ition de la formation par rapport à un cursus (MEFSTAT_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499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F nationaux / MEF académiques / MEF de rattach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8284-54D3-4108-A83C-5AD27A12F2EE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formations liées à la scolarité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Thématique de la 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1" name="Picture 3" descr=""/>
          <p:cNvPicPr/>
          <p:nvPr/>
        </p:nvPicPr>
        <p:blipFill>
          <a:blip r:embed="rId1"/>
          <a:srcRect l="3485" t="14131" r="3127" b="12502"/>
          <a:stretch/>
        </p:blipFill>
        <p:spPr>
          <a:xfrm>
            <a:off x="20520" y="1533600"/>
            <a:ext cx="9109080" cy="5367240"/>
          </a:xfrm>
          <a:prstGeom prst="rect">
            <a:avLst/>
          </a:prstGeom>
          <a:ln w="0">
            <a:noFill/>
          </a:ln>
        </p:spPr>
      </p:pic>
      <p:sp>
        <p:nvSpPr>
          <p:cNvPr id="1082" name="Oval 4"/>
          <p:cNvSpPr/>
          <p:nvPr/>
        </p:nvSpPr>
        <p:spPr>
          <a:xfrm>
            <a:off x="3554280" y="1665360"/>
            <a:ext cx="1017720" cy="26496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83" name="Oval 5"/>
          <p:cNvSpPr/>
          <p:nvPr/>
        </p:nvSpPr>
        <p:spPr>
          <a:xfrm>
            <a:off x="3801960" y="1932120"/>
            <a:ext cx="1560600" cy="322200"/>
          </a:xfrm>
          <a:prstGeom prst="ellipse">
            <a:avLst/>
          </a:prstGeom>
          <a:noFill/>
          <a:ln w="28440">
            <a:solidFill>
              <a:srgbClr val="ce0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84" name="Oval 6"/>
          <p:cNvSpPr/>
          <p:nvPr/>
        </p:nvSpPr>
        <p:spPr>
          <a:xfrm>
            <a:off x="8288280" y="1874880"/>
            <a:ext cx="855720" cy="436680"/>
          </a:xfrm>
          <a:prstGeom prst="ellipse">
            <a:avLst/>
          </a:prstGeom>
          <a:noFill/>
          <a:ln w="28440">
            <a:solidFill>
              <a:srgbClr val="cb232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85" name="Text Box 7"/>
          <p:cNvSpPr/>
          <p:nvPr/>
        </p:nvSpPr>
        <p:spPr>
          <a:xfrm>
            <a:off x="151560" y="2481120"/>
            <a:ext cx="21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d10a14"/>
                </a:solidFill>
                <a:latin typeface="Arial"/>
              </a:rPr>
              <a:t>Niveau de formation du diplôme</a:t>
            </a:r>
            <a:br>
              <a:rPr sz="900"/>
            </a:br>
            <a:r>
              <a:rPr b="0" lang="fr-FR" sz="900" spc="-1" strike="noStrike">
                <a:solidFill>
                  <a:srgbClr val="d10a14"/>
                </a:solidFill>
                <a:latin typeface="Arial"/>
              </a:rPr>
              <a:t>(</a:t>
            </a:r>
            <a:r>
              <a:rPr b="0" i="1" lang="fr-FR" sz="900" spc="-1" strike="noStrike">
                <a:solidFill>
                  <a:srgbClr val="d10a14"/>
                </a:solidFill>
                <a:latin typeface="Arial"/>
              </a:rPr>
              <a:t>N_NIVEAU_FORMATION_DIPLOME</a:t>
            </a:r>
            <a:r>
              <a:rPr b="0" lang="fr-FR" sz="900" spc="-1" strike="noStrike">
                <a:solidFill>
                  <a:srgbClr val="d10a14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86" name="Line 8"/>
          <p:cNvSpPr/>
          <p:nvPr/>
        </p:nvSpPr>
        <p:spPr>
          <a:xfrm flipH="1">
            <a:off x="1228320" y="2209680"/>
            <a:ext cx="9720" cy="304920"/>
          </a:xfrm>
          <a:prstGeom prst="line">
            <a:avLst/>
          </a:prstGeom>
          <a:ln w="44280">
            <a:solidFill>
              <a:srgbClr val="cb23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87" name="Oval 9"/>
          <p:cNvSpPr/>
          <p:nvPr/>
        </p:nvSpPr>
        <p:spPr>
          <a:xfrm>
            <a:off x="3741840" y="1666800"/>
            <a:ext cx="1017360" cy="265320"/>
          </a:xfrm>
          <a:prstGeom prst="ellipse">
            <a:avLst/>
          </a:prstGeom>
          <a:noFill/>
          <a:ln w="28440">
            <a:solidFill>
              <a:srgbClr val="cb232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088" name="Group 10"/>
          <p:cNvGrpSpPr/>
          <p:nvPr/>
        </p:nvGrpSpPr>
        <p:grpSpPr>
          <a:xfrm>
            <a:off x="6918480" y="6399360"/>
            <a:ext cx="2225520" cy="514080"/>
            <a:chOff x="6918480" y="6399360"/>
            <a:chExt cx="2225520" cy="514080"/>
          </a:xfrm>
        </p:grpSpPr>
        <p:sp>
          <p:nvSpPr>
            <p:cNvPr id="1089" name="Line 11"/>
            <p:cNvSpPr/>
            <p:nvPr/>
          </p:nvSpPr>
          <p:spPr>
            <a:xfrm>
              <a:off x="6991200" y="6535800"/>
              <a:ext cx="281160" cy="0"/>
            </a:xfrm>
            <a:prstGeom prst="line">
              <a:avLst/>
            </a:prstGeom>
            <a:ln w="28440">
              <a:solidFill>
                <a:srgbClr val="cb23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90" name="Text Box 12"/>
            <p:cNvSpPr/>
            <p:nvPr/>
          </p:nvSpPr>
          <p:spPr>
            <a:xfrm>
              <a:off x="7246800" y="6421320"/>
              <a:ext cx="95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d10a14"/>
                  </a:solidFill>
                  <a:latin typeface="Arial"/>
                </a:rPr>
                <a:t>Alimenté en V1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91" name="Line 13"/>
            <p:cNvSpPr/>
            <p:nvPr/>
          </p:nvSpPr>
          <p:spPr>
            <a:xfrm>
              <a:off x="6991200" y="6743880"/>
              <a:ext cx="281160" cy="0"/>
            </a:xfrm>
            <a:prstGeom prst="line">
              <a:avLst/>
            </a:prstGeom>
            <a:ln w="28440">
              <a:solidFill>
                <a:srgbClr val="ce0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92" name="Text Box 14"/>
            <p:cNvSpPr/>
            <p:nvPr/>
          </p:nvSpPr>
          <p:spPr>
            <a:xfrm>
              <a:off x="7246800" y="6629400"/>
              <a:ext cx="95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ce0ac5"/>
                  </a:solidFill>
                  <a:latin typeface="Arial"/>
                </a:rPr>
                <a:t>Alimenté en V2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93" name="Line 15"/>
            <p:cNvSpPr/>
            <p:nvPr/>
          </p:nvSpPr>
          <p:spPr>
            <a:xfrm>
              <a:off x="8348760" y="653580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94" name="Text Box 16"/>
            <p:cNvSpPr/>
            <p:nvPr/>
          </p:nvSpPr>
          <p:spPr>
            <a:xfrm>
              <a:off x="8605440" y="642132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95" name="Line 17"/>
            <p:cNvSpPr/>
            <p:nvPr/>
          </p:nvSpPr>
          <p:spPr>
            <a:xfrm>
              <a:off x="8348760" y="674388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96" name="Text Box 18"/>
            <p:cNvSpPr/>
            <p:nvPr/>
          </p:nvSpPr>
          <p:spPr>
            <a:xfrm>
              <a:off x="8604360" y="6629400"/>
              <a:ext cx="51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ibellé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097" name="Rectangle 19"/>
            <p:cNvSpPr/>
            <p:nvPr/>
          </p:nvSpPr>
          <p:spPr>
            <a:xfrm>
              <a:off x="6918480" y="6399360"/>
              <a:ext cx="2225520" cy="514080"/>
            </a:xfrm>
            <a:prstGeom prst="rect">
              <a:avLst/>
            </a:prstGeom>
            <a:noFill/>
            <a:ln w="1908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098" name="Oval 20"/>
          <p:cNvSpPr/>
          <p:nvPr/>
        </p:nvSpPr>
        <p:spPr>
          <a:xfrm>
            <a:off x="3352680" y="3494160"/>
            <a:ext cx="1419480" cy="26496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099" name="Oval 21"/>
          <p:cNvSpPr/>
          <p:nvPr/>
        </p:nvSpPr>
        <p:spPr>
          <a:xfrm>
            <a:off x="3801960" y="3760920"/>
            <a:ext cx="1560600" cy="322200"/>
          </a:xfrm>
          <a:prstGeom prst="ellipse">
            <a:avLst/>
          </a:prstGeom>
          <a:noFill/>
          <a:ln w="28440">
            <a:solidFill>
              <a:srgbClr val="ce0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0" name="Oval 22"/>
          <p:cNvSpPr/>
          <p:nvPr/>
        </p:nvSpPr>
        <p:spPr>
          <a:xfrm>
            <a:off x="8288280" y="3703680"/>
            <a:ext cx="855720" cy="436680"/>
          </a:xfrm>
          <a:prstGeom prst="ellipse">
            <a:avLst/>
          </a:prstGeom>
          <a:noFill/>
          <a:ln w="28440">
            <a:solidFill>
              <a:srgbClr val="cb232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1" name="Oval 23"/>
          <p:cNvSpPr/>
          <p:nvPr/>
        </p:nvSpPr>
        <p:spPr>
          <a:xfrm>
            <a:off x="3540240" y="3495600"/>
            <a:ext cx="1419120" cy="265320"/>
          </a:xfrm>
          <a:prstGeom prst="ellipse">
            <a:avLst/>
          </a:prstGeom>
          <a:noFill/>
          <a:ln w="28440">
            <a:solidFill>
              <a:srgbClr val="cb232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2" name="Oval 24"/>
          <p:cNvSpPr/>
          <p:nvPr/>
        </p:nvSpPr>
        <p:spPr>
          <a:xfrm>
            <a:off x="3257640" y="5421240"/>
            <a:ext cx="1609560" cy="26532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3" name="Oval 25"/>
          <p:cNvSpPr/>
          <p:nvPr/>
        </p:nvSpPr>
        <p:spPr>
          <a:xfrm>
            <a:off x="3801960" y="5688000"/>
            <a:ext cx="1560600" cy="322200"/>
          </a:xfrm>
          <a:prstGeom prst="ellipse">
            <a:avLst/>
          </a:prstGeom>
          <a:noFill/>
          <a:ln w="28440">
            <a:solidFill>
              <a:srgbClr val="ce0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4" name="Oval 26"/>
          <p:cNvSpPr/>
          <p:nvPr/>
        </p:nvSpPr>
        <p:spPr>
          <a:xfrm>
            <a:off x="8288280" y="5630760"/>
            <a:ext cx="855720" cy="436680"/>
          </a:xfrm>
          <a:prstGeom prst="ellipse">
            <a:avLst/>
          </a:prstGeom>
          <a:noFill/>
          <a:ln w="28440">
            <a:solidFill>
              <a:srgbClr val="cb232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5" name="Oval 27"/>
          <p:cNvSpPr/>
          <p:nvPr/>
        </p:nvSpPr>
        <p:spPr>
          <a:xfrm>
            <a:off x="3444840" y="5423040"/>
            <a:ext cx="1609920" cy="264960"/>
          </a:xfrm>
          <a:prstGeom prst="ellipse">
            <a:avLst/>
          </a:prstGeom>
          <a:noFill/>
          <a:ln w="28440">
            <a:solidFill>
              <a:srgbClr val="cb232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1020960" y="429588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d10a14"/>
                </a:solidFill>
                <a:latin typeface="Arial"/>
              </a:rPr>
              <a:t>CAP</a:t>
            </a:r>
            <a:endParaRPr b="0" lang="en-US" sz="9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7" name="Line 29"/>
          <p:cNvSpPr/>
          <p:nvPr/>
        </p:nvSpPr>
        <p:spPr>
          <a:xfrm flipH="1">
            <a:off x="1228320" y="4024440"/>
            <a:ext cx="9720" cy="304560"/>
          </a:xfrm>
          <a:prstGeom prst="line">
            <a:avLst/>
          </a:prstGeom>
          <a:ln w="44280">
            <a:solidFill>
              <a:srgbClr val="cb23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732240" y="6242040"/>
            <a:ext cx="99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d10a14"/>
                </a:solidFill>
                <a:latin typeface="Arial"/>
              </a:rPr>
              <a:t>BAC GENERAL</a:t>
            </a:r>
            <a:endParaRPr b="0" lang="en-US" sz="9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09" name="Line 31"/>
          <p:cNvSpPr/>
          <p:nvPr/>
        </p:nvSpPr>
        <p:spPr>
          <a:xfrm flipH="1">
            <a:off x="1228320" y="5970600"/>
            <a:ext cx="9720" cy="304920"/>
          </a:xfrm>
          <a:prstGeom prst="line">
            <a:avLst/>
          </a:prstGeom>
          <a:ln w="44280">
            <a:solidFill>
              <a:srgbClr val="cb23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26EA-2868-4271-8547-65ED75A59985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formations liées à la scolarité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Position par rapport à un cu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-20520" y="1542960"/>
            <a:ext cx="9217080" cy="22129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2"/>
          <a:stretch/>
        </p:blipFill>
        <p:spPr>
          <a:xfrm>
            <a:off x="7920" y="3817800"/>
            <a:ext cx="9144000" cy="2521080"/>
          </a:xfrm>
          <a:prstGeom prst="rect">
            <a:avLst/>
          </a:prstGeom>
          <a:ln w="0">
            <a:noFill/>
          </a:ln>
        </p:spPr>
      </p:pic>
      <p:sp>
        <p:nvSpPr>
          <p:cNvPr id="1114" name="Oval 5"/>
          <p:cNvSpPr/>
          <p:nvPr/>
        </p:nvSpPr>
        <p:spPr>
          <a:xfrm>
            <a:off x="944640" y="2846520"/>
            <a:ext cx="1512720" cy="16812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15" name="Oval 6"/>
          <p:cNvSpPr/>
          <p:nvPr/>
        </p:nvSpPr>
        <p:spPr>
          <a:xfrm>
            <a:off x="1353960" y="2693880"/>
            <a:ext cx="1513080" cy="16848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116" name="Group 7"/>
          <p:cNvGrpSpPr/>
          <p:nvPr/>
        </p:nvGrpSpPr>
        <p:grpSpPr>
          <a:xfrm>
            <a:off x="6918480" y="6399360"/>
            <a:ext cx="2225520" cy="514080"/>
            <a:chOff x="6918480" y="6399360"/>
            <a:chExt cx="2225520" cy="514080"/>
          </a:xfrm>
        </p:grpSpPr>
        <p:sp>
          <p:nvSpPr>
            <p:cNvPr id="1117" name="Line 8"/>
            <p:cNvSpPr/>
            <p:nvPr/>
          </p:nvSpPr>
          <p:spPr>
            <a:xfrm>
              <a:off x="6991200" y="6535800"/>
              <a:ext cx="281160" cy="0"/>
            </a:xfrm>
            <a:prstGeom prst="line">
              <a:avLst/>
            </a:prstGeom>
            <a:ln w="28440">
              <a:solidFill>
                <a:srgbClr val="cb23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18" name="Text Box 9"/>
            <p:cNvSpPr/>
            <p:nvPr/>
          </p:nvSpPr>
          <p:spPr>
            <a:xfrm>
              <a:off x="7246800" y="6421320"/>
              <a:ext cx="95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d10a14"/>
                  </a:solidFill>
                  <a:latin typeface="Arial"/>
                </a:rPr>
                <a:t>Alimenté en V1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19" name="Line 10"/>
            <p:cNvSpPr/>
            <p:nvPr/>
          </p:nvSpPr>
          <p:spPr>
            <a:xfrm>
              <a:off x="6991200" y="6743880"/>
              <a:ext cx="281160" cy="0"/>
            </a:xfrm>
            <a:prstGeom prst="line">
              <a:avLst/>
            </a:prstGeom>
            <a:ln w="28440">
              <a:solidFill>
                <a:srgbClr val="ce0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20" name="Text Box 11"/>
            <p:cNvSpPr/>
            <p:nvPr/>
          </p:nvSpPr>
          <p:spPr>
            <a:xfrm>
              <a:off x="7246800" y="6629400"/>
              <a:ext cx="95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ce0ac5"/>
                  </a:solidFill>
                  <a:latin typeface="Arial"/>
                </a:rPr>
                <a:t>Alimenté en V2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21" name="Line 12"/>
            <p:cNvSpPr/>
            <p:nvPr/>
          </p:nvSpPr>
          <p:spPr>
            <a:xfrm>
              <a:off x="8348760" y="653580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22" name="Text Box 13"/>
            <p:cNvSpPr/>
            <p:nvPr/>
          </p:nvSpPr>
          <p:spPr>
            <a:xfrm>
              <a:off x="8605440" y="642132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23" name="Line 14"/>
            <p:cNvSpPr/>
            <p:nvPr/>
          </p:nvSpPr>
          <p:spPr>
            <a:xfrm>
              <a:off x="8348760" y="674388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24" name="Text Box 15"/>
            <p:cNvSpPr/>
            <p:nvPr/>
          </p:nvSpPr>
          <p:spPr>
            <a:xfrm>
              <a:off x="8604360" y="6629400"/>
              <a:ext cx="51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ibellé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6918480" y="6399360"/>
              <a:ext cx="2225520" cy="514080"/>
            </a:xfrm>
            <a:prstGeom prst="rect">
              <a:avLst/>
            </a:prstGeom>
            <a:noFill/>
            <a:ln w="1908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126" name="Oval 17"/>
          <p:cNvSpPr/>
          <p:nvPr/>
        </p:nvSpPr>
        <p:spPr>
          <a:xfrm>
            <a:off x="750960" y="5264280"/>
            <a:ext cx="1898640" cy="22536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27" name="Oval 18"/>
          <p:cNvSpPr/>
          <p:nvPr/>
        </p:nvSpPr>
        <p:spPr>
          <a:xfrm>
            <a:off x="1500120" y="5097600"/>
            <a:ext cx="1219320" cy="16812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E1C3-1606-4060-A9E2-B53826BB65D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formations liées à la scolarité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Matières enseig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3" descr=""/>
          <p:cNvPicPr/>
          <p:nvPr/>
        </p:nvPicPr>
        <p:blipFill>
          <a:blip r:embed="rId1"/>
          <a:srcRect l="12404" t="24196" r="4980" b="21376"/>
          <a:stretch/>
        </p:blipFill>
        <p:spPr>
          <a:xfrm>
            <a:off x="619200" y="1798560"/>
            <a:ext cx="8058240" cy="3981600"/>
          </a:xfrm>
          <a:prstGeom prst="rect">
            <a:avLst/>
          </a:prstGeom>
          <a:ln w="0">
            <a:noFill/>
          </a:ln>
        </p:spPr>
      </p:pic>
      <p:sp>
        <p:nvSpPr>
          <p:cNvPr id="1131" name="Oval 4"/>
          <p:cNvSpPr/>
          <p:nvPr/>
        </p:nvSpPr>
        <p:spPr>
          <a:xfrm>
            <a:off x="3753000" y="2176560"/>
            <a:ext cx="1763640" cy="49356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132" name="Group 5"/>
          <p:cNvGrpSpPr/>
          <p:nvPr/>
        </p:nvGrpSpPr>
        <p:grpSpPr>
          <a:xfrm>
            <a:off x="6918480" y="6399360"/>
            <a:ext cx="2225520" cy="514080"/>
            <a:chOff x="6918480" y="6399360"/>
            <a:chExt cx="2225520" cy="514080"/>
          </a:xfrm>
        </p:grpSpPr>
        <p:sp>
          <p:nvSpPr>
            <p:cNvPr id="1133" name="Line 6"/>
            <p:cNvSpPr/>
            <p:nvPr/>
          </p:nvSpPr>
          <p:spPr>
            <a:xfrm>
              <a:off x="6991200" y="6535800"/>
              <a:ext cx="281160" cy="0"/>
            </a:xfrm>
            <a:prstGeom prst="line">
              <a:avLst/>
            </a:prstGeom>
            <a:ln w="28440">
              <a:solidFill>
                <a:srgbClr val="cb23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34" name="Text Box 7"/>
            <p:cNvSpPr/>
            <p:nvPr/>
          </p:nvSpPr>
          <p:spPr>
            <a:xfrm>
              <a:off x="7246800" y="6421320"/>
              <a:ext cx="95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d10a14"/>
                  </a:solidFill>
                  <a:latin typeface="Arial"/>
                </a:rPr>
                <a:t>Alimenté en V1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35" name="Line 8"/>
            <p:cNvSpPr/>
            <p:nvPr/>
          </p:nvSpPr>
          <p:spPr>
            <a:xfrm>
              <a:off x="6991200" y="6743880"/>
              <a:ext cx="281160" cy="0"/>
            </a:xfrm>
            <a:prstGeom prst="line">
              <a:avLst/>
            </a:prstGeom>
            <a:ln w="28440">
              <a:solidFill>
                <a:srgbClr val="ce0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36" name="Text Box 9"/>
            <p:cNvSpPr/>
            <p:nvPr/>
          </p:nvSpPr>
          <p:spPr>
            <a:xfrm>
              <a:off x="7246800" y="6629400"/>
              <a:ext cx="95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ce0ac5"/>
                  </a:solidFill>
                  <a:latin typeface="Arial"/>
                </a:rPr>
                <a:t>Alimenté en V2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37" name="Line 10"/>
            <p:cNvSpPr/>
            <p:nvPr/>
          </p:nvSpPr>
          <p:spPr>
            <a:xfrm>
              <a:off x="8348760" y="653580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38" name="Text Box 11"/>
            <p:cNvSpPr/>
            <p:nvPr/>
          </p:nvSpPr>
          <p:spPr>
            <a:xfrm>
              <a:off x="8605440" y="642132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39" name="Line 12"/>
            <p:cNvSpPr/>
            <p:nvPr/>
          </p:nvSpPr>
          <p:spPr>
            <a:xfrm>
              <a:off x="8348760" y="674388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40" name="Text Box 13"/>
            <p:cNvSpPr/>
            <p:nvPr/>
          </p:nvSpPr>
          <p:spPr>
            <a:xfrm>
              <a:off x="8604360" y="6629400"/>
              <a:ext cx="51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ibellé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41" name="Rectangle 14"/>
            <p:cNvSpPr/>
            <p:nvPr/>
          </p:nvSpPr>
          <p:spPr>
            <a:xfrm>
              <a:off x="6918480" y="6399360"/>
              <a:ext cx="2225520" cy="514080"/>
            </a:xfrm>
            <a:prstGeom prst="rect">
              <a:avLst/>
            </a:prstGeom>
            <a:noFill/>
            <a:ln w="1908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142" name="Oval 15"/>
          <p:cNvSpPr/>
          <p:nvPr/>
        </p:nvSpPr>
        <p:spPr>
          <a:xfrm>
            <a:off x="3753000" y="4417920"/>
            <a:ext cx="1763640" cy="49392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160" y="2476440"/>
            <a:ext cx="674028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Zoom </a:t>
            </a:r>
            <a:br>
              <a:rPr sz="4800"/>
            </a:b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sur l’Annuaire fédérateur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247680"/>
            <a:ext cx="1562040" cy="12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451A-1332-4C15-8916-898B1224292F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cisions sur certains attributs</a:t>
            </a:r>
            <a:br>
              <a:rPr sz="16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formations liées à la scolarité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Discipline de po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5" name="Picture 3" descr=""/>
          <p:cNvPicPr/>
          <p:nvPr/>
        </p:nvPicPr>
        <p:blipFill>
          <a:blip r:embed="rId1"/>
          <a:srcRect l="19207" t="35069" r="12256" b="17926"/>
          <a:stretch/>
        </p:blipFill>
        <p:spPr>
          <a:xfrm>
            <a:off x="1236600" y="3059280"/>
            <a:ext cx="6685200" cy="3438360"/>
          </a:xfrm>
          <a:prstGeom prst="rect">
            <a:avLst/>
          </a:prstGeom>
          <a:ln w="0">
            <a:noFill/>
          </a:ln>
        </p:spPr>
      </p:pic>
      <p:sp>
        <p:nvSpPr>
          <p:cNvPr id="1146" name="Oval 4"/>
          <p:cNvSpPr/>
          <p:nvPr/>
        </p:nvSpPr>
        <p:spPr>
          <a:xfrm>
            <a:off x="3710160" y="3390840"/>
            <a:ext cx="1763640" cy="49392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47" name="Oval 5"/>
          <p:cNvSpPr/>
          <p:nvPr/>
        </p:nvSpPr>
        <p:spPr>
          <a:xfrm>
            <a:off x="3090960" y="4246560"/>
            <a:ext cx="1763640" cy="49356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74320" y="1581120"/>
            <a:ext cx="861516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lvl="1" marL="578880" indent="-19584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scipline de recrutement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discipline correspondant au concours que le candidat a passé pour être recru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95840">
              <a:spcBef>
                <a:spcPts val="400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scipline de pos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: discipline effectivement enseig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9680" indent="-152280"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enseignée au niveau RH en fonction des matières enseigné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59680" indent="-152280">
              <a:spcBef>
                <a:spcPts val="374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eut correspondre à plusieurs disciplines de recrutement (et donc plusieurs concour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7"/>
          <p:cNvGrpSpPr/>
          <p:nvPr/>
        </p:nvGrpSpPr>
        <p:grpSpPr>
          <a:xfrm>
            <a:off x="6918480" y="6399360"/>
            <a:ext cx="2225520" cy="514080"/>
            <a:chOff x="6918480" y="6399360"/>
            <a:chExt cx="2225520" cy="514080"/>
          </a:xfrm>
        </p:grpSpPr>
        <p:sp>
          <p:nvSpPr>
            <p:cNvPr id="1150" name="Line 8"/>
            <p:cNvSpPr/>
            <p:nvPr/>
          </p:nvSpPr>
          <p:spPr>
            <a:xfrm>
              <a:off x="6991200" y="6535800"/>
              <a:ext cx="281160" cy="0"/>
            </a:xfrm>
            <a:prstGeom prst="line">
              <a:avLst/>
            </a:prstGeom>
            <a:ln w="28440">
              <a:solidFill>
                <a:srgbClr val="cb23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51" name="Text Box 9"/>
            <p:cNvSpPr/>
            <p:nvPr/>
          </p:nvSpPr>
          <p:spPr>
            <a:xfrm>
              <a:off x="7246800" y="6421320"/>
              <a:ext cx="95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d10a14"/>
                  </a:solidFill>
                  <a:latin typeface="Arial"/>
                </a:rPr>
                <a:t>Alimenté en V1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52" name="Line 10"/>
            <p:cNvSpPr/>
            <p:nvPr/>
          </p:nvSpPr>
          <p:spPr>
            <a:xfrm>
              <a:off x="6991200" y="6743880"/>
              <a:ext cx="281160" cy="0"/>
            </a:xfrm>
            <a:prstGeom prst="line">
              <a:avLst/>
            </a:prstGeom>
            <a:ln w="28440">
              <a:solidFill>
                <a:srgbClr val="ce0a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53" name="Text Box 11"/>
            <p:cNvSpPr/>
            <p:nvPr/>
          </p:nvSpPr>
          <p:spPr>
            <a:xfrm>
              <a:off x="7246800" y="6629400"/>
              <a:ext cx="95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ce0ac5"/>
                  </a:solidFill>
                  <a:latin typeface="Arial"/>
                </a:rPr>
                <a:t>Alimenté en V2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54" name="Line 12"/>
            <p:cNvSpPr/>
            <p:nvPr/>
          </p:nvSpPr>
          <p:spPr>
            <a:xfrm>
              <a:off x="8348760" y="653580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55" name="Text Box 13"/>
            <p:cNvSpPr/>
            <p:nvPr/>
          </p:nvSpPr>
          <p:spPr>
            <a:xfrm>
              <a:off x="8605440" y="642132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56" name="Line 14"/>
            <p:cNvSpPr/>
            <p:nvPr/>
          </p:nvSpPr>
          <p:spPr>
            <a:xfrm>
              <a:off x="8348760" y="6743880"/>
              <a:ext cx="28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57" name="Text Box 15"/>
            <p:cNvSpPr/>
            <p:nvPr/>
          </p:nvSpPr>
          <p:spPr>
            <a:xfrm>
              <a:off x="8604360" y="6629400"/>
              <a:ext cx="51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ibellé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58" name="Rectangle 16"/>
            <p:cNvSpPr/>
            <p:nvPr/>
          </p:nvSpPr>
          <p:spPr>
            <a:xfrm>
              <a:off x="6918480" y="6399360"/>
              <a:ext cx="2225520" cy="514080"/>
            </a:xfrm>
            <a:prstGeom prst="rect">
              <a:avLst/>
            </a:prstGeom>
            <a:noFill/>
            <a:ln w="19080">
              <a:solidFill>
                <a:srgbClr val="9bba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159" name="Oval 17"/>
          <p:cNvSpPr/>
          <p:nvPr/>
        </p:nvSpPr>
        <p:spPr>
          <a:xfrm>
            <a:off x="3710160" y="5308560"/>
            <a:ext cx="1763640" cy="49392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60" name="Oval 18"/>
          <p:cNvSpPr/>
          <p:nvPr/>
        </p:nvSpPr>
        <p:spPr>
          <a:xfrm>
            <a:off x="3090960" y="6006960"/>
            <a:ext cx="1763640" cy="493920"/>
          </a:xfrm>
          <a:prstGeom prst="ellipse">
            <a:avLst/>
          </a:prstGeom>
          <a:noFill/>
          <a:ln w="28440">
            <a:solidFill>
              <a:srgbClr val="cb2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2"/>
          <p:cNvSpPr/>
          <p:nvPr/>
        </p:nvSpPr>
        <p:spPr>
          <a:xfrm>
            <a:off x="1724040" y="1704960"/>
            <a:ext cx="6740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Utilisation du jeu d’essai</a:t>
            </a:r>
            <a:endParaRPr b="0" lang="en-US" sz="4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7F14-A2A9-4C6B-8D49-3E5BD775B64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Utilisation du jeu d’essai</a:t>
            </a:r>
            <a:br>
              <a:rPr sz="1600"/>
            </a:b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onnées ré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9920" y="1617480"/>
            <a:ext cx="8512200" cy="47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Rapp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le jeu d’essai comporte des </a:t>
            </a:r>
            <a:r>
              <a:rPr b="0" lang="fr-FR" sz="2000" spc="-1" strike="noStrike">
                <a:solidFill>
                  <a:srgbClr val="9bbace"/>
                </a:solidFill>
                <a:latin typeface="Arial"/>
              </a:rPr>
              <a:t>données réel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anonymisé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as suivants peuvent donc se pré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rreurs de sai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ublons (dus à des ré-immatricul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ations multiples Elèves, Personnes en relation avec les élèves, établiss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ormations concernant des établissements hors péri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400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seignants dont seul l’établissement de rattachement appartient au périmè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spcBef>
                <a:spcPts val="400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seignant dont l’établissement de rattachement n’appartient pas au périmè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ributs nécessitant une transformation (autres prénoms, email, présence devant élè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asses et groupes à cré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25"/>
              </a:spcBef>
              <a:buClr>
                <a:srgbClr val="9bbace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portance des traces (logs) et de la mise en œuvre de mécanismes de détection des anomalies lors de l’alimentation (contrôles d’intégr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9A2-EE46-43A9-B35E-71AC36AEB0AC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Utilisation du jeu d’essai</a:t>
            </a:r>
            <a:br>
              <a:rPr sz="16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itements particuliers pour les fichiers de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259920" y="1837800"/>
            <a:ext cx="851220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lnSpc>
                <a:spcPct val="120000"/>
              </a:lnSpc>
              <a:spcBef>
                <a:spcPts val="499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itements particuliers pour les fichiers de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20000"/>
              </a:lnSpc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quête de modification :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modify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120000"/>
              </a:lnSpc>
              <a:spcBef>
                <a:spcPts val="400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 traiter en création si l’entrée n’existe pas dans l’annuaire 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20000"/>
              </a:lnSpc>
              <a:spcBef>
                <a:spcPts val="451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quête de suppression :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delete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60560">
              <a:lnSpc>
                <a:spcPct val="120000"/>
              </a:lnSpc>
              <a:spcBef>
                <a:spcPts val="400"/>
              </a:spcBef>
              <a:buClr>
                <a:srgbClr val="9bbace"/>
              </a:buClr>
              <a:buSzPct val="6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 ignorer si l’entrée n’existe pas dans l’annuaire 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06280">
              <a:lnSpc>
                <a:spcPct val="120000"/>
              </a:lnSpc>
              <a:spcBef>
                <a:spcPts val="451"/>
              </a:spcBef>
              <a:buClr>
                <a:srgbClr val="9bbace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use : l’entrée n’appartenait pas au périmètre de l’ENT lors de la création dans les bases MENE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724040" y="1704600"/>
            <a:ext cx="6740640" cy="34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Les Delta</a:t>
            </a:r>
            <a:br>
              <a:rPr sz="5400"/>
            </a:br>
            <a:br>
              <a:rPr sz="6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4B1D-0FC5-42DC-9B4A-0719172A535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547280" y="247320"/>
            <a:ext cx="622476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Gestion des deltas</a:t>
            </a:r>
            <a:br>
              <a:rPr sz="3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stulats initi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 Box 3"/>
          <p:cNvSpPr/>
          <p:nvPr/>
        </p:nvSpPr>
        <p:spPr>
          <a:xfrm>
            <a:off x="739800" y="1593720"/>
            <a:ext cx="791856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 des fichiers de delta : 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mettre un fichier contenant les évolutions dans les bases de données entre deux dates plutôt que des fichiers complets. 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moins volumineux)</a:t>
            </a:r>
            <a:r>
              <a:rPr b="0" lang="fr-FR" sz="1400" spc="-1" strike="noStrike">
                <a:solidFill>
                  <a:srgbClr val="d10a1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72" name="Text Box 4"/>
          <p:cNvSpPr/>
          <p:nvPr/>
        </p:nvSpPr>
        <p:spPr>
          <a:xfrm>
            <a:off x="744480" y="379260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Rectorat (les responsables de l’administration de l’annuaire fédérateur) et l’équipe Projet ENT déterminent ensemble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73" name="Text Box 5"/>
          <p:cNvSpPr/>
          <p:nvPr/>
        </p:nvSpPr>
        <p:spPr>
          <a:xfrm>
            <a:off x="1368360" y="4371840"/>
            <a:ext cx="67960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spcBef>
                <a:spcPts val="1125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fréquence des extractions complètes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comple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1 extraction tous les 10 jour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 indent="284040">
              <a:spcBef>
                <a:spcPts val="1125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valeur de n, période de répétition des modifications/créations/suppressions dans les fichiers de delta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n=1 jour , delta quotidie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n=7 jours, delta hebdomadaire, etc.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74" name="Text Box 6"/>
          <p:cNvSpPr/>
          <p:nvPr/>
        </p:nvSpPr>
        <p:spPr>
          <a:xfrm>
            <a:off x="747720" y="3075120"/>
            <a:ext cx="56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fichier de delta est généré tous les jours.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D438-137C-45E3-BAEA-50BA97172BA4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Gestion des delta </a:t>
            </a:r>
            <a:br>
              <a:rPr sz="3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énération d’extractions complète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Text Box 3"/>
          <p:cNvSpPr/>
          <p:nvPr/>
        </p:nvSpPr>
        <p:spPr>
          <a:xfrm>
            <a:off x="849240" y="1595520"/>
            <a:ext cx="698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spcBef>
                <a:spcPts val="1125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comple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1 extraction complète tous les 10 jour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78" name="AutoShape 4"/>
          <p:cNvSpPr/>
          <p:nvPr/>
        </p:nvSpPr>
        <p:spPr>
          <a:xfrm>
            <a:off x="244440" y="4179960"/>
            <a:ext cx="8771040" cy="174600"/>
          </a:xfrm>
          <a:custGeom>
            <a:avLst/>
            <a:gdLst>
              <a:gd name="textAreaLeft" fmla="*/ 128160 w 8771040"/>
              <a:gd name="textAreaRight" fmla="*/ 8642880 w 8771040"/>
              <a:gd name="textAreaTop" fmla="*/ 31680 h 174600"/>
              <a:gd name="textAreaBottom" fmla="*/ 1429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3927"/>
                </a:moveTo>
                <a:lnTo>
                  <a:pt x="21103" y="3927"/>
                </a:lnTo>
                <a:lnTo>
                  <a:pt x="21103" y="0"/>
                </a:lnTo>
                <a:lnTo>
                  <a:pt x="21600" y="10800"/>
                </a:lnTo>
                <a:lnTo>
                  <a:pt x="21103" y="21600"/>
                </a:lnTo>
                <a:lnTo>
                  <a:pt x="21103" y="17673"/>
                </a:lnTo>
                <a:lnTo>
                  <a:pt x="0" y="17673"/>
                </a:lnTo>
                <a:lnTo>
                  <a:pt x="316" y="10800"/>
                </a:lnTo>
                <a:lnTo>
                  <a:pt x="0" y="3927"/>
                </a:lnTo>
                <a:close/>
              </a:path>
            </a:pathLst>
          </a:cu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179" name="Group 5"/>
          <p:cNvGrpSpPr/>
          <p:nvPr/>
        </p:nvGrpSpPr>
        <p:grpSpPr>
          <a:xfrm>
            <a:off x="1446120" y="4121280"/>
            <a:ext cx="5589720" cy="833400"/>
            <a:chOff x="1446120" y="4121280"/>
            <a:chExt cx="5589720" cy="833400"/>
          </a:xfrm>
        </p:grpSpPr>
        <p:sp>
          <p:nvSpPr>
            <p:cNvPr id="1180" name="Rectangle 6"/>
            <p:cNvSpPr/>
            <p:nvPr/>
          </p:nvSpPr>
          <p:spPr>
            <a:xfrm>
              <a:off x="1446120" y="4124160"/>
              <a:ext cx="42840" cy="83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81" name="Rectangle 7"/>
            <p:cNvSpPr/>
            <p:nvPr/>
          </p:nvSpPr>
          <p:spPr>
            <a:xfrm>
              <a:off x="4132440" y="4121280"/>
              <a:ext cx="42840" cy="83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182" name="Rectangle 8"/>
            <p:cNvSpPr/>
            <p:nvPr/>
          </p:nvSpPr>
          <p:spPr>
            <a:xfrm>
              <a:off x="6993000" y="4121280"/>
              <a:ext cx="42840" cy="83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183" name="Text Box 9"/>
          <p:cNvSpPr/>
          <p:nvPr/>
        </p:nvSpPr>
        <p:spPr>
          <a:xfrm>
            <a:off x="1050840" y="4992840"/>
            <a:ext cx="46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tes d’extraction au Rectorat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798480" y="5627520"/>
            <a:ext cx="8158320" cy="831960"/>
          </a:xfrm>
          <a:prstGeom prst="rect">
            <a:avLst/>
          </a:prstGeom>
          <a:noFill/>
          <a:ln w="19080">
            <a:solidFill>
              <a:srgbClr val="cd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 l’intégrateur ne veut travailler que sur des fichiers complets, il doit récupèrer les fichiers xml complets à une fréquence (au moins) égale à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comple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oit au moin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 fois tous les 10 jour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ans l’exemple.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185" name="Group 11"/>
          <p:cNvGrpSpPr/>
          <p:nvPr/>
        </p:nvGrpSpPr>
        <p:grpSpPr>
          <a:xfrm>
            <a:off x="735120" y="2355840"/>
            <a:ext cx="2668320" cy="1730160"/>
            <a:chOff x="735120" y="2355840"/>
            <a:chExt cx="2668320" cy="1730160"/>
          </a:xfrm>
        </p:grpSpPr>
        <p:grpSp>
          <p:nvGrpSpPr>
            <p:cNvPr id="1186" name="Group 12"/>
            <p:cNvGrpSpPr/>
            <p:nvPr/>
          </p:nvGrpSpPr>
          <p:grpSpPr>
            <a:xfrm>
              <a:off x="863640" y="2355840"/>
              <a:ext cx="2539800" cy="1730160"/>
              <a:chOff x="863640" y="2355840"/>
              <a:chExt cx="2539800" cy="1730160"/>
            </a:xfrm>
          </p:grpSpPr>
          <p:grpSp>
            <p:nvGrpSpPr>
              <p:cNvPr id="1187" name="Group 13"/>
              <p:cNvGrpSpPr/>
              <p:nvPr/>
            </p:nvGrpSpPr>
            <p:grpSpPr>
              <a:xfrm>
                <a:off x="1247760" y="2365200"/>
                <a:ext cx="2155680" cy="1720800"/>
                <a:chOff x="1247760" y="2365200"/>
                <a:chExt cx="2155680" cy="1720800"/>
              </a:xfrm>
            </p:grpSpPr>
            <p:sp>
              <p:nvSpPr>
                <p:cNvPr id="1188" name="AutoShape 14"/>
                <p:cNvSpPr/>
                <p:nvPr/>
              </p:nvSpPr>
              <p:spPr>
                <a:xfrm>
                  <a:off x="2406600" y="236520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189" name="AutoShape 15"/>
                <p:cNvSpPr/>
                <p:nvPr/>
              </p:nvSpPr>
              <p:spPr>
                <a:xfrm>
                  <a:off x="2265480" y="23727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16"/>
                <p:cNvSpPr/>
                <p:nvPr/>
              </p:nvSpPr>
              <p:spPr>
                <a:xfrm>
                  <a:off x="2115000" y="236520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191" name="AutoShape 17"/>
                <p:cNvSpPr/>
                <p:nvPr/>
              </p:nvSpPr>
              <p:spPr>
                <a:xfrm>
                  <a:off x="1969920" y="236664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192" name="AutoShape 18"/>
                <p:cNvSpPr/>
                <p:nvPr/>
              </p:nvSpPr>
              <p:spPr>
                <a:xfrm>
                  <a:off x="1820880" y="23727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193" name="AutoShape 19"/>
                <p:cNvSpPr/>
                <p:nvPr/>
              </p:nvSpPr>
              <p:spPr>
                <a:xfrm>
                  <a:off x="1670760" y="236520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194" name="AutoShape 20"/>
                <p:cNvSpPr/>
                <p:nvPr/>
              </p:nvSpPr>
              <p:spPr>
                <a:xfrm>
                  <a:off x="1536120" y="236664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195" name="AutoShape 21"/>
                <p:cNvSpPr/>
                <p:nvPr/>
              </p:nvSpPr>
              <p:spPr>
                <a:xfrm>
                  <a:off x="1402920" y="236520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196" name="AutoShape 22"/>
                <p:cNvSpPr/>
                <p:nvPr/>
              </p:nvSpPr>
              <p:spPr>
                <a:xfrm>
                  <a:off x="1247760" y="236808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7" name="AutoShape 23"/>
              <p:cNvSpPr/>
              <p:nvPr/>
            </p:nvSpPr>
            <p:spPr>
              <a:xfrm>
                <a:off x="873000" y="2355840"/>
                <a:ext cx="1200240" cy="17193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198" name="Text Box 24"/>
              <p:cNvSpPr/>
              <p:nvPr/>
            </p:nvSpPr>
            <p:spPr>
              <a:xfrm>
                <a:off x="863640" y="2421000"/>
                <a:ext cx="121608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Alice – 6ème A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Bernard – 5ème B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199" name="Text Box 25"/>
            <p:cNvSpPr/>
            <p:nvPr/>
          </p:nvSpPr>
          <p:spPr>
            <a:xfrm>
              <a:off x="735120" y="3436920"/>
              <a:ext cx="149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nsemble des données Éducation Nationale </a:t>
              </a:r>
              <a:br>
                <a:rPr sz="900"/>
              </a:b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u périmètre ENT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200" name="Group 26"/>
          <p:cNvGrpSpPr/>
          <p:nvPr/>
        </p:nvGrpSpPr>
        <p:grpSpPr>
          <a:xfrm>
            <a:off x="3424320" y="2346480"/>
            <a:ext cx="2624040" cy="1723680"/>
            <a:chOff x="3424320" y="2346480"/>
            <a:chExt cx="2624040" cy="1723680"/>
          </a:xfrm>
        </p:grpSpPr>
        <p:grpSp>
          <p:nvGrpSpPr>
            <p:cNvPr id="1201" name="Group 27"/>
            <p:cNvGrpSpPr/>
            <p:nvPr/>
          </p:nvGrpSpPr>
          <p:grpSpPr>
            <a:xfrm>
              <a:off x="3517920" y="2346480"/>
              <a:ext cx="2530440" cy="1723680"/>
              <a:chOff x="3517920" y="2346480"/>
              <a:chExt cx="2530440" cy="1723680"/>
            </a:xfrm>
          </p:grpSpPr>
          <p:grpSp>
            <p:nvGrpSpPr>
              <p:cNvPr id="1202" name="Group 28"/>
              <p:cNvGrpSpPr/>
              <p:nvPr/>
            </p:nvGrpSpPr>
            <p:grpSpPr>
              <a:xfrm>
                <a:off x="3892680" y="2349360"/>
                <a:ext cx="2155680" cy="1720800"/>
                <a:chOff x="3892680" y="2349360"/>
                <a:chExt cx="2155680" cy="1720800"/>
              </a:xfrm>
            </p:grpSpPr>
            <p:sp>
              <p:nvSpPr>
                <p:cNvPr id="1203" name="AutoShape 29"/>
                <p:cNvSpPr/>
                <p:nvPr/>
              </p:nvSpPr>
              <p:spPr>
                <a:xfrm>
                  <a:off x="5051520" y="23493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04" name="AutoShape 30"/>
                <p:cNvSpPr/>
                <p:nvPr/>
              </p:nvSpPr>
              <p:spPr>
                <a:xfrm>
                  <a:off x="4910400" y="235692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05" name="AutoShape 31"/>
                <p:cNvSpPr/>
                <p:nvPr/>
              </p:nvSpPr>
              <p:spPr>
                <a:xfrm>
                  <a:off x="4759920" y="23493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06" name="AutoShape 32"/>
                <p:cNvSpPr/>
                <p:nvPr/>
              </p:nvSpPr>
              <p:spPr>
                <a:xfrm>
                  <a:off x="4614840" y="235080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07" name="AutoShape 33"/>
                <p:cNvSpPr/>
                <p:nvPr/>
              </p:nvSpPr>
              <p:spPr>
                <a:xfrm>
                  <a:off x="4465800" y="235692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08" name="AutoShape 34"/>
                <p:cNvSpPr/>
                <p:nvPr/>
              </p:nvSpPr>
              <p:spPr>
                <a:xfrm>
                  <a:off x="4315680" y="23493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09" name="AutoShape 35"/>
                <p:cNvSpPr/>
                <p:nvPr/>
              </p:nvSpPr>
              <p:spPr>
                <a:xfrm>
                  <a:off x="4181040" y="235080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10" name="AutoShape 36"/>
                <p:cNvSpPr/>
                <p:nvPr/>
              </p:nvSpPr>
              <p:spPr>
                <a:xfrm>
                  <a:off x="4047840" y="23493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11" name="AutoShape 37"/>
                <p:cNvSpPr/>
                <p:nvPr/>
              </p:nvSpPr>
              <p:spPr>
                <a:xfrm>
                  <a:off x="3892680" y="235224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AutoShape 38"/>
              <p:cNvSpPr/>
              <p:nvPr/>
            </p:nvSpPr>
            <p:spPr>
              <a:xfrm>
                <a:off x="3517920" y="2346480"/>
                <a:ext cx="1200240" cy="171900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213" name="Text Box 39"/>
              <p:cNvSpPr/>
              <p:nvPr/>
            </p:nvSpPr>
            <p:spPr>
              <a:xfrm>
                <a:off x="3527280" y="2409840"/>
                <a:ext cx="133524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Alice – 6ème A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Bernard – 5ème C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214" name="Text Box 40"/>
            <p:cNvSpPr/>
            <p:nvPr/>
          </p:nvSpPr>
          <p:spPr>
            <a:xfrm>
              <a:off x="3424320" y="3433680"/>
              <a:ext cx="1407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nsemble des données Éducation Nationale </a:t>
              </a:r>
              <a:br>
                <a:rPr sz="900"/>
              </a:b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u périmètre ENT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215" name="Group 41"/>
          <p:cNvGrpSpPr/>
          <p:nvPr/>
        </p:nvGrpSpPr>
        <p:grpSpPr>
          <a:xfrm>
            <a:off x="6084720" y="2343240"/>
            <a:ext cx="2684520" cy="1723680"/>
            <a:chOff x="6084720" y="2343240"/>
            <a:chExt cx="2684520" cy="1723680"/>
          </a:xfrm>
        </p:grpSpPr>
        <p:grpSp>
          <p:nvGrpSpPr>
            <p:cNvPr id="1216" name="Group 42"/>
            <p:cNvGrpSpPr/>
            <p:nvPr/>
          </p:nvGrpSpPr>
          <p:grpSpPr>
            <a:xfrm>
              <a:off x="6238800" y="2343240"/>
              <a:ext cx="2530440" cy="1723680"/>
              <a:chOff x="6238800" y="2343240"/>
              <a:chExt cx="2530440" cy="1723680"/>
            </a:xfrm>
          </p:grpSpPr>
          <p:grpSp>
            <p:nvGrpSpPr>
              <p:cNvPr id="1217" name="Group 43"/>
              <p:cNvGrpSpPr/>
              <p:nvPr/>
            </p:nvGrpSpPr>
            <p:grpSpPr>
              <a:xfrm>
                <a:off x="6613560" y="2346480"/>
                <a:ext cx="2155680" cy="1720440"/>
                <a:chOff x="6613560" y="2346480"/>
                <a:chExt cx="2155680" cy="1720440"/>
              </a:xfrm>
            </p:grpSpPr>
            <p:sp>
              <p:nvSpPr>
                <p:cNvPr id="1218" name="AutoShape 44"/>
                <p:cNvSpPr/>
                <p:nvPr/>
              </p:nvSpPr>
              <p:spPr>
                <a:xfrm>
                  <a:off x="7772400" y="234648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19" name="AutoShape 45"/>
                <p:cNvSpPr/>
                <p:nvPr/>
              </p:nvSpPr>
              <p:spPr>
                <a:xfrm>
                  <a:off x="7631280" y="235404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20" name="AutoShape 46"/>
                <p:cNvSpPr/>
                <p:nvPr/>
              </p:nvSpPr>
              <p:spPr>
                <a:xfrm>
                  <a:off x="7480800" y="234648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21" name="AutoShape 47"/>
                <p:cNvSpPr/>
                <p:nvPr/>
              </p:nvSpPr>
              <p:spPr>
                <a:xfrm>
                  <a:off x="7335720" y="2347920"/>
                  <a:ext cx="996840" cy="1712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22" name="AutoShape 48"/>
                <p:cNvSpPr/>
                <p:nvPr/>
              </p:nvSpPr>
              <p:spPr>
                <a:xfrm>
                  <a:off x="7186680" y="235404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23" name="AutoShape 49"/>
                <p:cNvSpPr/>
                <p:nvPr/>
              </p:nvSpPr>
              <p:spPr>
                <a:xfrm>
                  <a:off x="7036560" y="234648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24" name="AutoShape 50"/>
                <p:cNvSpPr/>
                <p:nvPr/>
              </p:nvSpPr>
              <p:spPr>
                <a:xfrm>
                  <a:off x="6901920" y="2347920"/>
                  <a:ext cx="996840" cy="1712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25" name="AutoShape 51"/>
                <p:cNvSpPr/>
                <p:nvPr/>
              </p:nvSpPr>
              <p:spPr>
                <a:xfrm>
                  <a:off x="6768720" y="234648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26" name="AutoShape 52"/>
                <p:cNvSpPr/>
                <p:nvPr/>
              </p:nvSpPr>
              <p:spPr>
                <a:xfrm>
                  <a:off x="6613560" y="234936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7" name="AutoShape 53"/>
              <p:cNvSpPr/>
              <p:nvPr/>
            </p:nvSpPr>
            <p:spPr>
              <a:xfrm>
                <a:off x="6238800" y="2343240"/>
                <a:ext cx="1200240" cy="1719000"/>
              </a:xfrm>
              <a:prstGeom prst="foldedCorner">
                <a:avLst>
                  <a:gd name="adj" fmla="val 125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228" name="Text Box 54"/>
              <p:cNvSpPr/>
              <p:nvPr/>
            </p:nvSpPr>
            <p:spPr>
              <a:xfrm>
                <a:off x="6248520" y="2406600"/>
                <a:ext cx="1334880" cy="94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Bernard – 5ème C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Eve – 4ème D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229" name="Text Box 55"/>
            <p:cNvSpPr/>
            <p:nvPr/>
          </p:nvSpPr>
          <p:spPr>
            <a:xfrm>
              <a:off x="6084720" y="3424320"/>
              <a:ext cx="1482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nsemble des données Éducation Nationale </a:t>
              </a:r>
              <a:br>
                <a:rPr sz="900"/>
              </a:b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u périmètre ENT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230" name="Text Box 56"/>
          <p:cNvSpPr/>
          <p:nvPr/>
        </p:nvSpPr>
        <p:spPr>
          <a:xfrm>
            <a:off x="1208160" y="429732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231" name="Text Box 57"/>
          <p:cNvSpPr/>
          <p:nvPr/>
        </p:nvSpPr>
        <p:spPr>
          <a:xfrm>
            <a:off x="3510000" y="4303800"/>
            <a:ext cx="8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+10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232" name="Text Box 58"/>
          <p:cNvSpPr/>
          <p:nvPr/>
        </p:nvSpPr>
        <p:spPr>
          <a:xfrm>
            <a:off x="6375240" y="43005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+20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233" name="AutoShape 59"/>
          <p:cNvSpPr/>
          <p:nvPr/>
        </p:nvSpPr>
        <p:spPr>
          <a:xfrm>
            <a:off x="1317600" y="1944720"/>
            <a:ext cx="328680" cy="291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234" name="Group 60"/>
          <p:cNvGrpSpPr/>
          <p:nvPr/>
        </p:nvGrpSpPr>
        <p:grpSpPr>
          <a:xfrm>
            <a:off x="1835280" y="1944720"/>
            <a:ext cx="1596960" cy="291960"/>
            <a:chOff x="1835280" y="1944720"/>
            <a:chExt cx="1596960" cy="291960"/>
          </a:xfrm>
        </p:grpSpPr>
        <p:sp>
          <p:nvSpPr>
            <p:cNvPr id="1235" name="AutoShape 61"/>
            <p:cNvSpPr/>
            <p:nvPr/>
          </p:nvSpPr>
          <p:spPr>
            <a:xfrm>
              <a:off x="3092400" y="1944720"/>
              <a:ext cx="33984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36" name="AutoShape 62"/>
            <p:cNvSpPr/>
            <p:nvPr/>
          </p:nvSpPr>
          <p:spPr>
            <a:xfrm>
              <a:off x="29541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37" name="AutoShape 63"/>
            <p:cNvSpPr/>
            <p:nvPr/>
          </p:nvSpPr>
          <p:spPr>
            <a:xfrm>
              <a:off x="27795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38" name="AutoShape 64"/>
            <p:cNvSpPr/>
            <p:nvPr/>
          </p:nvSpPr>
          <p:spPr>
            <a:xfrm>
              <a:off x="261468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39" name="AutoShape 65"/>
            <p:cNvSpPr/>
            <p:nvPr/>
          </p:nvSpPr>
          <p:spPr>
            <a:xfrm>
              <a:off x="2459160" y="194472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40" name="AutoShape 66"/>
            <p:cNvSpPr/>
            <p:nvPr/>
          </p:nvSpPr>
          <p:spPr>
            <a:xfrm>
              <a:off x="229392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41" name="AutoShape 67"/>
            <p:cNvSpPr/>
            <p:nvPr/>
          </p:nvSpPr>
          <p:spPr>
            <a:xfrm>
              <a:off x="21495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42" name="AutoShape 68"/>
            <p:cNvSpPr/>
            <p:nvPr/>
          </p:nvSpPr>
          <p:spPr>
            <a:xfrm>
              <a:off x="19875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43" name="AutoShape 69"/>
            <p:cNvSpPr/>
            <p:nvPr/>
          </p:nvSpPr>
          <p:spPr>
            <a:xfrm>
              <a:off x="1835280" y="194472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244" name="Group 70"/>
          <p:cNvGrpSpPr/>
          <p:nvPr/>
        </p:nvGrpSpPr>
        <p:grpSpPr>
          <a:xfrm>
            <a:off x="4464000" y="1944720"/>
            <a:ext cx="1596960" cy="291960"/>
            <a:chOff x="4464000" y="1944720"/>
            <a:chExt cx="1596960" cy="291960"/>
          </a:xfrm>
        </p:grpSpPr>
        <p:sp>
          <p:nvSpPr>
            <p:cNvPr id="1245" name="AutoShape 71"/>
            <p:cNvSpPr/>
            <p:nvPr/>
          </p:nvSpPr>
          <p:spPr>
            <a:xfrm>
              <a:off x="5721480" y="1944720"/>
              <a:ext cx="3394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46" name="AutoShape 72"/>
            <p:cNvSpPr/>
            <p:nvPr/>
          </p:nvSpPr>
          <p:spPr>
            <a:xfrm>
              <a:off x="55832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47" name="AutoShape 73"/>
            <p:cNvSpPr/>
            <p:nvPr/>
          </p:nvSpPr>
          <p:spPr>
            <a:xfrm>
              <a:off x="54086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48" name="AutoShape 74"/>
            <p:cNvSpPr/>
            <p:nvPr/>
          </p:nvSpPr>
          <p:spPr>
            <a:xfrm>
              <a:off x="524340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49" name="AutoShape 75"/>
            <p:cNvSpPr/>
            <p:nvPr/>
          </p:nvSpPr>
          <p:spPr>
            <a:xfrm>
              <a:off x="508788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50" name="AutoShape 76"/>
            <p:cNvSpPr/>
            <p:nvPr/>
          </p:nvSpPr>
          <p:spPr>
            <a:xfrm>
              <a:off x="4923000" y="194472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51" name="AutoShape 77"/>
            <p:cNvSpPr/>
            <p:nvPr/>
          </p:nvSpPr>
          <p:spPr>
            <a:xfrm>
              <a:off x="477828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52" name="AutoShape 78"/>
            <p:cNvSpPr/>
            <p:nvPr/>
          </p:nvSpPr>
          <p:spPr>
            <a:xfrm>
              <a:off x="461628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53" name="AutoShape 79"/>
            <p:cNvSpPr/>
            <p:nvPr/>
          </p:nvSpPr>
          <p:spPr>
            <a:xfrm>
              <a:off x="446400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254" name="AutoShape 80"/>
          <p:cNvSpPr/>
          <p:nvPr/>
        </p:nvSpPr>
        <p:spPr>
          <a:xfrm>
            <a:off x="3921120" y="1944720"/>
            <a:ext cx="328680" cy="2919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255" name="Group 81"/>
          <p:cNvGrpSpPr/>
          <p:nvPr/>
        </p:nvGrpSpPr>
        <p:grpSpPr>
          <a:xfrm>
            <a:off x="7191360" y="1944720"/>
            <a:ext cx="1596960" cy="291960"/>
            <a:chOff x="7191360" y="1944720"/>
            <a:chExt cx="1596960" cy="291960"/>
          </a:xfrm>
        </p:grpSpPr>
        <p:sp>
          <p:nvSpPr>
            <p:cNvPr id="1256" name="AutoShape 82"/>
            <p:cNvSpPr/>
            <p:nvPr/>
          </p:nvSpPr>
          <p:spPr>
            <a:xfrm>
              <a:off x="8448840" y="1944720"/>
              <a:ext cx="3394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57" name="AutoShape 83"/>
            <p:cNvSpPr/>
            <p:nvPr/>
          </p:nvSpPr>
          <p:spPr>
            <a:xfrm>
              <a:off x="831060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58" name="AutoShape 84"/>
            <p:cNvSpPr/>
            <p:nvPr/>
          </p:nvSpPr>
          <p:spPr>
            <a:xfrm>
              <a:off x="813600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59" name="AutoShape 85"/>
            <p:cNvSpPr/>
            <p:nvPr/>
          </p:nvSpPr>
          <p:spPr>
            <a:xfrm>
              <a:off x="79707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60" name="AutoShape 86"/>
            <p:cNvSpPr/>
            <p:nvPr/>
          </p:nvSpPr>
          <p:spPr>
            <a:xfrm>
              <a:off x="78152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61" name="AutoShape 87"/>
            <p:cNvSpPr/>
            <p:nvPr/>
          </p:nvSpPr>
          <p:spPr>
            <a:xfrm>
              <a:off x="7650360" y="194472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62" name="AutoShape 88"/>
            <p:cNvSpPr/>
            <p:nvPr/>
          </p:nvSpPr>
          <p:spPr>
            <a:xfrm>
              <a:off x="75056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63" name="AutoShape 89"/>
            <p:cNvSpPr/>
            <p:nvPr/>
          </p:nvSpPr>
          <p:spPr>
            <a:xfrm>
              <a:off x="73436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64" name="AutoShape 90"/>
            <p:cNvSpPr/>
            <p:nvPr/>
          </p:nvSpPr>
          <p:spPr>
            <a:xfrm>
              <a:off x="71913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265" name="AutoShape 91"/>
          <p:cNvSpPr/>
          <p:nvPr/>
        </p:nvSpPr>
        <p:spPr>
          <a:xfrm>
            <a:off x="6620040" y="1944720"/>
            <a:ext cx="328320" cy="29196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266" name="Text Box 92"/>
          <p:cNvSpPr/>
          <p:nvPr/>
        </p:nvSpPr>
        <p:spPr>
          <a:xfrm>
            <a:off x="6480" y="189216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uair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267" name="Text Box 93"/>
          <p:cNvSpPr/>
          <p:nvPr/>
        </p:nvSpPr>
        <p:spPr>
          <a:xfrm>
            <a:off x="0" y="297828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xtraction XML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720E-113C-4453-99E1-035D03AB480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58720" y="274320"/>
            <a:ext cx="6529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énération d’extractions complètes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3"/>
          <p:cNvSpPr/>
          <p:nvPr/>
        </p:nvSpPr>
        <p:spPr>
          <a:xfrm>
            <a:off x="849240" y="1595520"/>
            <a:ext cx="698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spcBef>
                <a:spcPts val="1125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comple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1 extraction complète tous les 10 jour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271" name="AutoShape 4"/>
          <p:cNvSpPr/>
          <p:nvPr/>
        </p:nvSpPr>
        <p:spPr>
          <a:xfrm>
            <a:off x="244440" y="4179960"/>
            <a:ext cx="8771040" cy="174600"/>
          </a:xfrm>
          <a:custGeom>
            <a:avLst/>
            <a:gdLst>
              <a:gd name="textAreaLeft" fmla="*/ 128160 w 8771040"/>
              <a:gd name="textAreaRight" fmla="*/ 8642880 w 8771040"/>
              <a:gd name="textAreaTop" fmla="*/ 31680 h 174600"/>
              <a:gd name="textAreaBottom" fmla="*/ 1429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3927"/>
                </a:moveTo>
                <a:lnTo>
                  <a:pt x="21103" y="3927"/>
                </a:lnTo>
                <a:lnTo>
                  <a:pt x="21103" y="0"/>
                </a:lnTo>
                <a:lnTo>
                  <a:pt x="21600" y="10800"/>
                </a:lnTo>
                <a:lnTo>
                  <a:pt x="21103" y="21600"/>
                </a:lnTo>
                <a:lnTo>
                  <a:pt x="21103" y="17673"/>
                </a:lnTo>
                <a:lnTo>
                  <a:pt x="0" y="17673"/>
                </a:lnTo>
                <a:lnTo>
                  <a:pt x="316" y="10800"/>
                </a:lnTo>
                <a:lnTo>
                  <a:pt x="0" y="3927"/>
                </a:lnTo>
                <a:close/>
              </a:path>
            </a:pathLst>
          </a:cu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272" name="Group 5"/>
          <p:cNvGrpSpPr/>
          <p:nvPr/>
        </p:nvGrpSpPr>
        <p:grpSpPr>
          <a:xfrm>
            <a:off x="1446120" y="4121280"/>
            <a:ext cx="5589720" cy="833400"/>
            <a:chOff x="1446120" y="4121280"/>
            <a:chExt cx="5589720" cy="833400"/>
          </a:xfrm>
        </p:grpSpPr>
        <p:sp>
          <p:nvSpPr>
            <p:cNvPr id="1273" name="Rectangle 6"/>
            <p:cNvSpPr/>
            <p:nvPr/>
          </p:nvSpPr>
          <p:spPr>
            <a:xfrm>
              <a:off x="1446120" y="4124160"/>
              <a:ext cx="42840" cy="83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74" name="Rectangle 7"/>
            <p:cNvSpPr/>
            <p:nvPr/>
          </p:nvSpPr>
          <p:spPr>
            <a:xfrm>
              <a:off x="4132440" y="4121280"/>
              <a:ext cx="42840" cy="83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75" name="Rectangle 8"/>
            <p:cNvSpPr/>
            <p:nvPr/>
          </p:nvSpPr>
          <p:spPr>
            <a:xfrm>
              <a:off x="6993000" y="4121280"/>
              <a:ext cx="42840" cy="83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276" name="Group 9"/>
          <p:cNvGrpSpPr/>
          <p:nvPr/>
        </p:nvGrpSpPr>
        <p:grpSpPr>
          <a:xfrm>
            <a:off x="2170080" y="4130640"/>
            <a:ext cx="5589720" cy="833400"/>
            <a:chOff x="2170080" y="4130640"/>
            <a:chExt cx="5589720" cy="833400"/>
          </a:xfrm>
        </p:grpSpPr>
        <p:sp>
          <p:nvSpPr>
            <p:cNvPr id="1277" name="Rectangle 10"/>
            <p:cNvSpPr/>
            <p:nvPr/>
          </p:nvSpPr>
          <p:spPr>
            <a:xfrm>
              <a:off x="2170080" y="4133520"/>
              <a:ext cx="42840" cy="830520"/>
            </a:xfrm>
            <a:prstGeom prst="rect">
              <a:avLst/>
            </a:prstGeom>
            <a:solidFill>
              <a:srgbClr val="cd0a20"/>
            </a:solidFill>
            <a:ln w="9360">
              <a:solidFill>
                <a:srgbClr val="cb23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78" name="Rectangle 11"/>
            <p:cNvSpPr/>
            <p:nvPr/>
          </p:nvSpPr>
          <p:spPr>
            <a:xfrm>
              <a:off x="4856400" y="4130640"/>
              <a:ext cx="42840" cy="830160"/>
            </a:xfrm>
            <a:prstGeom prst="rect">
              <a:avLst/>
            </a:prstGeom>
            <a:solidFill>
              <a:srgbClr val="cd0a20"/>
            </a:solidFill>
            <a:ln w="9360">
              <a:solidFill>
                <a:srgbClr val="cb23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279" name="Rectangle 12"/>
            <p:cNvSpPr/>
            <p:nvPr/>
          </p:nvSpPr>
          <p:spPr>
            <a:xfrm>
              <a:off x="7716960" y="4130640"/>
              <a:ext cx="42840" cy="830160"/>
            </a:xfrm>
            <a:prstGeom prst="rect">
              <a:avLst/>
            </a:prstGeom>
            <a:solidFill>
              <a:srgbClr val="cd0a20"/>
            </a:solidFill>
            <a:ln w="9360">
              <a:solidFill>
                <a:srgbClr val="cb23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280" name="Text Box 13"/>
          <p:cNvSpPr/>
          <p:nvPr/>
        </p:nvSpPr>
        <p:spPr>
          <a:xfrm>
            <a:off x="0" y="4992840"/>
            <a:ext cx="46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s d’extraction au Rectorat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281" name="Text Box 14"/>
          <p:cNvSpPr/>
          <p:nvPr/>
        </p:nvSpPr>
        <p:spPr>
          <a:xfrm>
            <a:off x="3638520" y="497664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b0a20"/>
                </a:solidFill>
                <a:latin typeface="Arial"/>
              </a:rPr>
              <a:t>Dates de récupération des données par l’intégrateur</a:t>
            </a:r>
            <a:endParaRPr b="0" lang="en-US" sz="16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282" name="Text Box 15"/>
          <p:cNvSpPr/>
          <p:nvPr/>
        </p:nvSpPr>
        <p:spPr>
          <a:xfrm>
            <a:off x="987480" y="5462640"/>
            <a:ext cx="7659720" cy="1197000"/>
          </a:xfrm>
          <a:prstGeom prst="rect">
            <a:avLst/>
          </a:prstGeom>
          <a:noFill/>
          <a:ln w="19080">
            <a:solidFill>
              <a:srgbClr val="cd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 l’intégrateur ne veut travailler que sur des fichiers complets, il doit récupèrer les fichiers xml complets à une fréquence (au moins) égale à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comple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oit au moin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 fois tous les 10 jour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ans l’exemple.</a:t>
            </a:r>
            <a:br>
              <a:rPr sz="1400"/>
            </a:br>
            <a:r>
              <a:rPr b="0" i="1" lang="fr-FR" sz="1200" spc="-1" strike="noStrike">
                <a:solidFill>
                  <a:srgbClr val="cd0a23"/>
                </a:solidFill>
                <a:latin typeface="Arial"/>
              </a:rPr>
              <a:t>Attention : en mode mixte (alimentation complète et deltas), la récupération du fichier complet par l’intégrateur doit se faire entre J et J+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283" name="Group 16"/>
          <p:cNvGrpSpPr/>
          <p:nvPr/>
        </p:nvGrpSpPr>
        <p:grpSpPr>
          <a:xfrm>
            <a:off x="735120" y="2355840"/>
            <a:ext cx="2668320" cy="1730160"/>
            <a:chOff x="735120" y="2355840"/>
            <a:chExt cx="2668320" cy="1730160"/>
          </a:xfrm>
        </p:grpSpPr>
        <p:grpSp>
          <p:nvGrpSpPr>
            <p:cNvPr id="1284" name="Group 17"/>
            <p:cNvGrpSpPr/>
            <p:nvPr/>
          </p:nvGrpSpPr>
          <p:grpSpPr>
            <a:xfrm>
              <a:off x="863640" y="2355840"/>
              <a:ext cx="2539800" cy="1730160"/>
              <a:chOff x="863640" y="2355840"/>
              <a:chExt cx="2539800" cy="1730160"/>
            </a:xfrm>
          </p:grpSpPr>
          <p:grpSp>
            <p:nvGrpSpPr>
              <p:cNvPr id="1285" name="Group 18"/>
              <p:cNvGrpSpPr/>
              <p:nvPr/>
            </p:nvGrpSpPr>
            <p:grpSpPr>
              <a:xfrm>
                <a:off x="1247760" y="2365200"/>
                <a:ext cx="2155680" cy="1720800"/>
                <a:chOff x="1247760" y="2365200"/>
                <a:chExt cx="2155680" cy="1720800"/>
              </a:xfrm>
            </p:grpSpPr>
            <p:sp>
              <p:nvSpPr>
                <p:cNvPr id="1286" name="AutoShape 19"/>
                <p:cNvSpPr/>
                <p:nvPr/>
              </p:nvSpPr>
              <p:spPr>
                <a:xfrm>
                  <a:off x="2406600" y="236520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20"/>
                <p:cNvSpPr/>
                <p:nvPr/>
              </p:nvSpPr>
              <p:spPr>
                <a:xfrm>
                  <a:off x="2265480" y="23727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88" name="AutoShape 21"/>
                <p:cNvSpPr/>
                <p:nvPr/>
              </p:nvSpPr>
              <p:spPr>
                <a:xfrm>
                  <a:off x="2115000" y="236520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89" name="AutoShape 22"/>
                <p:cNvSpPr/>
                <p:nvPr/>
              </p:nvSpPr>
              <p:spPr>
                <a:xfrm>
                  <a:off x="1969920" y="236664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90" name="AutoShape 23"/>
                <p:cNvSpPr/>
                <p:nvPr/>
              </p:nvSpPr>
              <p:spPr>
                <a:xfrm>
                  <a:off x="1820880" y="23727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91" name="AutoShape 24"/>
                <p:cNvSpPr/>
                <p:nvPr/>
              </p:nvSpPr>
              <p:spPr>
                <a:xfrm>
                  <a:off x="1670760" y="236520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25"/>
                <p:cNvSpPr/>
                <p:nvPr/>
              </p:nvSpPr>
              <p:spPr>
                <a:xfrm>
                  <a:off x="1536120" y="236664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93" name="AutoShape 26"/>
                <p:cNvSpPr/>
                <p:nvPr/>
              </p:nvSpPr>
              <p:spPr>
                <a:xfrm>
                  <a:off x="1402920" y="236520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294" name="AutoShape 27"/>
                <p:cNvSpPr/>
                <p:nvPr/>
              </p:nvSpPr>
              <p:spPr>
                <a:xfrm>
                  <a:off x="1247760" y="236808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5" name="AutoShape 28"/>
              <p:cNvSpPr/>
              <p:nvPr/>
            </p:nvSpPr>
            <p:spPr>
              <a:xfrm>
                <a:off x="873000" y="2355840"/>
                <a:ext cx="1200240" cy="17193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296" name="Text Box 29"/>
              <p:cNvSpPr/>
              <p:nvPr/>
            </p:nvSpPr>
            <p:spPr>
              <a:xfrm>
                <a:off x="863640" y="2421000"/>
                <a:ext cx="121608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Alice – 6ème A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Bernard – 5ème B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297" name="Text Box 30"/>
            <p:cNvSpPr/>
            <p:nvPr/>
          </p:nvSpPr>
          <p:spPr>
            <a:xfrm>
              <a:off x="735120" y="3436920"/>
              <a:ext cx="149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nsemble des données Éducation Nationale </a:t>
              </a:r>
              <a:br>
                <a:rPr sz="900"/>
              </a:b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u périmètre ENT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298" name="Group 31"/>
          <p:cNvGrpSpPr/>
          <p:nvPr/>
        </p:nvGrpSpPr>
        <p:grpSpPr>
          <a:xfrm>
            <a:off x="3424320" y="2346480"/>
            <a:ext cx="2624040" cy="1723680"/>
            <a:chOff x="3424320" y="2346480"/>
            <a:chExt cx="2624040" cy="1723680"/>
          </a:xfrm>
        </p:grpSpPr>
        <p:grpSp>
          <p:nvGrpSpPr>
            <p:cNvPr id="1299" name="Group 32"/>
            <p:cNvGrpSpPr/>
            <p:nvPr/>
          </p:nvGrpSpPr>
          <p:grpSpPr>
            <a:xfrm>
              <a:off x="3517920" y="2346480"/>
              <a:ext cx="2530440" cy="1723680"/>
              <a:chOff x="3517920" y="2346480"/>
              <a:chExt cx="2530440" cy="1723680"/>
            </a:xfrm>
          </p:grpSpPr>
          <p:grpSp>
            <p:nvGrpSpPr>
              <p:cNvPr id="1300" name="Group 33"/>
              <p:cNvGrpSpPr/>
              <p:nvPr/>
            </p:nvGrpSpPr>
            <p:grpSpPr>
              <a:xfrm>
                <a:off x="3892680" y="2349360"/>
                <a:ext cx="2155680" cy="1720800"/>
                <a:chOff x="3892680" y="2349360"/>
                <a:chExt cx="2155680" cy="1720800"/>
              </a:xfrm>
            </p:grpSpPr>
            <p:sp>
              <p:nvSpPr>
                <p:cNvPr id="1301" name="AutoShape 34"/>
                <p:cNvSpPr/>
                <p:nvPr/>
              </p:nvSpPr>
              <p:spPr>
                <a:xfrm>
                  <a:off x="5051520" y="23493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02" name="AutoShape 35"/>
                <p:cNvSpPr/>
                <p:nvPr/>
              </p:nvSpPr>
              <p:spPr>
                <a:xfrm>
                  <a:off x="4910400" y="235692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03" name="AutoShape 36"/>
                <p:cNvSpPr/>
                <p:nvPr/>
              </p:nvSpPr>
              <p:spPr>
                <a:xfrm>
                  <a:off x="4759920" y="23493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04" name="AutoShape 37"/>
                <p:cNvSpPr/>
                <p:nvPr/>
              </p:nvSpPr>
              <p:spPr>
                <a:xfrm>
                  <a:off x="4614840" y="235080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05" name="AutoShape 38"/>
                <p:cNvSpPr/>
                <p:nvPr/>
              </p:nvSpPr>
              <p:spPr>
                <a:xfrm>
                  <a:off x="4465800" y="235692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06" name="AutoShape 39"/>
                <p:cNvSpPr/>
                <p:nvPr/>
              </p:nvSpPr>
              <p:spPr>
                <a:xfrm>
                  <a:off x="4315680" y="23493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07" name="AutoShape 40"/>
                <p:cNvSpPr/>
                <p:nvPr/>
              </p:nvSpPr>
              <p:spPr>
                <a:xfrm>
                  <a:off x="4181040" y="235080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08" name="AutoShape 41"/>
                <p:cNvSpPr/>
                <p:nvPr/>
              </p:nvSpPr>
              <p:spPr>
                <a:xfrm>
                  <a:off x="4047840" y="234936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09" name="AutoShape 42"/>
                <p:cNvSpPr/>
                <p:nvPr/>
              </p:nvSpPr>
              <p:spPr>
                <a:xfrm>
                  <a:off x="3892680" y="2352240"/>
                  <a:ext cx="996840" cy="17132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0" name="AutoShape 43"/>
              <p:cNvSpPr/>
              <p:nvPr/>
            </p:nvSpPr>
            <p:spPr>
              <a:xfrm>
                <a:off x="3517920" y="2346480"/>
                <a:ext cx="1200240" cy="1719000"/>
              </a:xfrm>
              <a:prstGeom prst="foldedCorner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311" name="Text Box 44"/>
              <p:cNvSpPr/>
              <p:nvPr/>
            </p:nvSpPr>
            <p:spPr>
              <a:xfrm>
                <a:off x="3527280" y="2409840"/>
                <a:ext cx="133524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Alice – 6ème A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Bernard – 5ème C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312" name="Text Box 45"/>
            <p:cNvSpPr/>
            <p:nvPr/>
          </p:nvSpPr>
          <p:spPr>
            <a:xfrm>
              <a:off x="3424320" y="3433680"/>
              <a:ext cx="1407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nsemble des données Éducation Nationale </a:t>
              </a:r>
              <a:br>
                <a:rPr sz="900"/>
              </a:b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u périmètre ENT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313" name="Group 46"/>
          <p:cNvGrpSpPr/>
          <p:nvPr/>
        </p:nvGrpSpPr>
        <p:grpSpPr>
          <a:xfrm>
            <a:off x="6084720" y="2343240"/>
            <a:ext cx="2684520" cy="1723680"/>
            <a:chOff x="6084720" y="2343240"/>
            <a:chExt cx="2684520" cy="1723680"/>
          </a:xfrm>
        </p:grpSpPr>
        <p:grpSp>
          <p:nvGrpSpPr>
            <p:cNvPr id="1314" name="Group 47"/>
            <p:cNvGrpSpPr/>
            <p:nvPr/>
          </p:nvGrpSpPr>
          <p:grpSpPr>
            <a:xfrm>
              <a:off x="6238800" y="2343240"/>
              <a:ext cx="2530440" cy="1723680"/>
              <a:chOff x="6238800" y="2343240"/>
              <a:chExt cx="2530440" cy="1723680"/>
            </a:xfrm>
          </p:grpSpPr>
          <p:grpSp>
            <p:nvGrpSpPr>
              <p:cNvPr id="1315" name="Group 48"/>
              <p:cNvGrpSpPr/>
              <p:nvPr/>
            </p:nvGrpSpPr>
            <p:grpSpPr>
              <a:xfrm>
                <a:off x="6613560" y="2346480"/>
                <a:ext cx="2155680" cy="1720440"/>
                <a:chOff x="6613560" y="2346480"/>
                <a:chExt cx="2155680" cy="1720440"/>
              </a:xfrm>
            </p:grpSpPr>
            <p:sp>
              <p:nvSpPr>
                <p:cNvPr id="1316" name="AutoShape 49"/>
                <p:cNvSpPr/>
                <p:nvPr/>
              </p:nvSpPr>
              <p:spPr>
                <a:xfrm>
                  <a:off x="7772400" y="234648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17" name="AutoShape 50"/>
                <p:cNvSpPr/>
                <p:nvPr/>
              </p:nvSpPr>
              <p:spPr>
                <a:xfrm>
                  <a:off x="7631280" y="235404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18" name="AutoShape 51"/>
                <p:cNvSpPr/>
                <p:nvPr/>
              </p:nvSpPr>
              <p:spPr>
                <a:xfrm>
                  <a:off x="7480800" y="234648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19" name="AutoShape 52"/>
                <p:cNvSpPr/>
                <p:nvPr/>
              </p:nvSpPr>
              <p:spPr>
                <a:xfrm>
                  <a:off x="7335720" y="2347920"/>
                  <a:ext cx="996840" cy="1712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20" name="AutoShape 53"/>
                <p:cNvSpPr/>
                <p:nvPr/>
              </p:nvSpPr>
              <p:spPr>
                <a:xfrm>
                  <a:off x="7186680" y="235404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21" name="AutoShape 54"/>
                <p:cNvSpPr/>
                <p:nvPr/>
              </p:nvSpPr>
              <p:spPr>
                <a:xfrm>
                  <a:off x="7036560" y="234648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22" name="AutoShape 55"/>
                <p:cNvSpPr/>
                <p:nvPr/>
              </p:nvSpPr>
              <p:spPr>
                <a:xfrm>
                  <a:off x="6901920" y="2347920"/>
                  <a:ext cx="996840" cy="1712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23" name="AutoShape 56"/>
                <p:cNvSpPr/>
                <p:nvPr/>
              </p:nvSpPr>
              <p:spPr>
                <a:xfrm>
                  <a:off x="6768720" y="234648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  <p:sp>
              <p:nvSpPr>
                <p:cNvPr id="1324" name="AutoShape 57"/>
                <p:cNvSpPr/>
                <p:nvPr/>
              </p:nvSpPr>
              <p:spPr>
                <a:xfrm>
                  <a:off x="6613560" y="2349360"/>
                  <a:ext cx="996840" cy="1712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d10a1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5" name="AutoShape 58"/>
              <p:cNvSpPr/>
              <p:nvPr/>
            </p:nvSpPr>
            <p:spPr>
              <a:xfrm>
                <a:off x="6238800" y="2343240"/>
                <a:ext cx="1200240" cy="1719000"/>
              </a:xfrm>
              <a:prstGeom prst="foldedCorner">
                <a:avLst>
                  <a:gd name="adj" fmla="val 125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326" name="Text Box 59"/>
              <p:cNvSpPr/>
              <p:nvPr/>
            </p:nvSpPr>
            <p:spPr>
              <a:xfrm>
                <a:off x="6248520" y="2406600"/>
                <a:ext cx="1334880" cy="94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Bernard – 5ème C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Eve – 4ème D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327" name="Text Box 60"/>
            <p:cNvSpPr/>
            <p:nvPr/>
          </p:nvSpPr>
          <p:spPr>
            <a:xfrm>
              <a:off x="6084720" y="3424320"/>
              <a:ext cx="1482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nsemble des données Éducation Nationale </a:t>
              </a:r>
              <a:br>
                <a:rPr sz="900"/>
              </a:b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u périmètre ENT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328" name="Text Box 61"/>
          <p:cNvSpPr/>
          <p:nvPr/>
        </p:nvSpPr>
        <p:spPr>
          <a:xfrm>
            <a:off x="1208160" y="429732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29" name="Text Box 62"/>
          <p:cNvSpPr/>
          <p:nvPr/>
        </p:nvSpPr>
        <p:spPr>
          <a:xfrm>
            <a:off x="3510000" y="4303800"/>
            <a:ext cx="8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+10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30" name="Text Box 63"/>
          <p:cNvSpPr/>
          <p:nvPr/>
        </p:nvSpPr>
        <p:spPr>
          <a:xfrm>
            <a:off x="6375240" y="43005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+20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31" name="AutoShape 64"/>
          <p:cNvSpPr/>
          <p:nvPr/>
        </p:nvSpPr>
        <p:spPr>
          <a:xfrm>
            <a:off x="1317600" y="1944720"/>
            <a:ext cx="328680" cy="291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332" name="Group 65"/>
          <p:cNvGrpSpPr/>
          <p:nvPr/>
        </p:nvGrpSpPr>
        <p:grpSpPr>
          <a:xfrm>
            <a:off x="1835280" y="1944720"/>
            <a:ext cx="1596960" cy="291960"/>
            <a:chOff x="1835280" y="1944720"/>
            <a:chExt cx="1596960" cy="291960"/>
          </a:xfrm>
        </p:grpSpPr>
        <p:sp>
          <p:nvSpPr>
            <p:cNvPr id="1333" name="AutoShape 66"/>
            <p:cNvSpPr/>
            <p:nvPr/>
          </p:nvSpPr>
          <p:spPr>
            <a:xfrm>
              <a:off x="3092400" y="1944720"/>
              <a:ext cx="33984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34" name="AutoShape 67"/>
            <p:cNvSpPr/>
            <p:nvPr/>
          </p:nvSpPr>
          <p:spPr>
            <a:xfrm>
              <a:off x="29541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35" name="AutoShape 68"/>
            <p:cNvSpPr/>
            <p:nvPr/>
          </p:nvSpPr>
          <p:spPr>
            <a:xfrm>
              <a:off x="27795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36" name="AutoShape 69"/>
            <p:cNvSpPr/>
            <p:nvPr/>
          </p:nvSpPr>
          <p:spPr>
            <a:xfrm>
              <a:off x="261468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37" name="AutoShape 70"/>
            <p:cNvSpPr/>
            <p:nvPr/>
          </p:nvSpPr>
          <p:spPr>
            <a:xfrm>
              <a:off x="2459160" y="194472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38" name="AutoShape 71"/>
            <p:cNvSpPr/>
            <p:nvPr/>
          </p:nvSpPr>
          <p:spPr>
            <a:xfrm>
              <a:off x="229392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39" name="AutoShape 72"/>
            <p:cNvSpPr/>
            <p:nvPr/>
          </p:nvSpPr>
          <p:spPr>
            <a:xfrm>
              <a:off x="21495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40" name="AutoShape 73"/>
            <p:cNvSpPr/>
            <p:nvPr/>
          </p:nvSpPr>
          <p:spPr>
            <a:xfrm>
              <a:off x="19875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41" name="AutoShape 74"/>
            <p:cNvSpPr/>
            <p:nvPr/>
          </p:nvSpPr>
          <p:spPr>
            <a:xfrm>
              <a:off x="1835280" y="194472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342" name="Group 75"/>
          <p:cNvGrpSpPr/>
          <p:nvPr/>
        </p:nvGrpSpPr>
        <p:grpSpPr>
          <a:xfrm>
            <a:off x="4464000" y="1944720"/>
            <a:ext cx="1596960" cy="291960"/>
            <a:chOff x="4464000" y="1944720"/>
            <a:chExt cx="1596960" cy="291960"/>
          </a:xfrm>
        </p:grpSpPr>
        <p:sp>
          <p:nvSpPr>
            <p:cNvPr id="1343" name="AutoShape 76"/>
            <p:cNvSpPr/>
            <p:nvPr/>
          </p:nvSpPr>
          <p:spPr>
            <a:xfrm>
              <a:off x="5721480" y="1944720"/>
              <a:ext cx="3394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44" name="AutoShape 77"/>
            <p:cNvSpPr/>
            <p:nvPr/>
          </p:nvSpPr>
          <p:spPr>
            <a:xfrm>
              <a:off x="55832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45" name="AutoShape 78"/>
            <p:cNvSpPr/>
            <p:nvPr/>
          </p:nvSpPr>
          <p:spPr>
            <a:xfrm>
              <a:off x="54086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46" name="AutoShape 79"/>
            <p:cNvSpPr/>
            <p:nvPr/>
          </p:nvSpPr>
          <p:spPr>
            <a:xfrm>
              <a:off x="524340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47" name="AutoShape 80"/>
            <p:cNvSpPr/>
            <p:nvPr/>
          </p:nvSpPr>
          <p:spPr>
            <a:xfrm>
              <a:off x="508788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48" name="AutoShape 81"/>
            <p:cNvSpPr/>
            <p:nvPr/>
          </p:nvSpPr>
          <p:spPr>
            <a:xfrm>
              <a:off x="4923000" y="194472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49" name="AutoShape 82"/>
            <p:cNvSpPr/>
            <p:nvPr/>
          </p:nvSpPr>
          <p:spPr>
            <a:xfrm>
              <a:off x="477828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50" name="AutoShape 83"/>
            <p:cNvSpPr/>
            <p:nvPr/>
          </p:nvSpPr>
          <p:spPr>
            <a:xfrm>
              <a:off x="461628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51" name="AutoShape 84"/>
            <p:cNvSpPr/>
            <p:nvPr/>
          </p:nvSpPr>
          <p:spPr>
            <a:xfrm>
              <a:off x="446400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352" name="AutoShape 85"/>
          <p:cNvSpPr/>
          <p:nvPr/>
        </p:nvSpPr>
        <p:spPr>
          <a:xfrm>
            <a:off x="3921120" y="1944720"/>
            <a:ext cx="328680" cy="2919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353" name="Group 86"/>
          <p:cNvGrpSpPr/>
          <p:nvPr/>
        </p:nvGrpSpPr>
        <p:grpSpPr>
          <a:xfrm>
            <a:off x="7191360" y="1944720"/>
            <a:ext cx="1596960" cy="291960"/>
            <a:chOff x="7191360" y="1944720"/>
            <a:chExt cx="1596960" cy="291960"/>
          </a:xfrm>
        </p:grpSpPr>
        <p:sp>
          <p:nvSpPr>
            <p:cNvPr id="1354" name="AutoShape 87"/>
            <p:cNvSpPr/>
            <p:nvPr/>
          </p:nvSpPr>
          <p:spPr>
            <a:xfrm>
              <a:off x="8448840" y="1944720"/>
              <a:ext cx="3394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55" name="AutoShape 88"/>
            <p:cNvSpPr/>
            <p:nvPr/>
          </p:nvSpPr>
          <p:spPr>
            <a:xfrm>
              <a:off x="831060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56" name="AutoShape 89"/>
            <p:cNvSpPr/>
            <p:nvPr/>
          </p:nvSpPr>
          <p:spPr>
            <a:xfrm>
              <a:off x="813600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57" name="AutoShape 90"/>
            <p:cNvSpPr/>
            <p:nvPr/>
          </p:nvSpPr>
          <p:spPr>
            <a:xfrm>
              <a:off x="79707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58" name="AutoShape 91"/>
            <p:cNvSpPr/>
            <p:nvPr/>
          </p:nvSpPr>
          <p:spPr>
            <a:xfrm>
              <a:off x="78152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59" name="AutoShape 92"/>
            <p:cNvSpPr/>
            <p:nvPr/>
          </p:nvSpPr>
          <p:spPr>
            <a:xfrm>
              <a:off x="7650360" y="194472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60" name="AutoShape 93"/>
            <p:cNvSpPr/>
            <p:nvPr/>
          </p:nvSpPr>
          <p:spPr>
            <a:xfrm>
              <a:off x="75056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61" name="AutoShape 94"/>
            <p:cNvSpPr/>
            <p:nvPr/>
          </p:nvSpPr>
          <p:spPr>
            <a:xfrm>
              <a:off x="734364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62" name="AutoShape 95"/>
            <p:cNvSpPr/>
            <p:nvPr/>
          </p:nvSpPr>
          <p:spPr>
            <a:xfrm>
              <a:off x="7191360" y="194472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363" name="AutoShape 96"/>
          <p:cNvSpPr/>
          <p:nvPr/>
        </p:nvSpPr>
        <p:spPr>
          <a:xfrm>
            <a:off x="6620040" y="1944720"/>
            <a:ext cx="328320" cy="29196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64" name="Text Box 97"/>
          <p:cNvSpPr/>
          <p:nvPr/>
        </p:nvSpPr>
        <p:spPr>
          <a:xfrm>
            <a:off x="15840" y="1892160"/>
            <a:ext cx="86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uair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65" name="Text Box 98"/>
          <p:cNvSpPr/>
          <p:nvPr/>
        </p:nvSpPr>
        <p:spPr>
          <a:xfrm>
            <a:off x="0" y="297828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xtraction XML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F2AB-A64D-4030-8B98-D6F7E8EFEB1F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énérations d’extractions del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Text Box 3"/>
          <p:cNvSpPr/>
          <p:nvPr/>
        </p:nvSpPr>
        <p:spPr>
          <a:xfrm>
            <a:off x="231840" y="1503360"/>
            <a:ext cx="87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spcBef>
                <a:spcPts val="876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emple : n = 5 jours = nombre de jours (glissants) pendant lesquels un objet modifié/créé/supprimé est répété dans les fichiers deltas (Dans tous les cas, les fichiers deltas sont extraits tous les jours)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69" name="AutoShape 4"/>
          <p:cNvSpPr/>
          <p:nvPr/>
        </p:nvSpPr>
        <p:spPr>
          <a:xfrm>
            <a:off x="244440" y="4960800"/>
            <a:ext cx="8771040" cy="174600"/>
          </a:xfrm>
          <a:custGeom>
            <a:avLst/>
            <a:gdLst>
              <a:gd name="textAreaLeft" fmla="*/ 128160 w 8771040"/>
              <a:gd name="textAreaRight" fmla="*/ 8642880 w 8771040"/>
              <a:gd name="textAreaTop" fmla="*/ 31680 h 174600"/>
              <a:gd name="textAreaBottom" fmla="*/ 1429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3927"/>
                </a:moveTo>
                <a:lnTo>
                  <a:pt x="21103" y="3927"/>
                </a:lnTo>
                <a:lnTo>
                  <a:pt x="21103" y="0"/>
                </a:lnTo>
                <a:lnTo>
                  <a:pt x="21600" y="10800"/>
                </a:lnTo>
                <a:lnTo>
                  <a:pt x="21103" y="21600"/>
                </a:lnTo>
                <a:lnTo>
                  <a:pt x="21103" y="17673"/>
                </a:lnTo>
                <a:lnTo>
                  <a:pt x="0" y="17673"/>
                </a:lnTo>
                <a:lnTo>
                  <a:pt x="316" y="10800"/>
                </a:lnTo>
                <a:lnTo>
                  <a:pt x="0" y="3927"/>
                </a:lnTo>
                <a:close/>
              </a:path>
            </a:pathLst>
          </a:cu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70" name="AutoShape 5"/>
          <p:cNvSpPr/>
          <p:nvPr/>
        </p:nvSpPr>
        <p:spPr>
          <a:xfrm>
            <a:off x="200160" y="1967040"/>
            <a:ext cx="1199880" cy="1719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71" name="Text Box 6"/>
          <p:cNvSpPr/>
          <p:nvPr/>
        </p:nvSpPr>
        <p:spPr>
          <a:xfrm>
            <a:off x="190440" y="2031840"/>
            <a:ext cx="1216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lice – 6ème A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ernard – 5ème B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72" name="Text Box 7"/>
          <p:cNvSpPr/>
          <p:nvPr/>
        </p:nvSpPr>
        <p:spPr>
          <a:xfrm>
            <a:off x="100080" y="3048120"/>
            <a:ext cx="1400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Ensemble des données Éducation Nationale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u périmètre ENT</a:t>
            </a:r>
            <a:endParaRPr b="0" lang="en-US" sz="9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373" name="Group 8"/>
          <p:cNvGrpSpPr/>
          <p:nvPr/>
        </p:nvGrpSpPr>
        <p:grpSpPr>
          <a:xfrm>
            <a:off x="1001880" y="4484520"/>
            <a:ext cx="3049560" cy="877680"/>
            <a:chOff x="1001880" y="4484520"/>
            <a:chExt cx="3049560" cy="877680"/>
          </a:xfrm>
        </p:grpSpPr>
        <p:sp>
          <p:nvSpPr>
            <p:cNvPr id="1374" name="Line 9"/>
            <p:cNvSpPr/>
            <p:nvPr/>
          </p:nvSpPr>
          <p:spPr>
            <a:xfrm>
              <a:off x="100188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75" name="Line 10"/>
            <p:cNvSpPr/>
            <p:nvPr/>
          </p:nvSpPr>
          <p:spPr>
            <a:xfrm>
              <a:off x="17654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76" name="Line 11"/>
            <p:cNvSpPr/>
            <p:nvPr/>
          </p:nvSpPr>
          <p:spPr>
            <a:xfrm>
              <a:off x="251928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77" name="Line 12"/>
            <p:cNvSpPr/>
            <p:nvPr/>
          </p:nvSpPr>
          <p:spPr>
            <a:xfrm>
              <a:off x="328608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78" name="Line 13"/>
            <p:cNvSpPr/>
            <p:nvPr/>
          </p:nvSpPr>
          <p:spPr>
            <a:xfrm>
              <a:off x="40514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379" name="Group 14"/>
          <p:cNvGrpSpPr/>
          <p:nvPr/>
        </p:nvGrpSpPr>
        <p:grpSpPr>
          <a:xfrm>
            <a:off x="4803840" y="4484520"/>
            <a:ext cx="3049560" cy="877680"/>
            <a:chOff x="4803840" y="4484520"/>
            <a:chExt cx="3049560" cy="877680"/>
          </a:xfrm>
        </p:grpSpPr>
        <p:sp>
          <p:nvSpPr>
            <p:cNvPr id="1380" name="Line 15"/>
            <p:cNvSpPr/>
            <p:nvPr/>
          </p:nvSpPr>
          <p:spPr>
            <a:xfrm>
              <a:off x="48038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81" name="Line 16"/>
            <p:cNvSpPr/>
            <p:nvPr/>
          </p:nvSpPr>
          <p:spPr>
            <a:xfrm>
              <a:off x="556740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82" name="Line 17"/>
            <p:cNvSpPr/>
            <p:nvPr/>
          </p:nvSpPr>
          <p:spPr>
            <a:xfrm>
              <a:off x="63212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83" name="Line 18"/>
            <p:cNvSpPr/>
            <p:nvPr/>
          </p:nvSpPr>
          <p:spPr>
            <a:xfrm>
              <a:off x="70880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84" name="Line 19"/>
            <p:cNvSpPr/>
            <p:nvPr/>
          </p:nvSpPr>
          <p:spPr>
            <a:xfrm>
              <a:off x="785340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385" name="Line 20"/>
          <p:cNvSpPr/>
          <p:nvPr/>
        </p:nvSpPr>
        <p:spPr>
          <a:xfrm>
            <a:off x="995400" y="36846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386" name="Line 21"/>
          <p:cNvSpPr/>
          <p:nvPr/>
        </p:nvSpPr>
        <p:spPr>
          <a:xfrm>
            <a:off x="8586720" y="3693960"/>
            <a:ext cx="0" cy="16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387" name="Group 22"/>
          <p:cNvGrpSpPr/>
          <p:nvPr/>
        </p:nvGrpSpPr>
        <p:grpSpPr>
          <a:xfrm>
            <a:off x="1549440" y="3570120"/>
            <a:ext cx="650880" cy="914400"/>
            <a:chOff x="1549440" y="3570120"/>
            <a:chExt cx="650880" cy="914400"/>
          </a:xfrm>
        </p:grpSpPr>
        <p:sp>
          <p:nvSpPr>
            <p:cNvPr id="1388" name="AutoShape 23"/>
            <p:cNvSpPr/>
            <p:nvPr/>
          </p:nvSpPr>
          <p:spPr>
            <a:xfrm>
              <a:off x="1549440" y="357012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89" name="Text Box 24"/>
            <p:cNvSpPr/>
            <p:nvPr/>
          </p:nvSpPr>
          <p:spPr>
            <a:xfrm>
              <a:off x="1554480" y="425124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390" name="Group 25"/>
          <p:cNvGrpSpPr/>
          <p:nvPr/>
        </p:nvGrpSpPr>
        <p:grpSpPr>
          <a:xfrm>
            <a:off x="2278080" y="3559320"/>
            <a:ext cx="650880" cy="914400"/>
            <a:chOff x="2278080" y="3559320"/>
            <a:chExt cx="650880" cy="914400"/>
          </a:xfrm>
        </p:grpSpPr>
        <p:sp>
          <p:nvSpPr>
            <p:cNvPr id="1391" name="AutoShape 26"/>
            <p:cNvSpPr/>
            <p:nvPr/>
          </p:nvSpPr>
          <p:spPr>
            <a:xfrm>
              <a:off x="2278080" y="355932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92" name="Text Box 27"/>
            <p:cNvSpPr/>
            <p:nvPr/>
          </p:nvSpPr>
          <p:spPr>
            <a:xfrm>
              <a:off x="2283120" y="424044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393" name="Group 28"/>
          <p:cNvGrpSpPr/>
          <p:nvPr/>
        </p:nvGrpSpPr>
        <p:grpSpPr>
          <a:xfrm>
            <a:off x="3009960" y="3557520"/>
            <a:ext cx="650880" cy="914400"/>
            <a:chOff x="3009960" y="3557520"/>
            <a:chExt cx="650880" cy="914400"/>
          </a:xfrm>
        </p:grpSpPr>
        <p:sp>
          <p:nvSpPr>
            <p:cNvPr id="1394" name="AutoShape 29"/>
            <p:cNvSpPr/>
            <p:nvPr/>
          </p:nvSpPr>
          <p:spPr>
            <a:xfrm>
              <a:off x="3009960" y="355752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95" name="Text Box 30"/>
            <p:cNvSpPr/>
            <p:nvPr/>
          </p:nvSpPr>
          <p:spPr>
            <a:xfrm>
              <a:off x="3015000" y="423864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396" name="Text Box 31"/>
          <p:cNvSpPr/>
          <p:nvPr/>
        </p:nvSpPr>
        <p:spPr>
          <a:xfrm>
            <a:off x="2943360" y="3556080"/>
            <a:ext cx="787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ernard – 5ème C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397" name="Group 32"/>
          <p:cNvGrpSpPr/>
          <p:nvPr/>
        </p:nvGrpSpPr>
        <p:grpSpPr>
          <a:xfrm>
            <a:off x="3749760" y="3552840"/>
            <a:ext cx="650880" cy="914400"/>
            <a:chOff x="3749760" y="3552840"/>
            <a:chExt cx="650880" cy="914400"/>
          </a:xfrm>
        </p:grpSpPr>
        <p:sp>
          <p:nvSpPr>
            <p:cNvPr id="1398" name="AutoShape 33"/>
            <p:cNvSpPr/>
            <p:nvPr/>
          </p:nvSpPr>
          <p:spPr>
            <a:xfrm>
              <a:off x="3749760" y="355284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399" name="Text Box 34"/>
            <p:cNvSpPr/>
            <p:nvPr/>
          </p:nvSpPr>
          <p:spPr>
            <a:xfrm>
              <a:off x="3754800" y="423396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400" name="Text Box 35"/>
          <p:cNvSpPr/>
          <p:nvPr/>
        </p:nvSpPr>
        <p:spPr>
          <a:xfrm>
            <a:off x="3683160" y="3551400"/>
            <a:ext cx="787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ernard – 5ème C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401" name="Group 36"/>
          <p:cNvGrpSpPr/>
          <p:nvPr/>
        </p:nvGrpSpPr>
        <p:grpSpPr>
          <a:xfrm>
            <a:off x="4429080" y="3556080"/>
            <a:ext cx="787320" cy="915840"/>
            <a:chOff x="4429080" y="3556080"/>
            <a:chExt cx="787320" cy="915840"/>
          </a:xfrm>
        </p:grpSpPr>
        <p:grpSp>
          <p:nvGrpSpPr>
            <p:cNvPr id="1402" name="Group 37"/>
            <p:cNvGrpSpPr/>
            <p:nvPr/>
          </p:nvGrpSpPr>
          <p:grpSpPr>
            <a:xfrm>
              <a:off x="4495680" y="3557520"/>
              <a:ext cx="650880" cy="914400"/>
              <a:chOff x="4495680" y="3557520"/>
              <a:chExt cx="650880" cy="914400"/>
            </a:xfrm>
          </p:grpSpPr>
          <p:sp>
            <p:nvSpPr>
              <p:cNvPr id="1403" name="AutoShape 38"/>
              <p:cNvSpPr/>
              <p:nvPr/>
            </p:nvSpPr>
            <p:spPr>
              <a:xfrm>
                <a:off x="4495680" y="35575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404" name="Text Box 39"/>
              <p:cNvSpPr/>
              <p:nvPr/>
            </p:nvSpPr>
            <p:spPr>
              <a:xfrm>
                <a:off x="4500720" y="42386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405" name="Text Box 40"/>
            <p:cNvSpPr/>
            <p:nvPr/>
          </p:nvSpPr>
          <p:spPr>
            <a:xfrm>
              <a:off x="4429080" y="3556080"/>
              <a:ext cx="787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rnard – 5ème C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06" name="Group 41"/>
          <p:cNvGrpSpPr/>
          <p:nvPr/>
        </p:nvGrpSpPr>
        <p:grpSpPr>
          <a:xfrm>
            <a:off x="5191200" y="3556080"/>
            <a:ext cx="787320" cy="915840"/>
            <a:chOff x="5191200" y="3556080"/>
            <a:chExt cx="787320" cy="915840"/>
          </a:xfrm>
        </p:grpSpPr>
        <p:grpSp>
          <p:nvGrpSpPr>
            <p:cNvPr id="1407" name="Group 42"/>
            <p:cNvGrpSpPr/>
            <p:nvPr/>
          </p:nvGrpSpPr>
          <p:grpSpPr>
            <a:xfrm>
              <a:off x="5257800" y="3557520"/>
              <a:ext cx="650880" cy="914400"/>
              <a:chOff x="5257800" y="3557520"/>
              <a:chExt cx="650880" cy="914400"/>
            </a:xfrm>
          </p:grpSpPr>
          <p:sp>
            <p:nvSpPr>
              <p:cNvPr id="1408" name="AutoShape 43"/>
              <p:cNvSpPr/>
              <p:nvPr/>
            </p:nvSpPr>
            <p:spPr>
              <a:xfrm>
                <a:off x="5257800" y="35575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409" name="Text Box 44"/>
              <p:cNvSpPr/>
              <p:nvPr/>
            </p:nvSpPr>
            <p:spPr>
              <a:xfrm>
                <a:off x="5262840" y="42386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410" name="Text Box 45"/>
            <p:cNvSpPr/>
            <p:nvPr/>
          </p:nvSpPr>
          <p:spPr>
            <a:xfrm>
              <a:off x="5191200" y="3556080"/>
              <a:ext cx="787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rnard – 5ème C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11" name="Group 46"/>
          <p:cNvGrpSpPr/>
          <p:nvPr/>
        </p:nvGrpSpPr>
        <p:grpSpPr>
          <a:xfrm>
            <a:off x="5969160" y="3556080"/>
            <a:ext cx="787320" cy="915840"/>
            <a:chOff x="5969160" y="3556080"/>
            <a:chExt cx="787320" cy="915840"/>
          </a:xfrm>
        </p:grpSpPr>
        <p:grpSp>
          <p:nvGrpSpPr>
            <p:cNvPr id="1412" name="Group 47"/>
            <p:cNvGrpSpPr/>
            <p:nvPr/>
          </p:nvGrpSpPr>
          <p:grpSpPr>
            <a:xfrm>
              <a:off x="6035760" y="3557520"/>
              <a:ext cx="650880" cy="914400"/>
              <a:chOff x="6035760" y="3557520"/>
              <a:chExt cx="650880" cy="914400"/>
            </a:xfrm>
          </p:grpSpPr>
          <p:sp>
            <p:nvSpPr>
              <p:cNvPr id="1413" name="AutoShape 48"/>
              <p:cNvSpPr/>
              <p:nvPr/>
            </p:nvSpPr>
            <p:spPr>
              <a:xfrm>
                <a:off x="6035760" y="35575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414" name="Text Box 49"/>
              <p:cNvSpPr/>
              <p:nvPr/>
            </p:nvSpPr>
            <p:spPr>
              <a:xfrm>
                <a:off x="6040800" y="42386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415" name="Text Box 50"/>
            <p:cNvSpPr/>
            <p:nvPr/>
          </p:nvSpPr>
          <p:spPr>
            <a:xfrm>
              <a:off x="5969160" y="3556080"/>
              <a:ext cx="787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rnard – 5ème C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16" name="Group 51"/>
          <p:cNvGrpSpPr/>
          <p:nvPr/>
        </p:nvGrpSpPr>
        <p:grpSpPr>
          <a:xfrm>
            <a:off x="6791400" y="3556080"/>
            <a:ext cx="650880" cy="914400"/>
            <a:chOff x="6791400" y="3556080"/>
            <a:chExt cx="650880" cy="914400"/>
          </a:xfrm>
        </p:grpSpPr>
        <p:sp>
          <p:nvSpPr>
            <p:cNvPr id="1417" name="AutoShape 52"/>
            <p:cNvSpPr/>
            <p:nvPr/>
          </p:nvSpPr>
          <p:spPr>
            <a:xfrm>
              <a:off x="6791400" y="355608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18" name="Text Box 53"/>
            <p:cNvSpPr/>
            <p:nvPr/>
          </p:nvSpPr>
          <p:spPr>
            <a:xfrm>
              <a:off x="6796440" y="423720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19" name="Group 54"/>
          <p:cNvGrpSpPr/>
          <p:nvPr/>
        </p:nvGrpSpPr>
        <p:grpSpPr>
          <a:xfrm>
            <a:off x="7551720" y="3556080"/>
            <a:ext cx="650880" cy="914400"/>
            <a:chOff x="7551720" y="3556080"/>
            <a:chExt cx="650880" cy="914400"/>
          </a:xfrm>
        </p:grpSpPr>
        <p:sp>
          <p:nvSpPr>
            <p:cNvPr id="1420" name="AutoShape 55"/>
            <p:cNvSpPr/>
            <p:nvPr/>
          </p:nvSpPr>
          <p:spPr>
            <a:xfrm>
              <a:off x="7551720" y="355608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21" name="Text Box 56"/>
            <p:cNvSpPr/>
            <p:nvPr/>
          </p:nvSpPr>
          <p:spPr>
            <a:xfrm>
              <a:off x="7556760" y="423720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422" name="AutoShape 57"/>
          <p:cNvSpPr/>
          <p:nvPr/>
        </p:nvSpPr>
        <p:spPr>
          <a:xfrm>
            <a:off x="7812000" y="1967040"/>
            <a:ext cx="1200240" cy="1719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23" name="Text Box 58"/>
          <p:cNvSpPr/>
          <p:nvPr/>
        </p:nvSpPr>
        <p:spPr>
          <a:xfrm>
            <a:off x="7821720" y="2030400"/>
            <a:ext cx="1334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lice – 6ème A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ernard – 5ème C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24" name="Text Box 59"/>
          <p:cNvSpPr/>
          <p:nvPr/>
        </p:nvSpPr>
        <p:spPr>
          <a:xfrm>
            <a:off x="7664400" y="3054240"/>
            <a:ext cx="14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Ensemble des données Éducation Nationale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u périmètre ENT</a:t>
            </a:r>
            <a:endParaRPr b="0" lang="en-US" sz="9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25" name="AutoShape 60"/>
          <p:cNvSpPr/>
          <p:nvPr/>
        </p:nvSpPr>
        <p:spPr>
          <a:xfrm>
            <a:off x="3699000" y="2263680"/>
            <a:ext cx="328320" cy="29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426" name="Group 61"/>
          <p:cNvGrpSpPr/>
          <p:nvPr/>
        </p:nvGrpSpPr>
        <p:grpSpPr>
          <a:xfrm>
            <a:off x="4216320" y="2263680"/>
            <a:ext cx="1596960" cy="291960"/>
            <a:chOff x="4216320" y="2263680"/>
            <a:chExt cx="1596960" cy="291960"/>
          </a:xfrm>
        </p:grpSpPr>
        <p:sp>
          <p:nvSpPr>
            <p:cNvPr id="1427" name="AutoShape 62"/>
            <p:cNvSpPr/>
            <p:nvPr/>
          </p:nvSpPr>
          <p:spPr>
            <a:xfrm>
              <a:off x="5473440" y="2263680"/>
              <a:ext cx="33984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28" name="AutoShape 63"/>
            <p:cNvSpPr/>
            <p:nvPr/>
          </p:nvSpPr>
          <p:spPr>
            <a:xfrm>
              <a:off x="5335200" y="22636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29" name="AutoShape 64"/>
            <p:cNvSpPr/>
            <p:nvPr/>
          </p:nvSpPr>
          <p:spPr>
            <a:xfrm>
              <a:off x="5160600" y="22636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30" name="AutoShape 65"/>
            <p:cNvSpPr/>
            <p:nvPr/>
          </p:nvSpPr>
          <p:spPr>
            <a:xfrm>
              <a:off x="4995720" y="22636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31" name="AutoShape 66"/>
            <p:cNvSpPr/>
            <p:nvPr/>
          </p:nvSpPr>
          <p:spPr>
            <a:xfrm>
              <a:off x="4840200" y="226368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32" name="AutoShape 67"/>
            <p:cNvSpPr/>
            <p:nvPr/>
          </p:nvSpPr>
          <p:spPr>
            <a:xfrm>
              <a:off x="4674960" y="22636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33" name="AutoShape 68"/>
            <p:cNvSpPr/>
            <p:nvPr/>
          </p:nvSpPr>
          <p:spPr>
            <a:xfrm>
              <a:off x="4530600" y="22636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34" name="AutoShape 69"/>
            <p:cNvSpPr/>
            <p:nvPr/>
          </p:nvSpPr>
          <p:spPr>
            <a:xfrm>
              <a:off x="4368600" y="22636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35" name="AutoShape 70"/>
            <p:cNvSpPr/>
            <p:nvPr/>
          </p:nvSpPr>
          <p:spPr>
            <a:xfrm>
              <a:off x="4216320" y="226368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436" name="Text Box 71"/>
          <p:cNvSpPr/>
          <p:nvPr/>
        </p:nvSpPr>
        <p:spPr>
          <a:xfrm>
            <a:off x="2625840" y="221148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uair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37" name="Text Box 72"/>
          <p:cNvSpPr/>
          <p:nvPr/>
        </p:nvSpPr>
        <p:spPr>
          <a:xfrm>
            <a:off x="2687760" y="5686560"/>
            <a:ext cx="619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38" name="Rectangle 73"/>
          <p:cNvSpPr/>
          <p:nvPr/>
        </p:nvSpPr>
        <p:spPr>
          <a:xfrm>
            <a:off x="1731960" y="4821120"/>
            <a:ext cx="42840" cy="654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39" name="Rectangle 74"/>
          <p:cNvSpPr/>
          <p:nvPr/>
        </p:nvSpPr>
        <p:spPr>
          <a:xfrm>
            <a:off x="5556240" y="4802040"/>
            <a:ext cx="42840" cy="709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40" name="AutoShape 75"/>
          <p:cNvSpPr/>
          <p:nvPr/>
        </p:nvSpPr>
        <p:spPr>
          <a:xfrm>
            <a:off x="1828800" y="5359320"/>
            <a:ext cx="3703680" cy="98640"/>
          </a:xfrm>
          <a:prstGeom prst="leftRightArrow">
            <a:avLst>
              <a:gd name="adj1" fmla="val 49333"/>
              <a:gd name="adj2" fmla="val 175395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41" name="AutoShape 76"/>
          <p:cNvSpPr/>
          <p:nvPr/>
        </p:nvSpPr>
        <p:spPr>
          <a:xfrm>
            <a:off x="5657760" y="5389560"/>
            <a:ext cx="3486240" cy="71280"/>
          </a:xfrm>
          <a:prstGeom prst="leftRightArrow">
            <a:avLst>
              <a:gd name="adj1" fmla="val 49333"/>
              <a:gd name="adj2" fmla="val 22846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42" name="Text Box 77"/>
          <p:cNvSpPr/>
          <p:nvPr/>
        </p:nvSpPr>
        <p:spPr>
          <a:xfrm>
            <a:off x="955800" y="5494320"/>
            <a:ext cx="8020080" cy="1159560"/>
          </a:xfrm>
          <a:prstGeom prst="rect">
            <a:avLst/>
          </a:prstGeom>
          <a:noFill/>
          <a:ln w="19080">
            <a:solidFill>
              <a:srgbClr val="cd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intégrateur récupère des fichiers de delta  à une fréquence au moins égale à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 fois tous les n jour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uisque les modifications/créations/suppressions sont répétées dans les fichiers de delta xml pendant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 jours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Unicode MS"/>
              </a:rPr>
              <a:t>Tous les attributs des personnes sont renseignés dans le fichier avec leur valeur au jour de l'extraction.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4ED-A8AE-4F67-907B-031C1DF37B2A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Gestion des deltas</a:t>
            </a:r>
            <a:br>
              <a:rPr sz="36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énérations d’extractions del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 Box 3"/>
          <p:cNvSpPr/>
          <p:nvPr/>
        </p:nvSpPr>
        <p:spPr>
          <a:xfrm>
            <a:off x="233280" y="1500120"/>
            <a:ext cx="86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spcBef>
                <a:spcPts val="876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emple : n = 5 jours = nombre de jours (glissants) pendant lesquels un objet modifié/créé/supprimé est répété dans les fichiers deltas (Dans tous les cas, les fichiers deltas sont extraits tous les jours)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46" name="AutoShape 4"/>
          <p:cNvSpPr/>
          <p:nvPr/>
        </p:nvSpPr>
        <p:spPr>
          <a:xfrm>
            <a:off x="244440" y="4960800"/>
            <a:ext cx="8771040" cy="174600"/>
          </a:xfrm>
          <a:custGeom>
            <a:avLst/>
            <a:gdLst>
              <a:gd name="textAreaLeft" fmla="*/ 128160 w 8771040"/>
              <a:gd name="textAreaRight" fmla="*/ 8642880 w 8771040"/>
              <a:gd name="textAreaTop" fmla="*/ 31680 h 174600"/>
              <a:gd name="textAreaBottom" fmla="*/ 1429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3927"/>
                </a:moveTo>
                <a:lnTo>
                  <a:pt x="21103" y="3927"/>
                </a:lnTo>
                <a:lnTo>
                  <a:pt x="21103" y="0"/>
                </a:lnTo>
                <a:lnTo>
                  <a:pt x="21600" y="10800"/>
                </a:lnTo>
                <a:lnTo>
                  <a:pt x="21103" y="21600"/>
                </a:lnTo>
                <a:lnTo>
                  <a:pt x="21103" y="17673"/>
                </a:lnTo>
                <a:lnTo>
                  <a:pt x="0" y="17673"/>
                </a:lnTo>
                <a:lnTo>
                  <a:pt x="316" y="10800"/>
                </a:lnTo>
                <a:lnTo>
                  <a:pt x="0" y="3927"/>
                </a:lnTo>
                <a:close/>
              </a:path>
            </a:pathLst>
          </a:cu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447" name="Group 5"/>
          <p:cNvGrpSpPr/>
          <p:nvPr/>
        </p:nvGrpSpPr>
        <p:grpSpPr>
          <a:xfrm>
            <a:off x="1001880" y="4484520"/>
            <a:ext cx="3049560" cy="877680"/>
            <a:chOff x="1001880" y="4484520"/>
            <a:chExt cx="3049560" cy="877680"/>
          </a:xfrm>
        </p:grpSpPr>
        <p:sp>
          <p:nvSpPr>
            <p:cNvPr id="1448" name="Line 6"/>
            <p:cNvSpPr/>
            <p:nvPr/>
          </p:nvSpPr>
          <p:spPr>
            <a:xfrm>
              <a:off x="100188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49" name="Line 7"/>
            <p:cNvSpPr/>
            <p:nvPr/>
          </p:nvSpPr>
          <p:spPr>
            <a:xfrm>
              <a:off x="17654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50" name="Line 8"/>
            <p:cNvSpPr/>
            <p:nvPr/>
          </p:nvSpPr>
          <p:spPr>
            <a:xfrm>
              <a:off x="251928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51" name="Line 9"/>
            <p:cNvSpPr/>
            <p:nvPr/>
          </p:nvSpPr>
          <p:spPr>
            <a:xfrm>
              <a:off x="328608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52" name="Line 10"/>
            <p:cNvSpPr/>
            <p:nvPr/>
          </p:nvSpPr>
          <p:spPr>
            <a:xfrm>
              <a:off x="40514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53" name="Group 11"/>
          <p:cNvGrpSpPr/>
          <p:nvPr/>
        </p:nvGrpSpPr>
        <p:grpSpPr>
          <a:xfrm>
            <a:off x="4803840" y="4484520"/>
            <a:ext cx="3049560" cy="877680"/>
            <a:chOff x="4803840" y="4484520"/>
            <a:chExt cx="3049560" cy="877680"/>
          </a:xfrm>
        </p:grpSpPr>
        <p:sp>
          <p:nvSpPr>
            <p:cNvPr id="1454" name="Line 12"/>
            <p:cNvSpPr/>
            <p:nvPr/>
          </p:nvSpPr>
          <p:spPr>
            <a:xfrm>
              <a:off x="48038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55" name="Line 13"/>
            <p:cNvSpPr/>
            <p:nvPr/>
          </p:nvSpPr>
          <p:spPr>
            <a:xfrm>
              <a:off x="556740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56" name="Line 14"/>
            <p:cNvSpPr/>
            <p:nvPr/>
          </p:nvSpPr>
          <p:spPr>
            <a:xfrm>
              <a:off x="63212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57" name="Line 15"/>
            <p:cNvSpPr/>
            <p:nvPr/>
          </p:nvSpPr>
          <p:spPr>
            <a:xfrm>
              <a:off x="708804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58" name="Line 16"/>
            <p:cNvSpPr/>
            <p:nvPr/>
          </p:nvSpPr>
          <p:spPr>
            <a:xfrm>
              <a:off x="7853400" y="4484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459" name="Line 17"/>
          <p:cNvSpPr/>
          <p:nvPr/>
        </p:nvSpPr>
        <p:spPr>
          <a:xfrm>
            <a:off x="995400" y="36846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60" name="Line 18"/>
          <p:cNvSpPr/>
          <p:nvPr/>
        </p:nvSpPr>
        <p:spPr>
          <a:xfrm>
            <a:off x="8586720" y="3693960"/>
            <a:ext cx="0" cy="16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461" name="Group 19"/>
          <p:cNvGrpSpPr/>
          <p:nvPr/>
        </p:nvGrpSpPr>
        <p:grpSpPr>
          <a:xfrm>
            <a:off x="1549440" y="3551400"/>
            <a:ext cx="650880" cy="914400"/>
            <a:chOff x="1549440" y="3551400"/>
            <a:chExt cx="650880" cy="914400"/>
          </a:xfrm>
        </p:grpSpPr>
        <p:sp>
          <p:nvSpPr>
            <p:cNvPr id="1462" name="AutoShape 20"/>
            <p:cNvSpPr/>
            <p:nvPr/>
          </p:nvSpPr>
          <p:spPr>
            <a:xfrm>
              <a:off x="1549440" y="355140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63" name="Text Box 21"/>
            <p:cNvSpPr/>
            <p:nvPr/>
          </p:nvSpPr>
          <p:spPr>
            <a:xfrm>
              <a:off x="1554480" y="423252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64" name="Group 22"/>
          <p:cNvGrpSpPr/>
          <p:nvPr/>
        </p:nvGrpSpPr>
        <p:grpSpPr>
          <a:xfrm>
            <a:off x="2278080" y="3559320"/>
            <a:ext cx="650880" cy="914400"/>
            <a:chOff x="2278080" y="3559320"/>
            <a:chExt cx="650880" cy="914400"/>
          </a:xfrm>
        </p:grpSpPr>
        <p:sp>
          <p:nvSpPr>
            <p:cNvPr id="1465" name="AutoShape 23"/>
            <p:cNvSpPr/>
            <p:nvPr/>
          </p:nvSpPr>
          <p:spPr>
            <a:xfrm>
              <a:off x="2278080" y="355932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66" name="Text Box 24"/>
            <p:cNvSpPr/>
            <p:nvPr/>
          </p:nvSpPr>
          <p:spPr>
            <a:xfrm>
              <a:off x="2283120" y="424044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67" name="Group 25"/>
          <p:cNvGrpSpPr/>
          <p:nvPr/>
        </p:nvGrpSpPr>
        <p:grpSpPr>
          <a:xfrm>
            <a:off x="3009960" y="3557520"/>
            <a:ext cx="650880" cy="914400"/>
            <a:chOff x="3009960" y="3557520"/>
            <a:chExt cx="650880" cy="914400"/>
          </a:xfrm>
        </p:grpSpPr>
        <p:sp>
          <p:nvSpPr>
            <p:cNvPr id="1468" name="AutoShape 26"/>
            <p:cNvSpPr/>
            <p:nvPr/>
          </p:nvSpPr>
          <p:spPr>
            <a:xfrm>
              <a:off x="3009960" y="355752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69" name="Text Box 27"/>
            <p:cNvSpPr/>
            <p:nvPr/>
          </p:nvSpPr>
          <p:spPr>
            <a:xfrm>
              <a:off x="3015000" y="423864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70" name="Group 28"/>
          <p:cNvGrpSpPr/>
          <p:nvPr/>
        </p:nvGrpSpPr>
        <p:grpSpPr>
          <a:xfrm>
            <a:off x="3749760" y="3552840"/>
            <a:ext cx="650880" cy="914400"/>
            <a:chOff x="3749760" y="3552840"/>
            <a:chExt cx="650880" cy="914400"/>
          </a:xfrm>
        </p:grpSpPr>
        <p:sp>
          <p:nvSpPr>
            <p:cNvPr id="1471" name="AutoShape 29"/>
            <p:cNvSpPr/>
            <p:nvPr/>
          </p:nvSpPr>
          <p:spPr>
            <a:xfrm>
              <a:off x="3749760" y="355284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72" name="Text Box 30"/>
            <p:cNvSpPr/>
            <p:nvPr/>
          </p:nvSpPr>
          <p:spPr>
            <a:xfrm>
              <a:off x="3754800" y="423396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73" name="Group 31"/>
          <p:cNvGrpSpPr/>
          <p:nvPr/>
        </p:nvGrpSpPr>
        <p:grpSpPr>
          <a:xfrm>
            <a:off x="4495680" y="3557520"/>
            <a:ext cx="650880" cy="914400"/>
            <a:chOff x="4495680" y="3557520"/>
            <a:chExt cx="650880" cy="914400"/>
          </a:xfrm>
        </p:grpSpPr>
        <p:sp>
          <p:nvSpPr>
            <p:cNvPr id="1474" name="AutoShape 32"/>
            <p:cNvSpPr/>
            <p:nvPr/>
          </p:nvSpPr>
          <p:spPr>
            <a:xfrm>
              <a:off x="4495680" y="355752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75" name="Text Box 33"/>
            <p:cNvSpPr/>
            <p:nvPr/>
          </p:nvSpPr>
          <p:spPr>
            <a:xfrm>
              <a:off x="4500720" y="423864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76" name="Group 34"/>
          <p:cNvGrpSpPr/>
          <p:nvPr/>
        </p:nvGrpSpPr>
        <p:grpSpPr>
          <a:xfrm>
            <a:off x="5257800" y="3557520"/>
            <a:ext cx="650880" cy="914400"/>
            <a:chOff x="5257800" y="3557520"/>
            <a:chExt cx="650880" cy="914400"/>
          </a:xfrm>
        </p:grpSpPr>
        <p:sp>
          <p:nvSpPr>
            <p:cNvPr id="1477" name="AutoShape 35"/>
            <p:cNvSpPr/>
            <p:nvPr/>
          </p:nvSpPr>
          <p:spPr>
            <a:xfrm>
              <a:off x="5257800" y="355752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78" name="Text Box 36"/>
            <p:cNvSpPr/>
            <p:nvPr/>
          </p:nvSpPr>
          <p:spPr>
            <a:xfrm>
              <a:off x="5262840" y="423864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79" name="Group 37"/>
          <p:cNvGrpSpPr/>
          <p:nvPr/>
        </p:nvGrpSpPr>
        <p:grpSpPr>
          <a:xfrm>
            <a:off x="6035760" y="3557520"/>
            <a:ext cx="650880" cy="914400"/>
            <a:chOff x="6035760" y="3557520"/>
            <a:chExt cx="650880" cy="914400"/>
          </a:xfrm>
        </p:grpSpPr>
        <p:sp>
          <p:nvSpPr>
            <p:cNvPr id="1480" name="AutoShape 38"/>
            <p:cNvSpPr/>
            <p:nvPr/>
          </p:nvSpPr>
          <p:spPr>
            <a:xfrm>
              <a:off x="6035760" y="355752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81" name="Text Box 39"/>
            <p:cNvSpPr/>
            <p:nvPr/>
          </p:nvSpPr>
          <p:spPr>
            <a:xfrm>
              <a:off x="6040800" y="423864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82" name="Group 40"/>
          <p:cNvGrpSpPr/>
          <p:nvPr/>
        </p:nvGrpSpPr>
        <p:grpSpPr>
          <a:xfrm>
            <a:off x="6791400" y="3556080"/>
            <a:ext cx="650880" cy="914400"/>
            <a:chOff x="6791400" y="3556080"/>
            <a:chExt cx="650880" cy="914400"/>
          </a:xfrm>
        </p:grpSpPr>
        <p:sp>
          <p:nvSpPr>
            <p:cNvPr id="1483" name="AutoShape 41"/>
            <p:cNvSpPr/>
            <p:nvPr/>
          </p:nvSpPr>
          <p:spPr>
            <a:xfrm>
              <a:off x="6791400" y="355608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84" name="Text Box 42"/>
            <p:cNvSpPr/>
            <p:nvPr/>
          </p:nvSpPr>
          <p:spPr>
            <a:xfrm>
              <a:off x="6796440" y="423720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85" name="Group 43"/>
          <p:cNvGrpSpPr/>
          <p:nvPr/>
        </p:nvGrpSpPr>
        <p:grpSpPr>
          <a:xfrm>
            <a:off x="7551720" y="3556080"/>
            <a:ext cx="650880" cy="914400"/>
            <a:chOff x="7551720" y="3556080"/>
            <a:chExt cx="650880" cy="914400"/>
          </a:xfrm>
        </p:grpSpPr>
        <p:sp>
          <p:nvSpPr>
            <p:cNvPr id="1486" name="AutoShape 44"/>
            <p:cNvSpPr/>
            <p:nvPr/>
          </p:nvSpPr>
          <p:spPr>
            <a:xfrm>
              <a:off x="7551720" y="355608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87" name="Text Box 45"/>
            <p:cNvSpPr/>
            <p:nvPr/>
          </p:nvSpPr>
          <p:spPr>
            <a:xfrm>
              <a:off x="7556760" y="423720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488" name="Group 46"/>
          <p:cNvGrpSpPr/>
          <p:nvPr/>
        </p:nvGrpSpPr>
        <p:grpSpPr>
          <a:xfrm>
            <a:off x="184320" y="1962000"/>
            <a:ext cx="1374120" cy="1729800"/>
            <a:chOff x="184320" y="1962000"/>
            <a:chExt cx="1374120" cy="1729800"/>
          </a:xfrm>
        </p:grpSpPr>
        <p:sp>
          <p:nvSpPr>
            <p:cNvPr id="1489" name="AutoShape 47"/>
            <p:cNvSpPr/>
            <p:nvPr/>
          </p:nvSpPr>
          <p:spPr>
            <a:xfrm>
              <a:off x="214200" y="1962000"/>
              <a:ext cx="1199880" cy="171900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90" name="Text Box 48"/>
            <p:cNvSpPr/>
            <p:nvPr/>
          </p:nvSpPr>
          <p:spPr>
            <a:xfrm>
              <a:off x="223560" y="2025360"/>
              <a:ext cx="133488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ice – 6ème A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rnard – 5ème C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491" name="Text Box 49"/>
            <p:cNvSpPr/>
            <p:nvPr/>
          </p:nvSpPr>
          <p:spPr>
            <a:xfrm>
              <a:off x="184320" y="30492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nsemble des données Éducation Nationale du périmètre ENT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492" name="Text Box 50"/>
          <p:cNvSpPr/>
          <p:nvPr/>
        </p:nvSpPr>
        <p:spPr>
          <a:xfrm>
            <a:off x="2924280" y="355608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d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93" name="Text Box 51"/>
          <p:cNvSpPr/>
          <p:nvPr/>
        </p:nvSpPr>
        <p:spPr>
          <a:xfrm>
            <a:off x="3670200" y="355608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d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94" name="Text Box 52"/>
          <p:cNvSpPr/>
          <p:nvPr/>
        </p:nvSpPr>
        <p:spPr>
          <a:xfrm>
            <a:off x="4427640" y="3556080"/>
            <a:ext cx="8604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d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et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95" name="Text Box 53"/>
          <p:cNvSpPr/>
          <p:nvPr/>
        </p:nvSpPr>
        <p:spPr>
          <a:xfrm>
            <a:off x="5184720" y="3556080"/>
            <a:ext cx="8604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d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et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96" name="Text Box 54"/>
          <p:cNvSpPr/>
          <p:nvPr/>
        </p:nvSpPr>
        <p:spPr>
          <a:xfrm>
            <a:off x="5962680" y="3556080"/>
            <a:ext cx="8604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d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et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97" name="Text Box 55"/>
          <p:cNvSpPr/>
          <p:nvPr/>
        </p:nvSpPr>
        <p:spPr>
          <a:xfrm>
            <a:off x="6719760" y="3556080"/>
            <a:ext cx="8604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et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498" name="Text Box 56"/>
          <p:cNvSpPr/>
          <p:nvPr/>
        </p:nvSpPr>
        <p:spPr>
          <a:xfrm>
            <a:off x="7483320" y="3556080"/>
            <a:ext cx="8607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et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499" name="Group 57"/>
          <p:cNvGrpSpPr/>
          <p:nvPr/>
        </p:nvGrpSpPr>
        <p:grpSpPr>
          <a:xfrm>
            <a:off x="7848720" y="1959120"/>
            <a:ext cx="1379520" cy="1723680"/>
            <a:chOff x="7848720" y="1959120"/>
            <a:chExt cx="1379520" cy="1723680"/>
          </a:xfrm>
        </p:grpSpPr>
        <p:sp>
          <p:nvSpPr>
            <p:cNvPr id="1500" name="AutoShape 58"/>
            <p:cNvSpPr/>
            <p:nvPr/>
          </p:nvSpPr>
          <p:spPr>
            <a:xfrm>
              <a:off x="7883640" y="1959120"/>
              <a:ext cx="1200240" cy="171900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01" name="Text Box 59"/>
            <p:cNvSpPr/>
            <p:nvPr/>
          </p:nvSpPr>
          <p:spPr>
            <a:xfrm>
              <a:off x="7893360" y="2022480"/>
              <a:ext cx="13348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Bernard – 5ème C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ve – 4ème D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02" name="Text Box 60"/>
            <p:cNvSpPr/>
            <p:nvPr/>
          </p:nvSpPr>
          <p:spPr>
            <a:xfrm>
              <a:off x="7848720" y="304020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nsemble des données Éducation Nationale du périmètre ENT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503" name="Group 61"/>
          <p:cNvGrpSpPr/>
          <p:nvPr/>
        </p:nvGrpSpPr>
        <p:grpSpPr>
          <a:xfrm>
            <a:off x="4203720" y="2265480"/>
            <a:ext cx="1596960" cy="291960"/>
            <a:chOff x="4203720" y="2265480"/>
            <a:chExt cx="1596960" cy="291960"/>
          </a:xfrm>
        </p:grpSpPr>
        <p:sp>
          <p:nvSpPr>
            <p:cNvPr id="1504" name="AutoShape 62"/>
            <p:cNvSpPr/>
            <p:nvPr/>
          </p:nvSpPr>
          <p:spPr>
            <a:xfrm>
              <a:off x="5461200" y="2265480"/>
              <a:ext cx="3394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05" name="AutoShape 63"/>
            <p:cNvSpPr/>
            <p:nvPr/>
          </p:nvSpPr>
          <p:spPr>
            <a:xfrm>
              <a:off x="5322960" y="22654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06" name="AutoShape 64"/>
            <p:cNvSpPr/>
            <p:nvPr/>
          </p:nvSpPr>
          <p:spPr>
            <a:xfrm>
              <a:off x="5148360" y="22654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07" name="AutoShape 65"/>
            <p:cNvSpPr/>
            <p:nvPr/>
          </p:nvSpPr>
          <p:spPr>
            <a:xfrm>
              <a:off x="4983120" y="22654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08" name="AutoShape 66"/>
            <p:cNvSpPr/>
            <p:nvPr/>
          </p:nvSpPr>
          <p:spPr>
            <a:xfrm>
              <a:off x="4827600" y="22654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09" name="AutoShape 67"/>
            <p:cNvSpPr/>
            <p:nvPr/>
          </p:nvSpPr>
          <p:spPr>
            <a:xfrm>
              <a:off x="4662720" y="226548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10" name="AutoShape 68"/>
            <p:cNvSpPr/>
            <p:nvPr/>
          </p:nvSpPr>
          <p:spPr>
            <a:xfrm>
              <a:off x="4518000" y="22654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11" name="AutoShape 69"/>
            <p:cNvSpPr/>
            <p:nvPr/>
          </p:nvSpPr>
          <p:spPr>
            <a:xfrm>
              <a:off x="4356000" y="22654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12" name="AutoShape 70"/>
            <p:cNvSpPr/>
            <p:nvPr/>
          </p:nvSpPr>
          <p:spPr>
            <a:xfrm>
              <a:off x="4203720" y="226548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513" name="AutoShape 71"/>
          <p:cNvSpPr/>
          <p:nvPr/>
        </p:nvSpPr>
        <p:spPr>
          <a:xfrm>
            <a:off x="3691080" y="2265480"/>
            <a:ext cx="328320" cy="2919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14" name="Text Box 72"/>
          <p:cNvSpPr/>
          <p:nvPr/>
        </p:nvSpPr>
        <p:spPr>
          <a:xfrm>
            <a:off x="2625840" y="221148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uair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15" name="Rectangle 73"/>
          <p:cNvSpPr/>
          <p:nvPr/>
        </p:nvSpPr>
        <p:spPr>
          <a:xfrm>
            <a:off x="1724040" y="4987800"/>
            <a:ext cx="42840" cy="628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16" name="Rectangle 74"/>
          <p:cNvSpPr/>
          <p:nvPr/>
        </p:nvSpPr>
        <p:spPr>
          <a:xfrm>
            <a:off x="5548320" y="4986360"/>
            <a:ext cx="4284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17" name="AutoShape 75"/>
          <p:cNvSpPr/>
          <p:nvPr/>
        </p:nvSpPr>
        <p:spPr>
          <a:xfrm>
            <a:off x="1820880" y="5499000"/>
            <a:ext cx="3703680" cy="98640"/>
          </a:xfrm>
          <a:prstGeom prst="leftRightArrow">
            <a:avLst>
              <a:gd name="adj1" fmla="val 49333"/>
              <a:gd name="adj2" fmla="val 175395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18" name="AutoShape 76"/>
          <p:cNvSpPr/>
          <p:nvPr/>
        </p:nvSpPr>
        <p:spPr>
          <a:xfrm>
            <a:off x="5649840" y="5502240"/>
            <a:ext cx="3703680" cy="98640"/>
          </a:xfrm>
          <a:prstGeom prst="leftRightArrow">
            <a:avLst>
              <a:gd name="adj1" fmla="val 49333"/>
              <a:gd name="adj2" fmla="val 175395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19" name="Text Box 77"/>
          <p:cNvSpPr/>
          <p:nvPr/>
        </p:nvSpPr>
        <p:spPr>
          <a:xfrm>
            <a:off x="706320" y="5735520"/>
            <a:ext cx="8396280" cy="1159560"/>
          </a:xfrm>
          <a:prstGeom prst="rect">
            <a:avLst/>
          </a:prstGeom>
          <a:noFill/>
          <a:ln w="19080">
            <a:solidFill>
              <a:srgbClr val="cd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intégrateur récupère des fichiers de delta  à une fréquence au moins égale à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 fois tous les n jour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uisque les modifications/créations/suppressions sont répétées dans les fichiers de delta xml pendant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 jours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Unicode MS"/>
              </a:rPr>
              <a:t>Tous les attributs des personnes sont renseignés dans le fichier avec leur valeur au jour de l'extraction.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1073-F08F-4ED1-9166-DFDE3EA1EC7E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rchitecture glob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3" descr="logoMENESR"/>
          <p:cNvPicPr/>
          <p:nvPr/>
        </p:nvPicPr>
        <p:blipFill>
          <a:blip r:embed="rId1"/>
          <a:stretch/>
        </p:blipFill>
        <p:spPr>
          <a:xfrm>
            <a:off x="184320" y="247680"/>
            <a:ext cx="1315800" cy="128916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4"/>
          <p:cNvSpPr/>
          <p:nvPr/>
        </p:nvSpPr>
        <p:spPr>
          <a:xfrm>
            <a:off x="250920" y="1863720"/>
            <a:ext cx="8569080" cy="2517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330200" y="2293920"/>
            <a:ext cx="792360" cy="43164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gap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395280" y="2798640"/>
            <a:ext cx="792000" cy="43200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PP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95280" y="2293920"/>
            <a:ext cx="792000" cy="43164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gora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395280" y="3301920"/>
            <a:ext cx="792000" cy="43200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conet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330200" y="2798640"/>
            <a:ext cx="792360" cy="43200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tsWeb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330200" y="3301920"/>
            <a:ext cx="792360" cy="43200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amses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898560" y="3807000"/>
            <a:ext cx="792000" cy="43164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omen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3924360" y="2511360"/>
            <a:ext cx="1368360" cy="115272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nnuaire fédérateur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7" name="AutoShape 13"/>
          <p:cNvSpPr/>
          <p:nvPr/>
        </p:nvSpPr>
        <p:spPr>
          <a:xfrm>
            <a:off x="2411280" y="3014640"/>
            <a:ext cx="1079640" cy="287280"/>
          </a:xfrm>
          <a:prstGeom prst="rightArrow">
            <a:avLst>
              <a:gd name="adj1" fmla="val 50000"/>
              <a:gd name="adj2" fmla="val 939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8" name="AutoShape 14"/>
          <p:cNvSpPr/>
          <p:nvPr/>
        </p:nvSpPr>
        <p:spPr>
          <a:xfrm>
            <a:off x="5867280" y="3230640"/>
            <a:ext cx="1079640" cy="287280"/>
          </a:xfrm>
          <a:prstGeom prst="rightArrow">
            <a:avLst>
              <a:gd name="adj1" fmla="val 50000"/>
              <a:gd name="adj2" fmla="val 939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7164360" y="2654280"/>
            <a:ext cx="136836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2556000" y="2079720"/>
            <a:ext cx="42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Base de données DB2 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académiqu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 rot="7763400">
            <a:off x="3234240" y="4207320"/>
            <a:ext cx="1440000" cy="349200"/>
          </a:xfrm>
          <a:prstGeom prst="rightArrow">
            <a:avLst>
              <a:gd name="adj1" fmla="val 43130"/>
              <a:gd name="adj2" fmla="val 6901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272" name="AutoShape 18"/>
          <p:cNvSpPr/>
          <p:nvPr/>
        </p:nvSpPr>
        <p:spPr>
          <a:xfrm rot="3265800">
            <a:off x="4457880" y="4207320"/>
            <a:ext cx="1440000" cy="349560"/>
          </a:xfrm>
          <a:prstGeom prst="rightArrow">
            <a:avLst>
              <a:gd name="adj1" fmla="val 43130"/>
              <a:gd name="adj2" fmla="val 6894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1116000" y="5607000"/>
            <a:ext cx="1080720" cy="792000"/>
            <a:chOff x="1116000" y="5607000"/>
            <a:chExt cx="1080720" cy="792000"/>
          </a:xfrm>
        </p:grpSpPr>
        <p:pic>
          <p:nvPicPr>
            <p:cNvPr id="274" name="Picture 20" descr=""/>
            <p:cNvPicPr/>
            <p:nvPr/>
          </p:nvPicPr>
          <p:blipFill>
            <a:blip r:embed="rId2"/>
            <a:stretch/>
          </p:blipFill>
          <p:spPr>
            <a:xfrm>
              <a:off x="1116000" y="5607000"/>
              <a:ext cx="1080720" cy="79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5" name="Group 21"/>
            <p:cNvGrpSpPr/>
            <p:nvPr/>
          </p:nvGrpSpPr>
          <p:grpSpPr>
            <a:xfrm>
              <a:off x="1437840" y="5836320"/>
              <a:ext cx="68040" cy="54720"/>
              <a:chOff x="1437840" y="5836320"/>
              <a:chExt cx="68040" cy="54720"/>
            </a:xfrm>
          </p:grpSpPr>
          <p:sp>
            <p:nvSpPr>
              <p:cNvPr id="276" name="Freeform 22"/>
              <p:cNvSpPr/>
              <p:nvPr/>
            </p:nvSpPr>
            <p:spPr>
              <a:xfrm>
                <a:off x="1437840" y="5836320"/>
                <a:ext cx="68040" cy="54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11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10" y="23"/>
                    </a:lnTo>
                    <a:lnTo>
                      <a:pt x="18" y="23"/>
                    </a:lnTo>
                    <a:lnTo>
                      <a:pt x="26" y="21"/>
                    </a:lnTo>
                    <a:lnTo>
                      <a:pt x="31" y="18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277" name="Freeform 23"/>
              <p:cNvSpPr/>
              <p:nvPr/>
            </p:nvSpPr>
            <p:spPr>
              <a:xfrm>
                <a:off x="1437840" y="5836320"/>
                <a:ext cx="68040" cy="54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11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10" y="23"/>
                    </a:lnTo>
                    <a:lnTo>
                      <a:pt x="18" y="23"/>
                    </a:lnTo>
                    <a:lnTo>
                      <a:pt x="26" y="21"/>
                    </a:lnTo>
                    <a:lnTo>
                      <a:pt x="31" y="18"/>
                    </a:lnTo>
                    <a:lnTo>
                      <a:pt x="32" y="11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4"/>
            <p:cNvGrpSpPr/>
            <p:nvPr/>
          </p:nvGrpSpPr>
          <p:grpSpPr>
            <a:xfrm>
              <a:off x="1581120" y="5951520"/>
              <a:ext cx="74520" cy="56880"/>
              <a:chOff x="1581120" y="5951520"/>
              <a:chExt cx="74520" cy="56880"/>
            </a:xfrm>
          </p:grpSpPr>
          <p:sp>
            <p:nvSpPr>
              <p:cNvPr id="279" name="Freeform 25"/>
              <p:cNvSpPr/>
              <p:nvPr/>
            </p:nvSpPr>
            <p:spPr>
              <a:xfrm>
                <a:off x="1581120" y="5951520"/>
                <a:ext cx="74520" cy="5688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5" y="12"/>
                    </a:moveTo>
                    <a:lnTo>
                      <a:pt x="32" y="6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3"/>
                    </a:lnTo>
                    <a:lnTo>
                      <a:pt x="20" y="24"/>
                    </a:lnTo>
                    <a:lnTo>
                      <a:pt x="26" y="22"/>
                    </a:lnTo>
                    <a:lnTo>
                      <a:pt x="32" y="18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1581120" y="5951520"/>
                <a:ext cx="74520" cy="5688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5" y="12"/>
                    </a:moveTo>
                    <a:lnTo>
                      <a:pt x="32" y="6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3"/>
                    </a:lnTo>
                    <a:lnTo>
                      <a:pt x="20" y="24"/>
                    </a:lnTo>
                    <a:lnTo>
                      <a:pt x="26" y="22"/>
                    </a:lnTo>
                    <a:lnTo>
                      <a:pt x="32" y="18"/>
                    </a:lnTo>
                    <a:lnTo>
                      <a:pt x="35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7"/>
            <p:cNvGrpSpPr/>
            <p:nvPr/>
          </p:nvGrpSpPr>
          <p:grpSpPr>
            <a:xfrm>
              <a:off x="1289520" y="5951520"/>
              <a:ext cx="70560" cy="56880"/>
              <a:chOff x="1289520" y="5951520"/>
              <a:chExt cx="70560" cy="56880"/>
            </a:xfrm>
          </p:grpSpPr>
          <p:sp>
            <p:nvSpPr>
              <p:cNvPr id="282" name="Freeform 28"/>
              <p:cNvSpPr/>
              <p:nvPr/>
            </p:nvSpPr>
            <p:spPr>
              <a:xfrm>
                <a:off x="1289520" y="5951520"/>
                <a:ext cx="70560" cy="5688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12"/>
                    </a:moveTo>
                    <a:lnTo>
                      <a:pt x="31" y="6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3"/>
                    </a:lnTo>
                    <a:lnTo>
                      <a:pt x="19" y="24"/>
                    </a:lnTo>
                    <a:lnTo>
                      <a:pt x="27" y="22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283" name="Freeform 29"/>
              <p:cNvSpPr/>
              <p:nvPr/>
            </p:nvSpPr>
            <p:spPr>
              <a:xfrm>
                <a:off x="1289520" y="5951520"/>
                <a:ext cx="70560" cy="5688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12"/>
                    </a:moveTo>
                    <a:lnTo>
                      <a:pt x="31" y="6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3"/>
                    </a:lnTo>
                    <a:lnTo>
                      <a:pt x="19" y="24"/>
                    </a:lnTo>
                    <a:lnTo>
                      <a:pt x="27" y="22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0"/>
            <p:cNvGrpSpPr/>
            <p:nvPr/>
          </p:nvGrpSpPr>
          <p:grpSpPr>
            <a:xfrm>
              <a:off x="1726920" y="6066360"/>
              <a:ext cx="69840" cy="59040"/>
              <a:chOff x="1726920" y="6066360"/>
              <a:chExt cx="69840" cy="59040"/>
            </a:xfrm>
          </p:grpSpPr>
          <p:sp>
            <p:nvSpPr>
              <p:cNvPr id="285" name="Freeform 31"/>
              <p:cNvSpPr/>
              <p:nvPr/>
            </p:nvSpPr>
            <p:spPr>
              <a:xfrm>
                <a:off x="1726920" y="6066360"/>
                <a:ext cx="69840" cy="5904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33" y="12"/>
                    </a:moveTo>
                    <a:lnTo>
                      <a:pt x="31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4"/>
                    </a:lnTo>
                    <a:lnTo>
                      <a:pt x="19" y="25"/>
                    </a:lnTo>
                    <a:lnTo>
                      <a:pt x="27" y="23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286" name="Freeform 32"/>
              <p:cNvSpPr/>
              <p:nvPr/>
            </p:nvSpPr>
            <p:spPr>
              <a:xfrm>
                <a:off x="1726920" y="6066360"/>
                <a:ext cx="69840" cy="5904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33" y="12"/>
                    </a:moveTo>
                    <a:lnTo>
                      <a:pt x="31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4"/>
                    </a:lnTo>
                    <a:lnTo>
                      <a:pt x="19" y="25"/>
                    </a:lnTo>
                    <a:lnTo>
                      <a:pt x="27" y="23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3"/>
            <p:cNvGrpSpPr/>
            <p:nvPr/>
          </p:nvGrpSpPr>
          <p:grpSpPr>
            <a:xfrm>
              <a:off x="1437840" y="6066360"/>
              <a:ext cx="68040" cy="59040"/>
              <a:chOff x="1437840" y="6066360"/>
              <a:chExt cx="68040" cy="59040"/>
            </a:xfrm>
          </p:grpSpPr>
          <p:sp>
            <p:nvSpPr>
              <p:cNvPr id="288" name="Freeform 34"/>
              <p:cNvSpPr/>
              <p:nvPr/>
            </p:nvSpPr>
            <p:spPr>
              <a:xfrm>
                <a:off x="1437840" y="6066360"/>
                <a:ext cx="68040" cy="5904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2" y="12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4"/>
                    </a:lnTo>
                    <a:lnTo>
                      <a:pt x="18" y="25"/>
                    </a:lnTo>
                    <a:lnTo>
                      <a:pt x="26" y="23"/>
                    </a:lnTo>
                    <a:lnTo>
                      <a:pt x="31" y="18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289" name="Freeform 35"/>
              <p:cNvSpPr/>
              <p:nvPr/>
            </p:nvSpPr>
            <p:spPr>
              <a:xfrm>
                <a:off x="1437840" y="6066360"/>
                <a:ext cx="68040" cy="5904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2" y="12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4"/>
                    </a:lnTo>
                    <a:lnTo>
                      <a:pt x="18" y="25"/>
                    </a:lnTo>
                    <a:lnTo>
                      <a:pt x="26" y="23"/>
                    </a:lnTo>
                    <a:lnTo>
                      <a:pt x="31" y="18"/>
                    </a:lnTo>
                    <a:lnTo>
                      <a:pt x="32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290" name="Freeform 36"/>
            <p:cNvSpPr/>
            <p:nvPr/>
          </p:nvSpPr>
          <p:spPr>
            <a:xfrm>
              <a:off x="1325880" y="5862960"/>
              <a:ext cx="291600" cy="232200"/>
            </a:xfrm>
            <a:custGeom>
              <a:avLst/>
              <a:gdLst/>
              <a:ahLst/>
              <a:rect l="l" t="t" r="r" b="b"/>
              <a:pathLst>
                <a:path w="136" h="97">
                  <a:moveTo>
                    <a:pt x="68" y="97"/>
                  </a:moveTo>
                  <a:lnTo>
                    <a:pt x="136" y="49"/>
                  </a:lnTo>
                  <a:lnTo>
                    <a:pt x="68" y="0"/>
                  </a:lnTo>
                  <a:lnTo>
                    <a:pt x="0" y="49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291" name="Line 37"/>
            <p:cNvSpPr/>
            <p:nvPr/>
          </p:nvSpPr>
          <p:spPr>
            <a:xfrm flipH="1" flipV="1">
              <a:off x="1613160" y="5977440"/>
              <a:ext cx="147600" cy="1170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292" name="Group 38"/>
          <p:cNvGrpSpPr/>
          <p:nvPr/>
        </p:nvGrpSpPr>
        <p:grpSpPr>
          <a:xfrm>
            <a:off x="7164360" y="5607000"/>
            <a:ext cx="1080720" cy="792000"/>
            <a:chOff x="7164360" y="5607000"/>
            <a:chExt cx="1080720" cy="792000"/>
          </a:xfrm>
        </p:grpSpPr>
        <p:pic>
          <p:nvPicPr>
            <p:cNvPr id="293" name="Picture 39" descr=""/>
            <p:cNvPicPr/>
            <p:nvPr/>
          </p:nvPicPr>
          <p:blipFill>
            <a:blip r:embed="rId3"/>
            <a:stretch/>
          </p:blipFill>
          <p:spPr>
            <a:xfrm>
              <a:off x="7164360" y="5607000"/>
              <a:ext cx="1080720" cy="79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Group 40"/>
            <p:cNvGrpSpPr/>
            <p:nvPr/>
          </p:nvGrpSpPr>
          <p:grpSpPr>
            <a:xfrm>
              <a:off x="7486200" y="5836320"/>
              <a:ext cx="68040" cy="54720"/>
              <a:chOff x="7486200" y="5836320"/>
              <a:chExt cx="68040" cy="54720"/>
            </a:xfrm>
          </p:grpSpPr>
          <p:sp>
            <p:nvSpPr>
              <p:cNvPr id="295" name="Freeform 41"/>
              <p:cNvSpPr/>
              <p:nvPr/>
            </p:nvSpPr>
            <p:spPr>
              <a:xfrm>
                <a:off x="7486200" y="5836320"/>
                <a:ext cx="68040" cy="54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11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10" y="23"/>
                    </a:lnTo>
                    <a:lnTo>
                      <a:pt x="18" y="23"/>
                    </a:lnTo>
                    <a:lnTo>
                      <a:pt x="26" y="21"/>
                    </a:lnTo>
                    <a:lnTo>
                      <a:pt x="31" y="18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296" name="Freeform 42"/>
              <p:cNvSpPr/>
              <p:nvPr/>
            </p:nvSpPr>
            <p:spPr>
              <a:xfrm>
                <a:off x="7486200" y="5836320"/>
                <a:ext cx="68040" cy="54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11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10" y="23"/>
                    </a:lnTo>
                    <a:lnTo>
                      <a:pt x="18" y="23"/>
                    </a:lnTo>
                    <a:lnTo>
                      <a:pt x="26" y="21"/>
                    </a:lnTo>
                    <a:lnTo>
                      <a:pt x="31" y="18"/>
                    </a:lnTo>
                    <a:lnTo>
                      <a:pt x="32" y="11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43"/>
            <p:cNvGrpSpPr/>
            <p:nvPr/>
          </p:nvGrpSpPr>
          <p:grpSpPr>
            <a:xfrm>
              <a:off x="7629480" y="5951520"/>
              <a:ext cx="74520" cy="56880"/>
              <a:chOff x="7629480" y="5951520"/>
              <a:chExt cx="74520" cy="56880"/>
            </a:xfrm>
          </p:grpSpPr>
          <p:sp>
            <p:nvSpPr>
              <p:cNvPr id="298" name="Freeform 44"/>
              <p:cNvSpPr/>
              <p:nvPr/>
            </p:nvSpPr>
            <p:spPr>
              <a:xfrm>
                <a:off x="7629480" y="5951520"/>
                <a:ext cx="74520" cy="5688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5" y="12"/>
                    </a:moveTo>
                    <a:lnTo>
                      <a:pt x="32" y="6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3"/>
                    </a:lnTo>
                    <a:lnTo>
                      <a:pt x="20" y="24"/>
                    </a:lnTo>
                    <a:lnTo>
                      <a:pt x="26" y="22"/>
                    </a:lnTo>
                    <a:lnTo>
                      <a:pt x="32" y="18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299" name="Freeform 45"/>
              <p:cNvSpPr/>
              <p:nvPr/>
            </p:nvSpPr>
            <p:spPr>
              <a:xfrm>
                <a:off x="7629480" y="5951520"/>
                <a:ext cx="74520" cy="5688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5" y="12"/>
                    </a:moveTo>
                    <a:lnTo>
                      <a:pt x="32" y="6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3"/>
                    </a:lnTo>
                    <a:lnTo>
                      <a:pt x="20" y="24"/>
                    </a:lnTo>
                    <a:lnTo>
                      <a:pt x="26" y="22"/>
                    </a:lnTo>
                    <a:lnTo>
                      <a:pt x="32" y="18"/>
                    </a:lnTo>
                    <a:lnTo>
                      <a:pt x="35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46"/>
            <p:cNvGrpSpPr/>
            <p:nvPr/>
          </p:nvGrpSpPr>
          <p:grpSpPr>
            <a:xfrm>
              <a:off x="7337880" y="5951520"/>
              <a:ext cx="70560" cy="56880"/>
              <a:chOff x="7337880" y="5951520"/>
              <a:chExt cx="70560" cy="56880"/>
            </a:xfrm>
          </p:grpSpPr>
          <p:sp>
            <p:nvSpPr>
              <p:cNvPr id="301" name="Freeform 47"/>
              <p:cNvSpPr/>
              <p:nvPr/>
            </p:nvSpPr>
            <p:spPr>
              <a:xfrm>
                <a:off x="7337880" y="5951520"/>
                <a:ext cx="70560" cy="5688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12"/>
                    </a:moveTo>
                    <a:lnTo>
                      <a:pt x="31" y="6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3"/>
                    </a:lnTo>
                    <a:lnTo>
                      <a:pt x="19" y="24"/>
                    </a:lnTo>
                    <a:lnTo>
                      <a:pt x="27" y="22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302" name="Freeform 48"/>
              <p:cNvSpPr/>
              <p:nvPr/>
            </p:nvSpPr>
            <p:spPr>
              <a:xfrm>
                <a:off x="7337880" y="5951520"/>
                <a:ext cx="70560" cy="5688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12"/>
                    </a:moveTo>
                    <a:lnTo>
                      <a:pt x="31" y="6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3"/>
                    </a:lnTo>
                    <a:lnTo>
                      <a:pt x="19" y="24"/>
                    </a:lnTo>
                    <a:lnTo>
                      <a:pt x="27" y="22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49"/>
            <p:cNvGrpSpPr/>
            <p:nvPr/>
          </p:nvGrpSpPr>
          <p:grpSpPr>
            <a:xfrm>
              <a:off x="7775280" y="6066360"/>
              <a:ext cx="69840" cy="59040"/>
              <a:chOff x="7775280" y="6066360"/>
              <a:chExt cx="69840" cy="59040"/>
            </a:xfrm>
          </p:grpSpPr>
          <p:sp>
            <p:nvSpPr>
              <p:cNvPr id="304" name="Freeform 50"/>
              <p:cNvSpPr/>
              <p:nvPr/>
            </p:nvSpPr>
            <p:spPr>
              <a:xfrm>
                <a:off x="7775280" y="6066360"/>
                <a:ext cx="69840" cy="5904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33" y="12"/>
                    </a:moveTo>
                    <a:lnTo>
                      <a:pt x="31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4"/>
                    </a:lnTo>
                    <a:lnTo>
                      <a:pt x="19" y="25"/>
                    </a:lnTo>
                    <a:lnTo>
                      <a:pt x="27" y="23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305" name="Freeform 51"/>
              <p:cNvSpPr/>
              <p:nvPr/>
            </p:nvSpPr>
            <p:spPr>
              <a:xfrm>
                <a:off x="7775280" y="6066360"/>
                <a:ext cx="69840" cy="5904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33" y="12"/>
                    </a:moveTo>
                    <a:lnTo>
                      <a:pt x="31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4"/>
                    </a:lnTo>
                    <a:lnTo>
                      <a:pt x="19" y="25"/>
                    </a:lnTo>
                    <a:lnTo>
                      <a:pt x="27" y="23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52"/>
            <p:cNvGrpSpPr/>
            <p:nvPr/>
          </p:nvGrpSpPr>
          <p:grpSpPr>
            <a:xfrm>
              <a:off x="7486200" y="6066360"/>
              <a:ext cx="68040" cy="59040"/>
              <a:chOff x="7486200" y="6066360"/>
              <a:chExt cx="68040" cy="59040"/>
            </a:xfrm>
          </p:grpSpPr>
          <p:sp>
            <p:nvSpPr>
              <p:cNvPr id="307" name="Freeform 53"/>
              <p:cNvSpPr/>
              <p:nvPr/>
            </p:nvSpPr>
            <p:spPr>
              <a:xfrm>
                <a:off x="7486200" y="6066360"/>
                <a:ext cx="68040" cy="5904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2" y="12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4"/>
                    </a:lnTo>
                    <a:lnTo>
                      <a:pt x="18" y="25"/>
                    </a:lnTo>
                    <a:lnTo>
                      <a:pt x="26" y="23"/>
                    </a:lnTo>
                    <a:lnTo>
                      <a:pt x="31" y="18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308" name="Freeform 54"/>
              <p:cNvSpPr/>
              <p:nvPr/>
            </p:nvSpPr>
            <p:spPr>
              <a:xfrm>
                <a:off x="7486200" y="6066360"/>
                <a:ext cx="68040" cy="5904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2" y="12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4"/>
                    </a:lnTo>
                    <a:lnTo>
                      <a:pt x="18" y="25"/>
                    </a:lnTo>
                    <a:lnTo>
                      <a:pt x="26" y="23"/>
                    </a:lnTo>
                    <a:lnTo>
                      <a:pt x="31" y="18"/>
                    </a:lnTo>
                    <a:lnTo>
                      <a:pt x="32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309" name="Freeform 55"/>
            <p:cNvSpPr/>
            <p:nvPr/>
          </p:nvSpPr>
          <p:spPr>
            <a:xfrm>
              <a:off x="7374240" y="5862960"/>
              <a:ext cx="291600" cy="232200"/>
            </a:xfrm>
            <a:custGeom>
              <a:avLst/>
              <a:gdLst/>
              <a:ahLst/>
              <a:rect l="l" t="t" r="r" b="b"/>
              <a:pathLst>
                <a:path w="136" h="97">
                  <a:moveTo>
                    <a:pt x="68" y="97"/>
                  </a:moveTo>
                  <a:lnTo>
                    <a:pt x="136" y="49"/>
                  </a:lnTo>
                  <a:lnTo>
                    <a:pt x="68" y="0"/>
                  </a:lnTo>
                  <a:lnTo>
                    <a:pt x="0" y="49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10" name="Line 56"/>
            <p:cNvSpPr/>
            <p:nvPr/>
          </p:nvSpPr>
          <p:spPr>
            <a:xfrm flipH="1" flipV="1">
              <a:off x="7661520" y="5977440"/>
              <a:ext cx="147600" cy="1170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311" name="AutoShape 57"/>
          <p:cNvSpPr/>
          <p:nvPr/>
        </p:nvSpPr>
        <p:spPr>
          <a:xfrm>
            <a:off x="6084720" y="4959360"/>
            <a:ext cx="719280" cy="79056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627280" y="5030640"/>
            <a:ext cx="720720" cy="79056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DIF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13" name="Text Box 59"/>
          <p:cNvSpPr/>
          <p:nvPr/>
        </p:nvSpPr>
        <p:spPr>
          <a:xfrm>
            <a:off x="1978920" y="589608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Etablissements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14" name="Text Box 60"/>
          <p:cNvSpPr/>
          <p:nvPr/>
        </p:nvSpPr>
        <p:spPr>
          <a:xfrm>
            <a:off x="5089320" y="589608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ENT 2</a:t>
            </a:r>
            <a:r>
              <a:rPr b="1" lang="fr-FR" sz="2000" spc="-1" strike="noStrike" baseline="30000">
                <a:solidFill>
                  <a:srgbClr val="000099"/>
                </a:solidFill>
                <a:latin typeface="Arial"/>
              </a:rPr>
              <a:t>nd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degré</a:t>
            </a:r>
            <a:endParaRPr b="0" lang="en-US" sz="2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15" name="AutoShape 61"/>
          <p:cNvSpPr/>
          <p:nvPr/>
        </p:nvSpPr>
        <p:spPr>
          <a:xfrm rot="10800000">
            <a:off x="5795640" y="2871720"/>
            <a:ext cx="1079640" cy="287280"/>
          </a:xfrm>
          <a:prstGeom prst="rightArrow">
            <a:avLst>
              <a:gd name="adj1" fmla="val 50000"/>
              <a:gd name="adj2" fmla="val 939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16" name="Rectangle 62"/>
          <p:cNvSpPr/>
          <p:nvPr/>
        </p:nvSpPr>
        <p:spPr>
          <a:xfrm>
            <a:off x="7653240" y="247680"/>
            <a:ext cx="1490760" cy="13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5B70-DB4F-4C91-AAB1-21E0952B845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énérations d’extractions 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Text Box 3"/>
          <p:cNvSpPr/>
          <p:nvPr/>
        </p:nvSpPr>
        <p:spPr>
          <a:xfrm>
            <a:off x="233280" y="1500120"/>
            <a:ext cx="86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spcBef>
                <a:spcPts val="876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emple : n = 5 jours = nombre de jours (glissants) pendant lesquels un objet modifié/créé/supprimé est répété dans les fichiers deltas (Dans tous les cas, les fichiers deltas sont extraits tous les jours)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23" name="Text Box 4"/>
          <p:cNvSpPr/>
          <p:nvPr/>
        </p:nvSpPr>
        <p:spPr>
          <a:xfrm>
            <a:off x="349200" y="5221440"/>
            <a:ext cx="8396280" cy="1168920"/>
          </a:xfrm>
          <a:prstGeom prst="rect">
            <a:avLst/>
          </a:prstGeom>
          <a:noFill/>
          <a:ln w="19080">
            <a:solidFill>
              <a:srgbClr val="cd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s modifications/créations/suppressions sont répétées dans les fichiers de delta xml pendant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 jours.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b0a20"/>
                </a:solidFill>
                <a:latin typeface="Arial Unicode MS"/>
              </a:rPr>
              <a:t>Tous les attributs des personnes sont renseignés dans le fichier avec leur valeur au jour de l'extraction.</a:t>
            </a:r>
            <a:r>
              <a:rPr b="1" lang="fr-FR" sz="1400" spc="-1" strike="noStrike">
                <a:solidFill>
                  <a:srgbClr val="cb0a2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774720" y="2724120"/>
            <a:ext cx="7545240" cy="2203560"/>
            <a:chOff x="774720" y="2724120"/>
            <a:chExt cx="7545240" cy="2203560"/>
          </a:xfrm>
        </p:grpSpPr>
        <p:grpSp>
          <p:nvGrpSpPr>
            <p:cNvPr id="1525" name="Group 6"/>
            <p:cNvGrpSpPr/>
            <p:nvPr/>
          </p:nvGrpSpPr>
          <p:grpSpPr>
            <a:xfrm>
              <a:off x="1592280" y="2739960"/>
              <a:ext cx="650880" cy="914400"/>
              <a:chOff x="1592280" y="2739960"/>
              <a:chExt cx="650880" cy="914400"/>
            </a:xfrm>
          </p:grpSpPr>
          <p:sp>
            <p:nvSpPr>
              <p:cNvPr id="1526" name="AutoShape 7"/>
              <p:cNvSpPr/>
              <p:nvPr/>
            </p:nvSpPr>
            <p:spPr>
              <a:xfrm>
                <a:off x="1592280" y="273996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527" name="Text Box 8"/>
              <p:cNvSpPr/>
              <p:nvPr/>
            </p:nvSpPr>
            <p:spPr>
              <a:xfrm>
                <a:off x="1597320" y="342108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1528" name="Group 9"/>
            <p:cNvGrpSpPr/>
            <p:nvPr/>
          </p:nvGrpSpPr>
          <p:grpSpPr>
            <a:xfrm>
              <a:off x="2324160" y="2738520"/>
              <a:ext cx="650880" cy="914400"/>
              <a:chOff x="2324160" y="2738520"/>
              <a:chExt cx="650880" cy="914400"/>
            </a:xfrm>
          </p:grpSpPr>
          <p:sp>
            <p:nvSpPr>
              <p:cNvPr id="1529" name="AutoShape 10"/>
              <p:cNvSpPr/>
              <p:nvPr/>
            </p:nvSpPr>
            <p:spPr>
              <a:xfrm>
                <a:off x="2324160" y="27385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530" name="Text Box 11"/>
              <p:cNvSpPr/>
              <p:nvPr/>
            </p:nvSpPr>
            <p:spPr>
              <a:xfrm>
                <a:off x="2329200" y="34196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1531" name="Group 12"/>
            <p:cNvGrpSpPr/>
            <p:nvPr/>
          </p:nvGrpSpPr>
          <p:grpSpPr>
            <a:xfrm>
              <a:off x="3063960" y="2733840"/>
              <a:ext cx="650880" cy="914400"/>
              <a:chOff x="3063960" y="2733840"/>
              <a:chExt cx="650880" cy="914400"/>
            </a:xfrm>
          </p:grpSpPr>
          <p:sp>
            <p:nvSpPr>
              <p:cNvPr id="1532" name="AutoShape 13"/>
              <p:cNvSpPr/>
              <p:nvPr/>
            </p:nvSpPr>
            <p:spPr>
              <a:xfrm>
                <a:off x="3063960" y="273384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533" name="Text Box 14"/>
              <p:cNvSpPr/>
              <p:nvPr/>
            </p:nvSpPr>
            <p:spPr>
              <a:xfrm>
                <a:off x="3069000" y="341496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1534" name="Group 15"/>
            <p:cNvGrpSpPr/>
            <p:nvPr/>
          </p:nvGrpSpPr>
          <p:grpSpPr>
            <a:xfrm>
              <a:off x="3809880" y="2738520"/>
              <a:ext cx="650880" cy="914400"/>
              <a:chOff x="3809880" y="2738520"/>
              <a:chExt cx="650880" cy="914400"/>
            </a:xfrm>
          </p:grpSpPr>
          <p:sp>
            <p:nvSpPr>
              <p:cNvPr id="1535" name="AutoShape 16"/>
              <p:cNvSpPr/>
              <p:nvPr/>
            </p:nvSpPr>
            <p:spPr>
              <a:xfrm>
                <a:off x="3809880" y="27385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536" name="Text Box 17"/>
              <p:cNvSpPr/>
              <p:nvPr/>
            </p:nvSpPr>
            <p:spPr>
              <a:xfrm>
                <a:off x="3814920" y="34196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18"/>
            <p:cNvGrpSpPr/>
            <p:nvPr/>
          </p:nvGrpSpPr>
          <p:grpSpPr>
            <a:xfrm>
              <a:off x="4572000" y="2738520"/>
              <a:ext cx="650880" cy="914400"/>
              <a:chOff x="4572000" y="2738520"/>
              <a:chExt cx="650880" cy="914400"/>
            </a:xfrm>
          </p:grpSpPr>
          <p:sp>
            <p:nvSpPr>
              <p:cNvPr id="1538" name="AutoShape 19"/>
              <p:cNvSpPr/>
              <p:nvPr/>
            </p:nvSpPr>
            <p:spPr>
              <a:xfrm>
                <a:off x="4572000" y="27385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539" name="Text Box 20"/>
              <p:cNvSpPr/>
              <p:nvPr/>
            </p:nvSpPr>
            <p:spPr>
              <a:xfrm>
                <a:off x="4577040" y="34196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1540" name="Group 21"/>
            <p:cNvGrpSpPr/>
            <p:nvPr/>
          </p:nvGrpSpPr>
          <p:grpSpPr>
            <a:xfrm>
              <a:off x="5349960" y="2738520"/>
              <a:ext cx="650880" cy="914400"/>
              <a:chOff x="5349960" y="2738520"/>
              <a:chExt cx="650880" cy="914400"/>
            </a:xfrm>
          </p:grpSpPr>
          <p:sp>
            <p:nvSpPr>
              <p:cNvPr id="1541" name="AutoShape 22"/>
              <p:cNvSpPr/>
              <p:nvPr/>
            </p:nvSpPr>
            <p:spPr>
              <a:xfrm>
                <a:off x="5349960" y="27385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542" name="Text Box 23"/>
              <p:cNvSpPr/>
              <p:nvPr/>
            </p:nvSpPr>
            <p:spPr>
              <a:xfrm>
                <a:off x="5355000" y="34196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1543" name="Group 24"/>
            <p:cNvGrpSpPr/>
            <p:nvPr/>
          </p:nvGrpSpPr>
          <p:grpSpPr>
            <a:xfrm>
              <a:off x="6105600" y="2736720"/>
              <a:ext cx="650880" cy="914400"/>
              <a:chOff x="6105600" y="2736720"/>
              <a:chExt cx="650880" cy="914400"/>
            </a:xfrm>
          </p:grpSpPr>
          <p:sp>
            <p:nvSpPr>
              <p:cNvPr id="1544" name="AutoShape 25"/>
              <p:cNvSpPr/>
              <p:nvPr/>
            </p:nvSpPr>
            <p:spPr>
              <a:xfrm>
                <a:off x="6105600" y="27367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545" name="Text Box 26"/>
              <p:cNvSpPr/>
              <p:nvPr/>
            </p:nvSpPr>
            <p:spPr>
              <a:xfrm>
                <a:off x="6110640" y="34178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546" name="Text Box 27"/>
            <p:cNvSpPr/>
            <p:nvPr/>
          </p:nvSpPr>
          <p:spPr>
            <a:xfrm>
              <a:off x="2238480" y="2755800"/>
              <a:ext cx="86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ve – 4e D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47" name="Text Box 28"/>
            <p:cNvSpPr/>
            <p:nvPr/>
          </p:nvSpPr>
          <p:spPr>
            <a:xfrm>
              <a:off x="2984400" y="2746440"/>
              <a:ext cx="86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ve – 4e D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48" name="Text Box 29"/>
            <p:cNvSpPr/>
            <p:nvPr/>
          </p:nvSpPr>
          <p:spPr>
            <a:xfrm>
              <a:off x="3741840" y="2746440"/>
              <a:ext cx="860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ve – 4e D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option Latin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49" name="Text Box 30"/>
            <p:cNvSpPr/>
            <p:nvPr/>
          </p:nvSpPr>
          <p:spPr>
            <a:xfrm>
              <a:off x="4498920" y="2727360"/>
              <a:ext cx="860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ve – 4e D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option Latin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50" name="Text Box 31"/>
            <p:cNvSpPr/>
            <p:nvPr/>
          </p:nvSpPr>
          <p:spPr>
            <a:xfrm>
              <a:off x="5276880" y="2746440"/>
              <a:ext cx="860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ve – 4e D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option Latin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1551" name="Group 32"/>
            <p:cNvGrpSpPr/>
            <p:nvPr/>
          </p:nvGrpSpPr>
          <p:grpSpPr>
            <a:xfrm>
              <a:off x="6892920" y="2736720"/>
              <a:ext cx="650880" cy="914400"/>
              <a:chOff x="6892920" y="2736720"/>
              <a:chExt cx="650880" cy="914400"/>
            </a:xfrm>
          </p:grpSpPr>
          <p:sp>
            <p:nvSpPr>
              <p:cNvPr id="1552" name="AutoShape 33"/>
              <p:cNvSpPr/>
              <p:nvPr/>
            </p:nvSpPr>
            <p:spPr>
              <a:xfrm>
                <a:off x="6892920" y="27367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553" name="Text Box 34"/>
              <p:cNvSpPr/>
              <p:nvPr/>
            </p:nvSpPr>
            <p:spPr>
              <a:xfrm>
                <a:off x="6897960" y="34178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554" name="Text Box 35"/>
            <p:cNvSpPr/>
            <p:nvPr/>
          </p:nvSpPr>
          <p:spPr>
            <a:xfrm>
              <a:off x="6026040" y="2730600"/>
              <a:ext cx="860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ve – 4e D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option Latin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55" name="Text Box 36"/>
            <p:cNvSpPr/>
            <p:nvPr/>
          </p:nvSpPr>
          <p:spPr>
            <a:xfrm>
              <a:off x="6813720" y="2733840"/>
              <a:ext cx="860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odify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ve – 4e D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option Latin</a:t>
              </a:r>
              <a:endParaRPr b="0" lang="en-US" sz="10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1556" name="Group 37"/>
            <p:cNvGrpSpPr/>
            <p:nvPr/>
          </p:nvGrpSpPr>
          <p:grpSpPr>
            <a:xfrm>
              <a:off x="7669080" y="2724120"/>
              <a:ext cx="650880" cy="914400"/>
              <a:chOff x="7669080" y="2724120"/>
              <a:chExt cx="650880" cy="914400"/>
            </a:xfrm>
          </p:grpSpPr>
          <p:sp>
            <p:nvSpPr>
              <p:cNvPr id="1557" name="AutoShape 38"/>
              <p:cNvSpPr/>
              <p:nvPr/>
            </p:nvSpPr>
            <p:spPr>
              <a:xfrm>
                <a:off x="7669080" y="2724120"/>
                <a:ext cx="65088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558" name="Text Box 39"/>
              <p:cNvSpPr/>
              <p:nvPr/>
            </p:nvSpPr>
            <p:spPr>
              <a:xfrm>
                <a:off x="7674120" y="3405240"/>
                <a:ext cx="60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9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1559" name="Line 40"/>
            <p:cNvSpPr/>
            <p:nvPr/>
          </p:nvSpPr>
          <p:spPr>
            <a:xfrm flipV="1">
              <a:off x="2127240" y="3649680"/>
              <a:ext cx="51120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60" name="Line 41"/>
            <p:cNvSpPr/>
            <p:nvPr/>
          </p:nvSpPr>
          <p:spPr>
            <a:xfrm flipV="1">
              <a:off x="3589200" y="3633840"/>
              <a:ext cx="50328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61" name="Text Box 42"/>
            <p:cNvSpPr/>
            <p:nvPr/>
          </p:nvSpPr>
          <p:spPr>
            <a:xfrm>
              <a:off x="774720" y="4648320"/>
              <a:ext cx="193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Ève change de classe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62" name="Text Box 43"/>
            <p:cNvSpPr/>
            <p:nvPr/>
          </p:nvSpPr>
          <p:spPr>
            <a:xfrm>
              <a:off x="2652840" y="4651200"/>
              <a:ext cx="260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Ève a une option supplémentaire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63" name="Line 44"/>
            <p:cNvSpPr/>
            <p:nvPr/>
          </p:nvSpPr>
          <p:spPr>
            <a:xfrm>
              <a:off x="858960" y="4648320"/>
              <a:ext cx="14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64" name="Line 45"/>
            <p:cNvSpPr/>
            <p:nvPr/>
          </p:nvSpPr>
          <p:spPr>
            <a:xfrm>
              <a:off x="2886120" y="4660920"/>
              <a:ext cx="14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65" name="Text Box 46"/>
            <p:cNvSpPr/>
            <p:nvPr/>
          </p:nvSpPr>
          <p:spPr>
            <a:xfrm>
              <a:off x="4133880" y="3838680"/>
              <a:ext cx="413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cb0a20"/>
                  </a:solidFill>
                  <a:latin typeface="Arial"/>
                </a:rPr>
                <a:t>La fiche entière de l’élève est modifiée avec les données au jour de l’extraction du delta</a:t>
              </a:r>
              <a:endParaRPr b="0" lang="en-US" sz="14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566" name="AutoShape 47"/>
          <p:cNvSpPr/>
          <p:nvPr/>
        </p:nvSpPr>
        <p:spPr>
          <a:xfrm>
            <a:off x="5460840" y="2143080"/>
            <a:ext cx="339840" cy="2923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67" name="AutoShape 48"/>
          <p:cNvSpPr/>
          <p:nvPr/>
        </p:nvSpPr>
        <p:spPr>
          <a:xfrm>
            <a:off x="5322960" y="2143080"/>
            <a:ext cx="328680" cy="2923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68" name="AutoShape 49"/>
          <p:cNvSpPr/>
          <p:nvPr/>
        </p:nvSpPr>
        <p:spPr>
          <a:xfrm>
            <a:off x="5148360" y="2143080"/>
            <a:ext cx="328680" cy="2923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69" name="AutoShape 50"/>
          <p:cNvSpPr/>
          <p:nvPr/>
        </p:nvSpPr>
        <p:spPr>
          <a:xfrm>
            <a:off x="4983120" y="2143080"/>
            <a:ext cx="328680" cy="2923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70" name="AutoShape 51"/>
          <p:cNvSpPr/>
          <p:nvPr/>
        </p:nvSpPr>
        <p:spPr>
          <a:xfrm>
            <a:off x="4827600" y="2143080"/>
            <a:ext cx="328680" cy="2923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71" name="AutoShape 52"/>
          <p:cNvSpPr/>
          <p:nvPr/>
        </p:nvSpPr>
        <p:spPr>
          <a:xfrm>
            <a:off x="4662360" y="2143080"/>
            <a:ext cx="328680" cy="2923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72" name="AutoShape 53"/>
          <p:cNvSpPr/>
          <p:nvPr/>
        </p:nvSpPr>
        <p:spPr>
          <a:xfrm>
            <a:off x="4518000" y="2143080"/>
            <a:ext cx="328680" cy="29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73" name="AutoShape 54"/>
          <p:cNvSpPr/>
          <p:nvPr/>
        </p:nvSpPr>
        <p:spPr>
          <a:xfrm>
            <a:off x="4356000" y="2143080"/>
            <a:ext cx="328680" cy="29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74" name="AutoShape 55"/>
          <p:cNvSpPr/>
          <p:nvPr/>
        </p:nvSpPr>
        <p:spPr>
          <a:xfrm>
            <a:off x="4203720" y="2143080"/>
            <a:ext cx="328680" cy="2923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75" name="Text Box 56"/>
          <p:cNvSpPr/>
          <p:nvPr/>
        </p:nvSpPr>
        <p:spPr>
          <a:xfrm>
            <a:off x="2625840" y="208908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uair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7108-C82C-457B-9A45-49B54E882CDF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77" name="Rectangle 87"/>
          <p:cNvSpPr/>
          <p:nvPr/>
        </p:nvSpPr>
        <p:spPr>
          <a:xfrm>
            <a:off x="1317600" y="6656400"/>
            <a:ext cx="727560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incipe de génération des fichiers de de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Text Box 3"/>
          <p:cNvSpPr/>
          <p:nvPr/>
        </p:nvSpPr>
        <p:spPr>
          <a:xfrm>
            <a:off x="233280" y="1500120"/>
            <a:ext cx="86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4040">
              <a:spcBef>
                <a:spcPts val="876"/>
              </a:spcBef>
              <a:buClr>
                <a:srgbClr val="9bba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emple : n = 5 jours = nombre de jours (glissants) pendant lesquels un objet modifié/créé/supprimé est répété dans les fichiers deltas (Dans tous les cas, les fichiers deltas sont extraits tous les jours)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580" name="Group 4"/>
          <p:cNvGrpSpPr/>
          <p:nvPr/>
        </p:nvGrpSpPr>
        <p:grpSpPr>
          <a:xfrm>
            <a:off x="1592280" y="5811840"/>
            <a:ext cx="650880" cy="914400"/>
            <a:chOff x="1592280" y="5811840"/>
            <a:chExt cx="650880" cy="914400"/>
          </a:xfrm>
        </p:grpSpPr>
        <p:sp>
          <p:nvSpPr>
            <p:cNvPr id="1581" name="AutoShape 5"/>
            <p:cNvSpPr/>
            <p:nvPr/>
          </p:nvSpPr>
          <p:spPr>
            <a:xfrm>
              <a:off x="1592280" y="581184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82" name="Text Box 6"/>
            <p:cNvSpPr/>
            <p:nvPr/>
          </p:nvSpPr>
          <p:spPr>
            <a:xfrm>
              <a:off x="1597320" y="649296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583" name="Group 7"/>
          <p:cNvGrpSpPr/>
          <p:nvPr/>
        </p:nvGrpSpPr>
        <p:grpSpPr>
          <a:xfrm>
            <a:off x="2324160" y="5810400"/>
            <a:ext cx="650880" cy="914400"/>
            <a:chOff x="2324160" y="5810400"/>
            <a:chExt cx="650880" cy="914400"/>
          </a:xfrm>
        </p:grpSpPr>
        <p:sp>
          <p:nvSpPr>
            <p:cNvPr id="1584" name="AutoShape 8"/>
            <p:cNvSpPr/>
            <p:nvPr/>
          </p:nvSpPr>
          <p:spPr>
            <a:xfrm>
              <a:off x="2324160" y="581040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85" name="Text Box 9"/>
            <p:cNvSpPr/>
            <p:nvPr/>
          </p:nvSpPr>
          <p:spPr>
            <a:xfrm>
              <a:off x="2329200" y="649152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586" name="Group 10"/>
          <p:cNvGrpSpPr/>
          <p:nvPr/>
        </p:nvGrpSpPr>
        <p:grpSpPr>
          <a:xfrm>
            <a:off x="3063960" y="5805360"/>
            <a:ext cx="650880" cy="914400"/>
            <a:chOff x="3063960" y="5805360"/>
            <a:chExt cx="650880" cy="914400"/>
          </a:xfrm>
        </p:grpSpPr>
        <p:sp>
          <p:nvSpPr>
            <p:cNvPr id="1587" name="AutoShape 11"/>
            <p:cNvSpPr/>
            <p:nvPr/>
          </p:nvSpPr>
          <p:spPr>
            <a:xfrm>
              <a:off x="3063960" y="580536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88" name="Text Box 12"/>
            <p:cNvSpPr/>
            <p:nvPr/>
          </p:nvSpPr>
          <p:spPr>
            <a:xfrm>
              <a:off x="3069000" y="648648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589" name="Group 13"/>
          <p:cNvGrpSpPr/>
          <p:nvPr/>
        </p:nvGrpSpPr>
        <p:grpSpPr>
          <a:xfrm>
            <a:off x="3809880" y="5810400"/>
            <a:ext cx="650880" cy="914400"/>
            <a:chOff x="3809880" y="5810400"/>
            <a:chExt cx="650880" cy="914400"/>
          </a:xfrm>
        </p:grpSpPr>
        <p:sp>
          <p:nvSpPr>
            <p:cNvPr id="1590" name="AutoShape 14"/>
            <p:cNvSpPr/>
            <p:nvPr/>
          </p:nvSpPr>
          <p:spPr>
            <a:xfrm>
              <a:off x="3809880" y="581040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91" name="Text Box 15"/>
            <p:cNvSpPr/>
            <p:nvPr/>
          </p:nvSpPr>
          <p:spPr>
            <a:xfrm>
              <a:off x="3814920" y="649152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592" name="Group 16"/>
          <p:cNvGrpSpPr/>
          <p:nvPr/>
        </p:nvGrpSpPr>
        <p:grpSpPr>
          <a:xfrm>
            <a:off x="4572000" y="5810400"/>
            <a:ext cx="650880" cy="914400"/>
            <a:chOff x="4572000" y="5810400"/>
            <a:chExt cx="650880" cy="914400"/>
          </a:xfrm>
        </p:grpSpPr>
        <p:sp>
          <p:nvSpPr>
            <p:cNvPr id="1593" name="AutoShape 17"/>
            <p:cNvSpPr/>
            <p:nvPr/>
          </p:nvSpPr>
          <p:spPr>
            <a:xfrm>
              <a:off x="4572000" y="581040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94" name="Text Box 18"/>
            <p:cNvSpPr/>
            <p:nvPr/>
          </p:nvSpPr>
          <p:spPr>
            <a:xfrm>
              <a:off x="4577040" y="649152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595" name="Group 19"/>
          <p:cNvGrpSpPr/>
          <p:nvPr/>
        </p:nvGrpSpPr>
        <p:grpSpPr>
          <a:xfrm>
            <a:off x="5349960" y="5810400"/>
            <a:ext cx="650880" cy="914400"/>
            <a:chOff x="5349960" y="5810400"/>
            <a:chExt cx="650880" cy="914400"/>
          </a:xfrm>
        </p:grpSpPr>
        <p:sp>
          <p:nvSpPr>
            <p:cNvPr id="1596" name="AutoShape 20"/>
            <p:cNvSpPr/>
            <p:nvPr/>
          </p:nvSpPr>
          <p:spPr>
            <a:xfrm>
              <a:off x="5349960" y="581040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597" name="Text Box 21"/>
            <p:cNvSpPr/>
            <p:nvPr/>
          </p:nvSpPr>
          <p:spPr>
            <a:xfrm>
              <a:off x="5355000" y="649152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598" name="Group 22"/>
          <p:cNvGrpSpPr/>
          <p:nvPr/>
        </p:nvGrpSpPr>
        <p:grpSpPr>
          <a:xfrm>
            <a:off x="6105600" y="5808600"/>
            <a:ext cx="650880" cy="914400"/>
            <a:chOff x="6105600" y="5808600"/>
            <a:chExt cx="650880" cy="914400"/>
          </a:xfrm>
        </p:grpSpPr>
        <p:sp>
          <p:nvSpPr>
            <p:cNvPr id="1599" name="AutoShape 23"/>
            <p:cNvSpPr/>
            <p:nvPr/>
          </p:nvSpPr>
          <p:spPr>
            <a:xfrm>
              <a:off x="6105600" y="580860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00" name="Text Box 24"/>
            <p:cNvSpPr/>
            <p:nvPr/>
          </p:nvSpPr>
          <p:spPr>
            <a:xfrm>
              <a:off x="6110640" y="648972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601" name="Text Box 25"/>
          <p:cNvSpPr/>
          <p:nvPr/>
        </p:nvSpPr>
        <p:spPr>
          <a:xfrm>
            <a:off x="2238480" y="582768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dif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02" name="Text Box 26"/>
          <p:cNvSpPr/>
          <p:nvPr/>
        </p:nvSpPr>
        <p:spPr>
          <a:xfrm>
            <a:off x="2984400" y="581832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dif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03" name="Text Box 27"/>
          <p:cNvSpPr/>
          <p:nvPr/>
        </p:nvSpPr>
        <p:spPr>
          <a:xfrm>
            <a:off x="3741840" y="5818320"/>
            <a:ext cx="860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dif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ption Latin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04" name="Text Box 28"/>
          <p:cNvSpPr/>
          <p:nvPr/>
        </p:nvSpPr>
        <p:spPr>
          <a:xfrm>
            <a:off x="4498920" y="5799240"/>
            <a:ext cx="860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dif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ption Latin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05" name="Text Box 29"/>
          <p:cNvSpPr/>
          <p:nvPr/>
        </p:nvSpPr>
        <p:spPr>
          <a:xfrm>
            <a:off x="5276880" y="5818320"/>
            <a:ext cx="860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dif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ption Latin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606" name="Group 30"/>
          <p:cNvGrpSpPr/>
          <p:nvPr/>
        </p:nvGrpSpPr>
        <p:grpSpPr>
          <a:xfrm>
            <a:off x="6892920" y="5808600"/>
            <a:ext cx="650880" cy="914400"/>
            <a:chOff x="6892920" y="5808600"/>
            <a:chExt cx="650880" cy="914400"/>
          </a:xfrm>
        </p:grpSpPr>
        <p:sp>
          <p:nvSpPr>
            <p:cNvPr id="1607" name="AutoShape 31"/>
            <p:cNvSpPr/>
            <p:nvPr/>
          </p:nvSpPr>
          <p:spPr>
            <a:xfrm>
              <a:off x="6892920" y="580860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08" name="Text Box 32"/>
            <p:cNvSpPr/>
            <p:nvPr/>
          </p:nvSpPr>
          <p:spPr>
            <a:xfrm>
              <a:off x="6897960" y="648972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609" name="Text Box 33"/>
          <p:cNvSpPr/>
          <p:nvPr/>
        </p:nvSpPr>
        <p:spPr>
          <a:xfrm>
            <a:off x="6026040" y="5802480"/>
            <a:ext cx="860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dif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ption Latin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10" name="Text Box 34"/>
          <p:cNvSpPr/>
          <p:nvPr/>
        </p:nvSpPr>
        <p:spPr>
          <a:xfrm>
            <a:off x="6813720" y="5805360"/>
            <a:ext cx="860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dify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e – 4e 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ption Latin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611" name="Group 35"/>
          <p:cNvGrpSpPr/>
          <p:nvPr/>
        </p:nvGrpSpPr>
        <p:grpSpPr>
          <a:xfrm>
            <a:off x="7669080" y="5796000"/>
            <a:ext cx="650880" cy="914400"/>
            <a:chOff x="7669080" y="5796000"/>
            <a:chExt cx="650880" cy="914400"/>
          </a:xfrm>
        </p:grpSpPr>
        <p:sp>
          <p:nvSpPr>
            <p:cNvPr id="1612" name="AutoShape 36"/>
            <p:cNvSpPr/>
            <p:nvPr/>
          </p:nvSpPr>
          <p:spPr>
            <a:xfrm>
              <a:off x="7669080" y="5796000"/>
              <a:ext cx="65088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13" name="Text Box 37"/>
            <p:cNvSpPr/>
            <p:nvPr/>
          </p:nvSpPr>
          <p:spPr>
            <a:xfrm>
              <a:off x="7674120" y="6477120"/>
              <a:ext cx="60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elta</a:t>
              </a:r>
              <a:endParaRPr b="0" lang="en-US" sz="9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614" name="Group 38"/>
          <p:cNvGrpSpPr/>
          <p:nvPr/>
        </p:nvGrpSpPr>
        <p:grpSpPr>
          <a:xfrm>
            <a:off x="689040" y="3506400"/>
            <a:ext cx="1938240" cy="906840"/>
            <a:chOff x="689040" y="3506400"/>
            <a:chExt cx="1938240" cy="906840"/>
          </a:xfrm>
        </p:grpSpPr>
        <p:sp>
          <p:nvSpPr>
            <p:cNvPr id="1615" name="Line 39"/>
            <p:cNvSpPr/>
            <p:nvPr/>
          </p:nvSpPr>
          <p:spPr>
            <a:xfrm flipV="1">
              <a:off x="2041560" y="3506400"/>
              <a:ext cx="51120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16" name="Text Box 40"/>
            <p:cNvSpPr/>
            <p:nvPr/>
          </p:nvSpPr>
          <p:spPr>
            <a:xfrm>
              <a:off x="689040" y="4136760"/>
              <a:ext cx="193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Ève change de classe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17" name="Line 41"/>
            <p:cNvSpPr/>
            <p:nvPr/>
          </p:nvSpPr>
          <p:spPr>
            <a:xfrm>
              <a:off x="773280" y="4135680"/>
              <a:ext cx="14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618" name="Group 42"/>
          <p:cNvGrpSpPr/>
          <p:nvPr/>
        </p:nvGrpSpPr>
        <p:grpSpPr>
          <a:xfrm>
            <a:off x="2651040" y="3490920"/>
            <a:ext cx="2600280" cy="905400"/>
            <a:chOff x="2651040" y="3490920"/>
            <a:chExt cx="2600280" cy="905400"/>
          </a:xfrm>
        </p:grpSpPr>
        <p:sp>
          <p:nvSpPr>
            <p:cNvPr id="1619" name="Line 43"/>
            <p:cNvSpPr/>
            <p:nvPr/>
          </p:nvSpPr>
          <p:spPr>
            <a:xfrm flipV="1">
              <a:off x="3587400" y="3490920"/>
              <a:ext cx="50328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20" name="Text Box 44"/>
            <p:cNvSpPr/>
            <p:nvPr/>
          </p:nvSpPr>
          <p:spPr>
            <a:xfrm>
              <a:off x="2651040" y="4119840"/>
              <a:ext cx="260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Ève a une option supplémentaire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21" name="Line 45"/>
            <p:cNvSpPr/>
            <p:nvPr/>
          </p:nvSpPr>
          <p:spPr>
            <a:xfrm>
              <a:off x="2884320" y="4124520"/>
              <a:ext cx="14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grpSp>
        <p:nvGrpSpPr>
          <p:cNvPr id="1622" name="Group 46"/>
          <p:cNvGrpSpPr/>
          <p:nvPr/>
        </p:nvGrpSpPr>
        <p:grpSpPr>
          <a:xfrm>
            <a:off x="1612800" y="2246400"/>
            <a:ext cx="6384960" cy="291960"/>
            <a:chOff x="1612800" y="2246400"/>
            <a:chExt cx="6384960" cy="291960"/>
          </a:xfrm>
        </p:grpSpPr>
        <p:sp>
          <p:nvSpPr>
            <p:cNvPr id="1623" name="AutoShape 47"/>
            <p:cNvSpPr/>
            <p:nvPr/>
          </p:nvSpPr>
          <p:spPr>
            <a:xfrm>
              <a:off x="5418000" y="2246400"/>
              <a:ext cx="339840" cy="29196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24" name="AutoShape 48"/>
            <p:cNvSpPr/>
            <p:nvPr/>
          </p:nvSpPr>
          <p:spPr>
            <a:xfrm>
              <a:off x="6151680" y="2246400"/>
              <a:ext cx="328320" cy="29196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25" name="AutoShape 49"/>
            <p:cNvSpPr/>
            <p:nvPr/>
          </p:nvSpPr>
          <p:spPr>
            <a:xfrm>
              <a:off x="6905520" y="224640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26" name="AutoShape 50"/>
            <p:cNvSpPr/>
            <p:nvPr/>
          </p:nvSpPr>
          <p:spPr>
            <a:xfrm>
              <a:off x="7669080" y="224640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27" name="AutoShape 51"/>
            <p:cNvSpPr/>
            <p:nvPr/>
          </p:nvSpPr>
          <p:spPr>
            <a:xfrm>
              <a:off x="4656240" y="224640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28" name="AutoShape 52"/>
            <p:cNvSpPr/>
            <p:nvPr/>
          </p:nvSpPr>
          <p:spPr>
            <a:xfrm>
              <a:off x="3862440" y="224640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29" name="AutoShape 53"/>
            <p:cNvSpPr/>
            <p:nvPr/>
          </p:nvSpPr>
          <p:spPr>
            <a:xfrm>
              <a:off x="3151080" y="224640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30" name="AutoShape 54"/>
            <p:cNvSpPr/>
            <p:nvPr/>
          </p:nvSpPr>
          <p:spPr>
            <a:xfrm>
              <a:off x="2384280" y="224640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1631" name="AutoShape 55"/>
            <p:cNvSpPr/>
            <p:nvPr/>
          </p:nvSpPr>
          <p:spPr>
            <a:xfrm>
              <a:off x="1612800" y="2246400"/>
              <a:ext cx="328680" cy="2919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1632" name="Text Box 56"/>
          <p:cNvSpPr/>
          <p:nvPr/>
        </p:nvSpPr>
        <p:spPr>
          <a:xfrm>
            <a:off x="0" y="214164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uair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édérateur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1633" name="Group 57"/>
          <p:cNvGrpSpPr/>
          <p:nvPr/>
        </p:nvGrpSpPr>
        <p:grpSpPr>
          <a:xfrm>
            <a:off x="372960" y="2970360"/>
            <a:ext cx="8771040" cy="877680"/>
            <a:chOff x="372960" y="2970360"/>
            <a:chExt cx="8771040" cy="877680"/>
          </a:xfrm>
        </p:grpSpPr>
        <p:sp>
          <p:nvSpPr>
            <p:cNvPr id="1634" name="AutoShape 58"/>
            <p:cNvSpPr/>
            <p:nvPr/>
          </p:nvSpPr>
          <p:spPr>
            <a:xfrm>
              <a:off x="372960" y="3375000"/>
              <a:ext cx="8771040" cy="174240"/>
            </a:xfrm>
            <a:custGeom>
              <a:avLst/>
              <a:gdLst>
                <a:gd name="textAreaLeft" fmla="*/ 128160 w 8771040"/>
                <a:gd name="textAreaRight" fmla="*/ 8642880 w 8771040"/>
                <a:gd name="textAreaTop" fmla="*/ 31680 h 174240"/>
                <a:gd name="textAreaBottom" fmla="*/ 142560 h 17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927"/>
                  </a:moveTo>
                  <a:lnTo>
                    <a:pt x="21103" y="3927"/>
                  </a:lnTo>
                  <a:lnTo>
                    <a:pt x="21103" y="0"/>
                  </a:lnTo>
                  <a:lnTo>
                    <a:pt x="21600" y="10800"/>
                  </a:lnTo>
                  <a:lnTo>
                    <a:pt x="21103" y="21600"/>
                  </a:lnTo>
                  <a:lnTo>
                    <a:pt x="21103" y="17673"/>
                  </a:lnTo>
                  <a:lnTo>
                    <a:pt x="0" y="17673"/>
                  </a:lnTo>
                  <a:lnTo>
                    <a:pt x="316" y="10800"/>
                  </a:lnTo>
                  <a:lnTo>
                    <a:pt x="0" y="3927"/>
                  </a:lnTo>
                  <a:close/>
                </a:path>
              </a:pathLst>
            </a:custGeom>
            <a:solidFill>
              <a:srgbClr val="9bba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grpSp>
          <p:nvGrpSpPr>
            <p:cNvPr id="1635" name="Group 59"/>
            <p:cNvGrpSpPr/>
            <p:nvPr/>
          </p:nvGrpSpPr>
          <p:grpSpPr>
            <a:xfrm>
              <a:off x="1806480" y="2970360"/>
              <a:ext cx="3049560" cy="877680"/>
              <a:chOff x="1806480" y="2970360"/>
              <a:chExt cx="3049560" cy="877680"/>
            </a:xfrm>
          </p:grpSpPr>
          <p:sp>
            <p:nvSpPr>
              <p:cNvPr id="1636" name="Line 60"/>
              <p:cNvSpPr/>
              <p:nvPr/>
            </p:nvSpPr>
            <p:spPr>
              <a:xfrm>
                <a:off x="180648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637" name="Line 61"/>
              <p:cNvSpPr/>
              <p:nvPr/>
            </p:nvSpPr>
            <p:spPr>
              <a:xfrm>
                <a:off x="257004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638" name="Line 62"/>
              <p:cNvSpPr/>
              <p:nvPr/>
            </p:nvSpPr>
            <p:spPr>
              <a:xfrm>
                <a:off x="332388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639" name="Line 63"/>
              <p:cNvSpPr/>
              <p:nvPr/>
            </p:nvSpPr>
            <p:spPr>
              <a:xfrm>
                <a:off x="409068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640" name="Line 64"/>
              <p:cNvSpPr/>
              <p:nvPr/>
            </p:nvSpPr>
            <p:spPr>
              <a:xfrm>
                <a:off x="485604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1641" name="Group 65"/>
            <p:cNvGrpSpPr/>
            <p:nvPr/>
          </p:nvGrpSpPr>
          <p:grpSpPr>
            <a:xfrm>
              <a:off x="5608800" y="2970360"/>
              <a:ext cx="3049560" cy="877680"/>
              <a:chOff x="5608800" y="2970360"/>
              <a:chExt cx="3049560" cy="877680"/>
            </a:xfrm>
          </p:grpSpPr>
          <p:sp>
            <p:nvSpPr>
              <p:cNvPr id="1642" name="Line 66"/>
              <p:cNvSpPr/>
              <p:nvPr/>
            </p:nvSpPr>
            <p:spPr>
              <a:xfrm>
                <a:off x="560880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643" name="Line 67"/>
              <p:cNvSpPr/>
              <p:nvPr/>
            </p:nvSpPr>
            <p:spPr>
              <a:xfrm>
                <a:off x="637236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644" name="Line 68"/>
              <p:cNvSpPr/>
              <p:nvPr/>
            </p:nvSpPr>
            <p:spPr>
              <a:xfrm>
                <a:off x="712620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645" name="Line 69"/>
              <p:cNvSpPr/>
              <p:nvPr/>
            </p:nvSpPr>
            <p:spPr>
              <a:xfrm>
                <a:off x="789300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1646" name="Line 70"/>
              <p:cNvSpPr/>
              <p:nvPr/>
            </p:nvSpPr>
            <p:spPr>
              <a:xfrm>
                <a:off x="8658360" y="2970360"/>
                <a:ext cx="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</p:grpSp>
      <p:sp>
        <p:nvSpPr>
          <p:cNvPr id="1647" name="Text Box 71"/>
          <p:cNvSpPr/>
          <p:nvPr/>
        </p:nvSpPr>
        <p:spPr>
          <a:xfrm>
            <a:off x="0" y="2584440"/>
            <a:ext cx="180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te de dernière modification concernant Ève dan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’Annuaire Fédé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48" name="Text Box 72"/>
          <p:cNvSpPr/>
          <p:nvPr/>
        </p:nvSpPr>
        <p:spPr>
          <a:xfrm>
            <a:off x="1649520" y="25700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0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49" name="Text Box 73"/>
          <p:cNvSpPr/>
          <p:nvPr/>
        </p:nvSpPr>
        <p:spPr>
          <a:xfrm>
            <a:off x="2416320" y="256536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0" name="Text Box 74"/>
          <p:cNvSpPr/>
          <p:nvPr/>
        </p:nvSpPr>
        <p:spPr>
          <a:xfrm>
            <a:off x="3083040" y="258912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1" name="Text Box 75"/>
          <p:cNvSpPr/>
          <p:nvPr/>
        </p:nvSpPr>
        <p:spPr>
          <a:xfrm>
            <a:off x="3882960" y="258912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2" name="Text Box 76"/>
          <p:cNvSpPr/>
          <p:nvPr/>
        </p:nvSpPr>
        <p:spPr>
          <a:xfrm>
            <a:off x="4635360" y="259092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3" name="Text Box 77"/>
          <p:cNvSpPr/>
          <p:nvPr/>
        </p:nvSpPr>
        <p:spPr>
          <a:xfrm>
            <a:off x="5378400" y="25844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4" name="Text Box 78"/>
          <p:cNvSpPr/>
          <p:nvPr/>
        </p:nvSpPr>
        <p:spPr>
          <a:xfrm>
            <a:off x="6130800" y="258588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5" name="Text Box 79"/>
          <p:cNvSpPr/>
          <p:nvPr/>
        </p:nvSpPr>
        <p:spPr>
          <a:xfrm>
            <a:off x="6892920" y="25844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6" name="Text Box 80"/>
          <p:cNvSpPr/>
          <p:nvPr/>
        </p:nvSpPr>
        <p:spPr>
          <a:xfrm>
            <a:off x="7645320" y="258588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7" name="AutoShape 81"/>
          <p:cNvSpPr/>
          <p:nvPr/>
        </p:nvSpPr>
        <p:spPr>
          <a:xfrm>
            <a:off x="2457360" y="5514840"/>
            <a:ext cx="400320" cy="285840"/>
          </a:xfrm>
          <a:prstGeom prst="downArrow">
            <a:avLst>
              <a:gd name="adj1" fmla="val 49676"/>
              <a:gd name="adj2" fmla="val 7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8" name="Text Box 82"/>
          <p:cNvSpPr/>
          <p:nvPr/>
        </p:nvSpPr>
        <p:spPr>
          <a:xfrm>
            <a:off x="1477800" y="4400640"/>
            <a:ext cx="239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L’écart entre la date courante et la date de dernière modification </a:t>
            </a:r>
            <a:br>
              <a:rPr sz="1200"/>
            </a:b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     - vaut 0, </a:t>
            </a:r>
            <a:br>
              <a:rPr sz="1200"/>
            </a:b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     - est </a:t>
            </a:r>
            <a:r>
              <a:rPr b="1" lang="fr-FR" sz="1200" spc="-1" strike="noStrike">
                <a:solidFill>
                  <a:srgbClr val="568bac"/>
                </a:solidFill>
                <a:latin typeface="Arial"/>
              </a:rPr>
              <a:t>inférieure à n</a:t>
            </a: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(5 jours)</a:t>
            </a:r>
            <a:br>
              <a:rPr sz="1200"/>
            </a:b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il y a donc génération de </a:t>
            </a:r>
            <a:r>
              <a:rPr b="1" lang="fr-FR" sz="1200" spc="-1" strike="noStrike">
                <a:solidFill>
                  <a:srgbClr val="568bac"/>
                </a:solidFill>
                <a:latin typeface="Arial"/>
              </a:rPr>
              <a:t>delta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59" name="AutoShape 83"/>
          <p:cNvSpPr/>
          <p:nvPr/>
        </p:nvSpPr>
        <p:spPr>
          <a:xfrm>
            <a:off x="4695840" y="5495760"/>
            <a:ext cx="399960" cy="285840"/>
          </a:xfrm>
          <a:prstGeom prst="downArrow">
            <a:avLst>
              <a:gd name="adj1" fmla="val 49676"/>
              <a:gd name="adj2" fmla="val 7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60" name="Text Box 84"/>
          <p:cNvSpPr/>
          <p:nvPr/>
        </p:nvSpPr>
        <p:spPr>
          <a:xfrm>
            <a:off x="3736800" y="4395960"/>
            <a:ext cx="239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L’écart entre la date courante et la date de dernière modification </a:t>
            </a:r>
            <a:br>
              <a:rPr sz="1200"/>
            </a:b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     - vaut 1 jour, </a:t>
            </a:r>
            <a:br>
              <a:rPr sz="1200"/>
            </a:b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     - est </a:t>
            </a:r>
            <a:r>
              <a:rPr b="1" lang="fr-FR" sz="1200" spc="-1" strike="noStrike">
                <a:solidFill>
                  <a:srgbClr val="568bac"/>
                </a:solidFill>
                <a:latin typeface="Arial"/>
              </a:rPr>
              <a:t>inférieure à n</a:t>
            </a: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(5 jours) </a:t>
            </a:r>
            <a:br>
              <a:rPr sz="1200"/>
            </a:b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il y a donc génération de </a:t>
            </a:r>
            <a:r>
              <a:rPr b="1" lang="fr-FR" sz="1200" spc="-1" strike="noStrike">
                <a:solidFill>
                  <a:srgbClr val="568bac"/>
                </a:solidFill>
                <a:latin typeface="Arial"/>
              </a:rPr>
              <a:t>delta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61" name="AutoShape 85"/>
          <p:cNvSpPr/>
          <p:nvPr/>
        </p:nvSpPr>
        <p:spPr>
          <a:xfrm>
            <a:off x="7709040" y="5491080"/>
            <a:ext cx="399960" cy="285840"/>
          </a:xfrm>
          <a:prstGeom prst="downArrow">
            <a:avLst>
              <a:gd name="adj1" fmla="val 49676"/>
              <a:gd name="adj2" fmla="val 75000"/>
            </a:avLst>
          </a:prstGeom>
          <a:solidFill>
            <a:srgbClr val="9bba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62" name="Text Box 86"/>
          <p:cNvSpPr/>
          <p:nvPr/>
        </p:nvSpPr>
        <p:spPr>
          <a:xfrm>
            <a:off x="6649920" y="4390920"/>
            <a:ext cx="249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L’écart entre la date courante et la date de dernière modification </a:t>
            </a:r>
            <a:br>
              <a:rPr sz="1200"/>
            </a:b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     - vaut 6 jours, </a:t>
            </a:r>
            <a:br>
              <a:rPr sz="1200"/>
            </a:b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     - est </a:t>
            </a:r>
            <a:r>
              <a:rPr b="1" lang="fr-FR" sz="1200" spc="-1" strike="noStrike">
                <a:solidFill>
                  <a:srgbClr val="568bac"/>
                </a:solidFill>
                <a:latin typeface="Arial"/>
              </a:rPr>
              <a:t>supérieure à n</a:t>
            </a: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(5 jours) </a:t>
            </a:r>
            <a:br>
              <a:rPr sz="1200"/>
            </a:br>
            <a:r>
              <a:rPr b="0" lang="fr-FR" sz="1200" spc="-1" strike="noStrike">
                <a:solidFill>
                  <a:srgbClr val="568bac"/>
                </a:solidFill>
                <a:latin typeface="Arial"/>
              </a:rPr>
              <a:t> il y a donc un </a:t>
            </a:r>
            <a:r>
              <a:rPr b="1" lang="fr-FR" sz="1200" spc="-1" strike="noStrike">
                <a:solidFill>
                  <a:srgbClr val="568bac"/>
                </a:solidFill>
                <a:latin typeface="Arial"/>
              </a:rPr>
              <a:t>delta vide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5F0E-8F0D-4811-9F33-637387046D36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590840" y="274320"/>
            <a:ext cx="664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cipe de génération des fichiers de delta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marques sur les dates de dernière mod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206000" y="1600200"/>
            <a:ext cx="75661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3920" indent="-223920">
              <a:spcBef>
                <a:spcPts val="60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une modification est effectuée dans une  des bases (ex : SCONET) permettant l’alimentation de l’annuaire fédérateur , une nouvelle date de « dernière modification » est génér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après le principe exposé précédemment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modification concerne un attribut non répercuté dans l’ENT, il y aura tout de même génération d’un « delta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E357-34C7-4A4C-84F8-8B2AD0C0B183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552680" y="274320"/>
            <a:ext cx="62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Gestion des delta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nérations d’extractions 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8" name="Picture 3" descr=""/>
          <p:cNvPicPr/>
          <p:nvPr/>
        </p:nvPicPr>
        <p:blipFill>
          <a:blip r:embed="rId1"/>
          <a:srcRect l="0" t="0" r="0" b="53112"/>
          <a:stretch/>
        </p:blipFill>
        <p:spPr>
          <a:xfrm>
            <a:off x="1542960" y="1523880"/>
            <a:ext cx="6135840" cy="230508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4" descr=""/>
          <p:cNvPicPr/>
          <p:nvPr/>
        </p:nvPicPr>
        <p:blipFill>
          <a:blip r:embed="rId2"/>
          <a:stretch/>
        </p:blipFill>
        <p:spPr>
          <a:xfrm>
            <a:off x="1562040" y="3929040"/>
            <a:ext cx="6121440" cy="162576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5" descr=""/>
          <p:cNvPicPr/>
          <p:nvPr/>
        </p:nvPicPr>
        <p:blipFill>
          <a:blip r:embed="rId3"/>
          <a:stretch/>
        </p:blipFill>
        <p:spPr>
          <a:xfrm>
            <a:off x="582480" y="2370240"/>
            <a:ext cx="8220240" cy="904680"/>
          </a:xfrm>
          <a:prstGeom prst="rect">
            <a:avLst/>
          </a:prstGeom>
          <a:ln w="9360">
            <a:solidFill>
              <a:srgbClr val="cb232a"/>
            </a:solidFill>
            <a:miter/>
          </a:ln>
        </p:spPr>
      </p:pic>
      <p:pic>
        <p:nvPicPr>
          <p:cNvPr id="1671" name="Picture 6" descr=""/>
          <p:cNvPicPr/>
          <p:nvPr/>
        </p:nvPicPr>
        <p:blipFill>
          <a:blip r:embed="rId4"/>
          <a:stretch/>
        </p:blipFill>
        <p:spPr>
          <a:xfrm>
            <a:off x="1552680" y="5315040"/>
            <a:ext cx="6124320" cy="1504800"/>
          </a:xfrm>
          <a:prstGeom prst="rect">
            <a:avLst/>
          </a:prstGeom>
          <a:ln w="0">
            <a:noFill/>
          </a:ln>
        </p:spPr>
      </p:pic>
      <p:sp>
        <p:nvSpPr>
          <p:cNvPr id="1672" name="Freeform 7"/>
          <p:cNvSpPr/>
          <p:nvPr/>
        </p:nvSpPr>
        <p:spPr>
          <a:xfrm>
            <a:off x="1436760" y="5318280"/>
            <a:ext cx="6364080" cy="466560"/>
          </a:xfrm>
          <a:custGeom>
            <a:avLst/>
            <a:gdLst/>
            <a:ahLst/>
            <a:rect l="l" t="t" r="r" b="b"/>
            <a:pathLst>
              <a:path w="4009" h="294">
                <a:moveTo>
                  <a:pt x="12" y="141"/>
                </a:moveTo>
                <a:lnTo>
                  <a:pt x="594" y="47"/>
                </a:lnTo>
                <a:lnTo>
                  <a:pt x="1117" y="112"/>
                </a:lnTo>
                <a:lnTo>
                  <a:pt x="1963" y="24"/>
                </a:lnTo>
                <a:lnTo>
                  <a:pt x="2680" y="82"/>
                </a:lnTo>
                <a:lnTo>
                  <a:pt x="3286" y="0"/>
                </a:lnTo>
                <a:lnTo>
                  <a:pt x="3803" y="130"/>
                </a:lnTo>
                <a:lnTo>
                  <a:pt x="4009" y="0"/>
                </a:lnTo>
                <a:lnTo>
                  <a:pt x="3985" y="253"/>
                </a:lnTo>
                <a:lnTo>
                  <a:pt x="3826" y="294"/>
                </a:lnTo>
                <a:lnTo>
                  <a:pt x="3292" y="124"/>
                </a:lnTo>
                <a:lnTo>
                  <a:pt x="2821" y="200"/>
                </a:lnTo>
                <a:lnTo>
                  <a:pt x="1946" y="159"/>
                </a:lnTo>
                <a:lnTo>
                  <a:pt x="1140" y="200"/>
                </a:lnTo>
                <a:lnTo>
                  <a:pt x="594" y="130"/>
                </a:lnTo>
                <a:lnTo>
                  <a:pt x="0" y="235"/>
                </a:lnTo>
                <a:lnTo>
                  <a:pt x="12" y="1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6969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673" name="Picture 8" descr=""/>
          <p:cNvPicPr/>
          <p:nvPr/>
        </p:nvPicPr>
        <p:blipFill>
          <a:blip r:embed="rId5"/>
          <a:stretch/>
        </p:blipFill>
        <p:spPr>
          <a:xfrm>
            <a:off x="125280" y="5641920"/>
            <a:ext cx="8896320" cy="743040"/>
          </a:xfrm>
          <a:prstGeom prst="rect">
            <a:avLst/>
          </a:prstGeom>
          <a:ln w="9360">
            <a:solidFill>
              <a:srgbClr val="cb232a"/>
            </a:solidFill>
            <a:miter/>
          </a:ln>
        </p:spPr>
      </p:pic>
      <p:sp>
        <p:nvSpPr>
          <p:cNvPr id="1674" name="Freeform 9"/>
          <p:cNvSpPr/>
          <p:nvPr/>
        </p:nvSpPr>
        <p:spPr>
          <a:xfrm>
            <a:off x="1400040" y="3594240"/>
            <a:ext cx="6338880" cy="466560"/>
          </a:xfrm>
          <a:custGeom>
            <a:avLst/>
            <a:gdLst/>
            <a:ahLst/>
            <a:rect l="l" t="t" r="r" b="b"/>
            <a:pathLst>
              <a:path w="3993" h="294">
                <a:moveTo>
                  <a:pt x="41" y="28"/>
                </a:moveTo>
                <a:lnTo>
                  <a:pt x="564" y="146"/>
                </a:lnTo>
                <a:lnTo>
                  <a:pt x="1099" y="40"/>
                </a:lnTo>
                <a:lnTo>
                  <a:pt x="1947" y="24"/>
                </a:lnTo>
                <a:lnTo>
                  <a:pt x="2664" y="82"/>
                </a:lnTo>
                <a:lnTo>
                  <a:pt x="3270" y="0"/>
                </a:lnTo>
                <a:lnTo>
                  <a:pt x="3787" y="130"/>
                </a:lnTo>
                <a:lnTo>
                  <a:pt x="3993" y="0"/>
                </a:lnTo>
                <a:lnTo>
                  <a:pt x="3969" y="253"/>
                </a:lnTo>
                <a:lnTo>
                  <a:pt x="3810" y="294"/>
                </a:lnTo>
                <a:lnTo>
                  <a:pt x="3276" y="124"/>
                </a:lnTo>
                <a:lnTo>
                  <a:pt x="2805" y="200"/>
                </a:lnTo>
                <a:lnTo>
                  <a:pt x="1930" y="159"/>
                </a:lnTo>
                <a:lnTo>
                  <a:pt x="1099" y="246"/>
                </a:lnTo>
                <a:lnTo>
                  <a:pt x="576" y="216"/>
                </a:lnTo>
                <a:lnTo>
                  <a:pt x="0" y="158"/>
                </a:ln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6969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1675" name="Picture 10" descr=""/>
          <p:cNvPicPr/>
          <p:nvPr/>
        </p:nvPicPr>
        <p:blipFill>
          <a:blip r:embed="rId6"/>
          <a:stretch/>
        </p:blipFill>
        <p:spPr>
          <a:xfrm>
            <a:off x="611280" y="4043520"/>
            <a:ext cx="8181720" cy="1123920"/>
          </a:xfrm>
          <a:prstGeom prst="rect">
            <a:avLst/>
          </a:prstGeom>
          <a:ln w="9360">
            <a:solidFill>
              <a:srgbClr val="cb23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D1C7-2490-4CB9-88D7-1649F93E5C7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9280" y="442800"/>
            <a:ext cx="6224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t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3" descr="logoMENESR"/>
          <p:cNvPicPr/>
          <p:nvPr/>
        </p:nvPicPr>
        <p:blipFill>
          <a:blip r:embed="rId1"/>
          <a:stretch/>
        </p:blipFill>
        <p:spPr>
          <a:xfrm>
            <a:off x="184320" y="247680"/>
            <a:ext cx="1315800" cy="128916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4"/>
          <p:cNvGrpSpPr/>
          <p:nvPr/>
        </p:nvGrpSpPr>
        <p:grpSpPr>
          <a:xfrm>
            <a:off x="430200" y="4097160"/>
            <a:ext cx="1831680" cy="1699920"/>
            <a:chOff x="430200" y="4097160"/>
            <a:chExt cx="1831680" cy="1699920"/>
          </a:xfrm>
        </p:grpSpPr>
        <p:sp>
          <p:nvSpPr>
            <p:cNvPr id="321" name="AutoShape 5"/>
            <p:cNvSpPr/>
            <p:nvPr/>
          </p:nvSpPr>
          <p:spPr>
            <a:xfrm>
              <a:off x="1421640" y="4097160"/>
              <a:ext cx="840240" cy="37620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gape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22" name="AutoShape 6"/>
            <p:cNvSpPr/>
            <p:nvPr/>
          </p:nvSpPr>
          <p:spPr>
            <a:xfrm>
              <a:off x="430200" y="4537440"/>
              <a:ext cx="840600" cy="37872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PP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430200" y="4097160"/>
              <a:ext cx="840600" cy="37620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gora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24" name="AutoShape 8"/>
            <p:cNvSpPr/>
            <p:nvPr/>
          </p:nvSpPr>
          <p:spPr>
            <a:xfrm>
              <a:off x="430200" y="4977720"/>
              <a:ext cx="840600" cy="37872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conet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25" name="AutoShape 9"/>
            <p:cNvSpPr/>
            <p:nvPr/>
          </p:nvSpPr>
          <p:spPr>
            <a:xfrm>
              <a:off x="1421640" y="4537440"/>
              <a:ext cx="840240" cy="37872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tsWeb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26" name="AutoShape 10"/>
            <p:cNvSpPr/>
            <p:nvPr/>
          </p:nvSpPr>
          <p:spPr>
            <a:xfrm>
              <a:off x="1421640" y="4977720"/>
              <a:ext cx="840240" cy="37872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amses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27" name="AutoShape 11"/>
            <p:cNvSpPr/>
            <p:nvPr/>
          </p:nvSpPr>
          <p:spPr>
            <a:xfrm>
              <a:off x="963720" y="5420160"/>
              <a:ext cx="840240" cy="37692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men</a:t>
              </a:r>
              <a:endParaRPr b="0" lang="en-US" sz="12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328" name="AutoShape 12"/>
          <p:cNvSpPr/>
          <p:nvPr/>
        </p:nvSpPr>
        <p:spPr>
          <a:xfrm>
            <a:off x="6351480" y="4780080"/>
            <a:ext cx="1255680" cy="94284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nnuaire fédérateur</a:t>
            </a:r>
            <a:endParaRPr b="0" lang="en-US" sz="14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3470400" y="5354640"/>
            <a:ext cx="1904760" cy="325440"/>
          </a:xfrm>
          <a:prstGeom prst="rightArrow">
            <a:avLst>
              <a:gd name="adj1" fmla="val 42435"/>
              <a:gd name="adj2" fmla="val 9332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3104640" y="456264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000099"/>
                </a:solidFill>
                <a:latin typeface="Arial"/>
              </a:rPr>
              <a:t>ETL Sunopsis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000099"/>
                </a:solidFill>
                <a:latin typeface="Arial"/>
              </a:rPr>
              <a:t>Mise à jour quotidienne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797200" y="1725120"/>
            <a:ext cx="5472000" cy="24987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rmAutofit fontScale="95000"/>
          </a:bodyPr>
          <a:p>
            <a:pPr lvl="1" marL="578880" indent="-195840"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ants (1er et 2nd + privé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95840"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ersonnels non enseig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95840"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Élèves 2nd degr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95840"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ents d’élève ou tuteurs 2nd degr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95840"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lasses et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95840"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Établissements scol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95840">
              <a:spcBef>
                <a:spcPts val="499"/>
              </a:spcBef>
              <a:buClr>
                <a:srgbClr val="9bbace"/>
              </a:buClr>
              <a:buSzPct val="80000"/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mencl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7666200" y="190440"/>
            <a:ext cx="1477800" cy="12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numéro de diapositive 4"/>
          <p:cNvSpPr/>
          <p:nvPr/>
        </p:nvSpPr>
        <p:spPr>
          <a:xfrm>
            <a:off x="244440" y="6332400"/>
            <a:ext cx="270000" cy="270000"/>
          </a:xfrm>
          <a:prstGeom prst="rect">
            <a:avLst/>
          </a:prstGeom>
          <a:solidFill>
            <a:srgbClr val="9bba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FE01-371B-4687-8284-B73BD35A32C5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pic>
        <p:nvPicPr>
          <p:cNvPr id="334" name="Picture 2" descr="logoMENESR"/>
          <p:cNvPicPr/>
          <p:nvPr/>
        </p:nvPicPr>
        <p:blipFill>
          <a:blip r:embed="rId1"/>
          <a:stretch/>
        </p:blipFill>
        <p:spPr>
          <a:xfrm>
            <a:off x="196920" y="204840"/>
            <a:ext cx="1298520" cy="13478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"/>
          <p:cNvSpPr/>
          <p:nvPr/>
        </p:nvSpPr>
        <p:spPr>
          <a:xfrm>
            <a:off x="1590840" y="274680"/>
            <a:ext cx="622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erfaces avec annuaire ENT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degré</a:t>
            </a: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754200" y="4940280"/>
            <a:ext cx="1255680" cy="94284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nnuaire fédérateur</a:t>
            </a:r>
            <a:endParaRPr b="0" lang="en-US" sz="12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2411280" y="5445000"/>
            <a:ext cx="1582920" cy="325440"/>
          </a:xfrm>
          <a:prstGeom prst="rightArrow">
            <a:avLst>
              <a:gd name="adj1" fmla="val 42435"/>
              <a:gd name="adj2" fmla="val 5636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282920" y="5013360"/>
            <a:ext cx="720720" cy="79056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grpSp>
        <p:nvGrpSpPr>
          <p:cNvPr id="339" name="Group 7"/>
          <p:cNvGrpSpPr/>
          <p:nvPr/>
        </p:nvGrpSpPr>
        <p:grpSpPr>
          <a:xfrm>
            <a:off x="6659640" y="5013360"/>
            <a:ext cx="1080720" cy="791640"/>
            <a:chOff x="6659640" y="5013360"/>
            <a:chExt cx="1080720" cy="791640"/>
          </a:xfrm>
        </p:grpSpPr>
        <p:pic>
          <p:nvPicPr>
            <p:cNvPr id="340" name="Picture 8" descr=""/>
            <p:cNvPicPr/>
            <p:nvPr/>
          </p:nvPicPr>
          <p:blipFill>
            <a:blip r:embed="rId2"/>
            <a:stretch/>
          </p:blipFill>
          <p:spPr>
            <a:xfrm>
              <a:off x="6659640" y="5013360"/>
              <a:ext cx="1080720" cy="79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Group 9"/>
            <p:cNvGrpSpPr/>
            <p:nvPr/>
          </p:nvGrpSpPr>
          <p:grpSpPr>
            <a:xfrm>
              <a:off x="6981480" y="5242680"/>
              <a:ext cx="68040" cy="54720"/>
              <a:chOff x="6981480" y="5242680"/>
              <a:chExt cx="68040" cy="54720"/>
            </a:xfrm>
          </p:grpSpPr>
          <p:sp>
            <p:nvSpPr>
              <p:cNvPr id="342" name="Freeform 10"/>
              <p:cNvSpPr/>
              <p:nvPr/>
            </p:nvSpPr>
            <p:spPr>
              <a:xfrm>
                <a:off x="6981480" y="5242680"/>
                <a:ext cx="68040" cy="54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11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10" y="23"/>
                    </a:lnTo>
                    <a:lnTo>
                      <a:pt x="18" y="23"/>
                    </a:lnTo>
                    <a:lnTo>
                      <a:pt x="26" y="21"/>
                    </a:lnTo>
                    <a:lnTo>
                      <a:pt x="31" y="18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343" name="Freeform 11"/>
              <p:cNvSpPr/>
              <p:nvPr/>
            </p:nvSpPr>
            <p:spPr>
              <a:xfrm>
                <a:off x="6981480" y="5242680"/>
                <a:ext cx="68040" cy="54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11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10" y="23"/>
                    </a:lnTo>
                    <a:lnTo>
                      <a:pt x="18" y="23"/>
                    </a:lnTo>
                    <a:lnTo>
                      <a:pt x="26" y="21"/>
                    </a:lnTo>
                    <a:lnTo>
                      <a:pt x="31" y="18"/>
                    </a:lnTo>
                    <a:lnTo>
                      <a:pt x="32" y="11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12"/>
            <p:cNvGrpSpPr/>
            <p:nvPr/>
          </p:nvGrpSpPr>
          <p:grpSpPr>
            <a:xfrm>
              <a:off x="7124760" y="5357520"/>
              <a:ext cx="74520" cy="56880"/>
              <a:chOff x="7124760" y="5357520"/>
              <a:chExt cx="74520" cy="56880"/>
            </a:xfrm>
          </p:grpSpPr>
          <p:sp>
            <p:nvSpPr>
              <p:cNvPr id="345" name="Freeform 13"/>
              <p:cNvSpPr/>
              <p:nvPr/>
            </p:nvSpPr>
            <p:spPr>
              <a:xfrm>
                <a:off x="7124760" y="5357520"/>
                <a:ext cx="74520" cy="5688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5" y="12"/>
                    </a:moveTo>
                    <a:lnTo>
                      <a:pt x="32" y="6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3"/>
                    </a:lnTo>
                    <a:lnTo>
                      <a:pt x="20" y="24"/>
                    </a:lnTo>
                    <a:lnTo>
                      <a:pt x="26" y="22"/>
                    </a:lnTo>
                    <a:lnTo>
                      <a:pt x="32" y="18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346" name="Freeform 14"/>
              <p:cNvSpPr/>
              <p:nvPr/>
            </p:nvSpPr>
            <p:spPr>
              <a:xfrm>
                <a:off x="7124760" y="5357520"/>
                <a:ext cx="74520" cy="5688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5" y="12"/>
                    </a:moveTo>
                    <a:lnTo>
                      <a:pt x="32" y="6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3"/>
                    </a:lnTo>
                    <a:lnTo>
                      <a:pt x="20" y="24"/>
                    </a:lnTo>
                    <a:lnTo>
                      <a:pt x="26" y="22"/>
                    </a:lnTo>
                    <a:lnTo>
                      <a:pt x="32" y="18"/>
                    </a:lnTo>
                    <a:lnTo>
                      <a:pt x="35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5"/>
            <p:cNvGrpSpPr/>
            <p:nvPr/>
          </p:nvGrpSpPr>
          <p:grpSpPr>
            <a:xfrm>
              <a:off x="6833160" y="5357520"/>
              <a:ext cx="70560" cy="56880"/>
              <a:chOff x="6833160" y="5357520"/>
              <a:chExt cx="70560" cy="56880"/>
            </a:xfrm>
          </p:grpSpPr>
          <p:sp>
            <p:nvSpPr>
              <p:cNvPr id="348" name="Freeform 16"/>
              <p:cNvSpPr/>
              <p:nvPr/>
            </p:nvSpPr>
            <p:spPr>
              <a:xfrm>
                <a:off x="6833160" y="5357520"/>
                <a:ext cx="70560" cy="5688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12"/>
                    </a:moveTo>
                    <a:lnTo>
                      <a:pt x="31" y="6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3"/>
                    </a:lnTo>
                    <a:lnTo>
                      <a:pt x="19" y="24"/>
                    </a:lnTo>
                    <a:lnTo>
                      <a:pt x="27" y="22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349" name="Freeform 17"/>
              <p:cNvSpPr/>
              <p:nvPr/>
            </p:nvSpPr>
            <p:spPr>
              <a:xfrm>
                <a:off x="6833160" y="5357520"/>
                <a:ext cx="70560" cy="5688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12"/>
                    </a:moveTo>
                    <a:lnTo>
                      <a:pt x="31" y="6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3"/>
                    </a:lnTo>
                    <a:lnTo>
                      <a:pt x="19" y="24"/>
                    </a:lnTo>
                    <a:lnTo>
                      <a:pt x="27" y="22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18"/>
            <p:cNvGrpSpPr/>
            <p:nvPr/>
          </p:nvGrpSpPr>
          <p:grpSpPr>
            <a:xfrm>
              <a:off x="7270560" y="5472720"/>
              <a:ext cx="69840" cy="59040"/>
              <a:chOff x="7270560" y="5472720"/>
              <a:chExt cx="69840" cy="59040"/>
            </a:xfrm>
          </p:grpSpPr>
          <p:sp>
            <p:nvSpPr>
              <p:cNvPr id="351" name="Freeform 19"/>
              <p:cNvSpPr/>
              <p:nvPr/>
            </p:nvSpPr>
            <p:spPr>
              <a:xfrm>
                <a:off x="7270560" y="5472720"/>
                <a:ext cx="69840" cy="5904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33" y="12"/>
                    </a:moveTo>
                    <a:lnTo>
                      <a:pt x="31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4"/>
                    </a:lnTo>
                    <a:lnTo>
                      <a:pt x="19" y="25"/>
                    </a:lnTo>
                    <a:lnTo>
                      <a:pt x="27" y="23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352" name="Freeform 20"/>
              <p:cNvSpPr/>
              <p:nvPr/>
            </p:nvSpPr>
            <p:spPr>
              <a:xfrm>
                <a:off x="7270560" y="5472720"/>
                <a:ext cx="69840" cy="5904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33" y="12"/>
                    </a:moveTo>
                    <a:lnTo>
                      <a:pt x="31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5" y="20"/>
                    </a:lnTo>
                    <a:lnTo>
                      <a:pt x="11" y="24"/>
                    </a:lnTo>
                    <a:lnTo>
                      <a:pt x="19" y="25"/>
                    </a:lnTo>
                    <a:lnTo>
                      <a:pt x="27" y="23"/>
                    </a:lnTo>
                    <a:lnTo>
                      <a:pt x="31" y="18"/>
                    </a:lnTo>
                    <a:lnTo>
                      <a:pt x="33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21"/>
            <p:cNvGrpSpPr/>
            <p:nvPr/>
          </p:nvGrpSpPr>
          <p:grpSpPr>
            <a:xfrm>
              <a:off x="6981480" y="5472720"/>
              <a:ext cx="68040" cy="59040"/>
              <a:chOff x="6981480" y="5472720"/>
              <a:chExt cx="68040" cy="59040"/>
            </a:xfrm>
          </p:grpSpPr>
          <p:sp>
            <p:nvSpPr>
              <p:cNvPr id="354" name="Freeform 22"/>
              <p:cNvSpPr/>
              <p:nvPr/>
            </p:nvSpPr>
            <p:spPr>
              <a:xfrm>
                <a:off x="6981480" y="5472720"/>
                <a:ext cx="68040" cy="5904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2" y="12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4"/>
                    </a:lnTo>
                    <a:lnTo>
                      <a:pt x="18" y="25"/>
                    </a:lnTo>
                    <a:lnTo>
                      <a:pt x="26" y="23"/>
                    </a:lnTo>
                    <a:lnTo>
                      <a:pt x="31" y="18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  <p:sp>
            <p:nvSpPr>
              <p:cNvPr id="355" name="Freeform 23"/>
              <p:cNvSpPr/>
              <p:nvPr/>
            </p:nvSpPr>
            <p:spPr>
              <a:xfrm>
                <a:off x="6981480" y="5472720"/>
                <a:ext cx="68040" cy="5904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2" y="12"/>
                    </a:move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1"/>
                    </a:lnTo>
                    <a:lnTo>
                      <a:pt x="3" y="4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0" y="24"/>
                    </a:lnTo>
                    <a:lnTo>
                      <a:pt x="18" y="25"/>
                    </a:lnTo>
                    <a:lnTo>
                      <a:pt x="26" y="23"/>
                    </a:lnTo>
                    <a:lnTo>
                      <a:pt x="31" y="18"/>
                    </a:lnTo>
                    <a:lnTo>
                      <a:pt x="32" y="1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10a14"/>
                  </a:solidFill>
                  <a:latin typeface="Arial"/>
                </a:endParaRPr>
              </a:p>
            </p:txBody>
          </p:sp>
        </p:grpSp>
        <p:sp>
          <p:nvSpPr>
            <p:cNvPr id="356" name="Freeform 24"/>
            <p:cNvSpPr/>
            <p:nvPr/>
          </p:nvSpPr>
          <p:spPr>
            <a:xfrm>
              <a:off x="6869520" y="5269320"/>
              <a:ext cx="291600" cy="231840"/>
            </a:xfrm>
            <a:custGeom>
              <a:avLst/>
              <a:gdLst/>
              <a:ahLst/>
              <a:rect l="l" t="t" r="r" b="b"/>
              <a:pathLst>
                <a:path w="136" h="97">
                  <a:moveTo>
                    <a:pt x="68" y="97"/>
                  </a:moveTo>
                  <a:lnTo>
                    <a:pt x="136" y="49"/>
                  </a:lnTo>
                  <a:lnTo>
                    <a:pt x="68" y="0"/>
                  </a:lnTo>
                  <a:lnTo>
                    <a:pt x="0" y="49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  <p:sp>
          <p:nvSpPr>
            <p:cNvPr id="357" name="Line 25"/>
            <p:cNvSpPr/>
            <p:nvPr/>
          </p:nvSpPr>
          <p:spPr>
            <a:xfrm flipH="1" flipV="1">
              <a:off x="7156800" y="5383800"/>
              <a:ext cx="147600" cy="1170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10a14"/>
                </a:solidFill>
                <a:latin typeface="Arial"/>
              </a:endParaRPr>
            </a:p>
          </p:txBody>
        </p:sp>
      </p:grpSp>
      <p:sp>
        <p:nvSpPr>
          <p:cNvPr id="358" name="Text Box 26"/>
          <p:cNvSpPr/>
          <p:nvPr/>
        </p:nvSpPr>
        <p:spPr>
          <a:xfrm>
            <a:off x="6242040" y="57592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ENT 2</a:t>
            </a:r>
            <a:r>
              <a:rPr b="1" lang="fr-FR" sz="1800" spc="-1" strike="noStrike" baseline="30000">
                <a:solidFill>
                  <a:srgbClr val="000099"/>
                </a:solidFill>
                <a:latin typeface="Arial"/>
              </a:rPr>
              <a:t>nd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degré</a:t>
            </a:r>
            <a:endParaRPr b="0" lang="en-US" sz="1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4440" y="1646280"/>
            <a:ext cx="8255160" cy="31622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rmAutofit/>
          </a:bodyPr>
          <a:p>
            <a:pPr marL="223920" indent="-223920">
              <a:spcBef>
                <a:spcPts val="4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ourniture d’un fichier XML par établissement, conformément au cahier des charges générique du Ministère et de la Caisse des Dépôt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informations fournies permettent à l’ENT de reconstituer les classes avec leurs élèves, leurs disciplines et leur professeurs, en s’appuyant sur les nomenclatures du ministère (MEF)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ourniture d’un fichier global et de fichiers de delta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00"/>
              </a:spcBef>
              <a:buClr>
                <a:srgbClr val="9bbace"/>
              </a:buClr>
              <a:buFont typeface="Century Gothic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UID technique reconduit tous les ans, est fourni pour les enseignants, les élèves et les parents (UID indépendant du NUMEN ou de l’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>
            <a:off x="5364000" y="55897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61" name="Text Box 29"/>
          <p:cNvSpPr/>
          <p:nvPr/>
        </p:nvSpPr>
        <p:spPr>
          <a:xfrm>
            <a:off x="4932360" y="5084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"/>
              </a:rPr>
              <a:t>A intégrer par projet ENT</a:t>
            </a:r>
            <a:endParaRPr b="0" lang="en-US" sz="1000" spc="-1" strike="noStrike">
              <a:solidFill>
                <a:srgbClr val="d10a14"/>
              </a:solidFill>
              <a:latin typeface="Arial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7666200" y="190440"/>
            <a:ext cx="1477800" cy="12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14:32:20Z</dcterms:created>
  <dc:creator>Laurent DUBOIS-LOYA</dc:creator>
  <dc:description/>
  <dc:language>en-US</dc:language>
  <cp:lastModifiedBy>MATRIX</cp:lastModifiedBy>
  <dcterms:modified xsi:type="dcterms:W3CDTF">2015-02-08T10:40:24Z</dcterms:modified>
  <cp:revision>472</cp:revision>
  <dc:subject/>
  <dc:title>Diapositive 1</dc:title>
</cp:coreProperties>
</file>